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7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43.png" ContentType="image/png"/>
  <Override PartName="/ppt/media/image45.wmf" ContentType="image/x-wmf"/>
  <Override PartName="/ppt/media/image46.wmf" ContentType="image/x-wmf"/>
  <Override PartName="/ppt/media/image47.wmf" ContentType="image/x-wmf"/>
  <Override PartName="/ppt/media/image27.png" ContentType="image/png"/>
  <Override PartName="/ppt/media/image48.png" ContentType="image/png"/>
  <Override PartName="/ppt/media/image13.png" ContentType="image/png"/>
  <Override PartName="/ppt/media/image11.wmf" ContentType="image/x-wmf"/>
  <Override PartName="/ppt/media/image50.png" ContentType="image/png"/>
  <Override PartName="/ppt/media/image49.png" ContentType="image/png"/>
  <Override PartName="/ppt/media/image12.wmf" ContentType="image/x-wmf"/>
  <Override PartName="/ppt/media/image51.png" ContentType="image/png"/>
  <Override PartName="/ppt/media/image40.png" ContentType="image/png"/>
  <Override PartName="/ppt/media/image52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4.png" ContentType="image/png"/>
  <Override PartName="/ppt/media/image56.png" ContentType="image/png"/>
  <Override PartName="/ppt/media/image39.wmf" ContentType="image/x-wmf"/>
  <Override PartName="/ppt/media/image41.png" ContentType="image/png"/>
  <Override PartName="/ppt/media/image31.png" ContentType="image/png"/>
  <Override PartName="/ppt/media/image30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5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6CAF-1068-4D21-9991-2B7EAFF0E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2583-A613-4D7F-B487-B6D60B10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A9AB-C239-4BB6-BA41-22665633E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A3D3-AEB5-4948-B76D-D7680B382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01A3-C48A-4ADA-8F27-85F7990D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0224-A98A-4AC0-9640-A68C32A7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9472-86FA-457D-8822-4391B702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6985-D358-40CF-9908-7DE2FB65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6F06-E173-4CCC-A44A-758C4590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91D4-1EBE-4DFE-91A3-DFE9CE80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3673-C5BF-42AB-8C55-6560CE13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061D-568A-4C0B-A291-9FC69B58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7c9c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CC9D-645E-4CB8-96B1-72BDEAE27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" Target="slide2.xml"/><Relationship Id="rId7" Type="http://schemas.openxmlformats.org/officeDocument/2006/relationships/slide" Target="slide4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1.xml"/><Relationship Id="rId13" Type="http://schemas.openxmlformats.org/officeDocument/2006/relationships/image" Target="../media/image6.png"/><Relationship Id="rId14" Type="http://schemas.openxmlformats.org/officeDocument/2006/relationships/slide" Target="slide15.xml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" Target="slide6.xm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38.png"/><Relationship Id="rId3" Type="http://schemas.openxmlformats.org/officeDocument/2006/relationships/image" Target="../media/image39.wmf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2.png"/><Relationship Id="rId10" Type="http://schemas.openxmlformats.org/officeDocument/2006/relationships/image" Target="../media/image42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5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46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47.wmf"/><Relationship Id="rId10" Type="http://schemas.openxmlformats.org/officeDocument/2006/relationships/slide" Target="slide11.xml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" Target="slide6.xml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9.png"/><Relationship Id="rId7" Type="http://schemas.openxmlformats.org/officeDocument/2006/relationships/image" Target="../media/image49.png"/><Relationship Id="rId8" Type="http://schemas.openxmlformats.org/officeDocument/2006/relationships/image" Target="../media/image49.png"/><Relationship Id="rId9" Type="http://schemas.openxmlformats.org/officeDocument/2006/relationships/image" Target="../media/image49.png"/><Relationship Id="rId10" Type="http://schemas.openxmlformats.org/officeDocument/2006/relationships/image" Target="../media/image49.png"/><Relationship Id="rId11" Type="http://schemas.openxmlformats.org/officeDocument/2006/relationships/image" Target="../media/image49.png"/><Relationship Id="rId12" Type="http://schemas.openxmlformats.org/officeDocument/2006/relationships/image" Target="../media/image49.png"/><Relationship Id="rId13" Type="http://schemas.openxmlformats.org/officeDocument/2006/relationships/image" Target="../media/image49.png"/><Relationship Id="rId14" Type="http://schemas.openxmlformats.org/officeDocument/2006/relationships/image" Target="../media/image49.png"/><Relationship Id="rId15" Type="http://schemas.openxmlformats.org/officeDocument/2006/relationships/image" Target="../media/image49.png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9.png"/><Relationship Id="rId6" Type="http://schemas.openxmlformats.org/officeDocument/2006/relationships/image" Target="../media/image49.png"/><Relationship Id="rId7" Type="http://schemas.openxmlformats.org/officeDocument/2006/relationships/image" Target="../media/image49.png"/><Relationship Id="rId8" Type="http://schemas.openxmlformats.org/officeDocument/2006/relationships/image" Target="../media/image49.png"/><Relationship Id="rId9" Type="http://schemas.openxmlformats.org/officeDocument/2006/relationships/image" Target="../media/image49.png"/><Relationship Id="rId10" Type="http://schemas.openxmlformats.org/officeDocument/2006/relationships/image" Target="../media/image49.png"/><Relationship Id="rId11" Type="http://schemas.openxmlformats.org/officeDocument/2006/relationships/image" Target="../media/image49.png"/><Relationship Id="rId12" Type="http://schemas.openxmlformats.org/officeDocument/2006/relationships/image" Target="../media/image49.png"/><Relationship Id="rId13" Type="http://schemas.openxmlformats.org/officeDocument/2006/relationships/image" Target="../media/image49.png"/><Relationship Id="rId14" Type="http://schemas.openxmlformats.org/officeDocument/2006/relationships/image" Target="../media/image49.png"/><Relationship Id="rId1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9.png"/><Relationship Id="rId6" Type="http://schemas.openxmlformats.org/officeDocument/2006/relationships/image" Target="../media/image49.png"/><Relationship Id="rId7" Type="http://schemas.openxmlformats.org/officeDocument/2006/relationships/image" Target="../media/image49.png"/><Relationship Id="rId8" Type="http://schemas.openxmlformats.org/officeDocument/2006/relationships/image" Target="../media/image49.png"/><Relationship Id="rId9" Type="http://schemas.openxmlformats.org/officeDocument/2006/relationships/image" Target="../media/image49.png"/><Relationship Id="rId10" Type="http://schemas.openxmlformats.org/officeDocument/2006/relationships/image" Target="../media/image49.png"/><Relationship Id="rId11" Type="http://schemas.openxmlformats.org/officeDocument/2006/relationships/image" Target="../media/image49.png"/><Relationship Id="rId12" Type="http://schemas.openxmlformats.org/officeDocument/2006/relationships/image" Target="../media/image49.png"/><Relationship Id="rId13" Type="http://schemas.openxmlformats.org/officeDocument/2006/relationships/image" Target="../media/image49.png"/><Relationship Id="rId14" Type="http://schemas.openxmlformats.org/officeDocument/2006/relationships/image" Target="../media/image49.png"/><Relationship Id="rId1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9.png"/><Relationship Id="rId6" Type="http://schemas.openxmlformats.org/officeDocument/2006/relationships/image" Target="../media/image49.png"/><Relationship Id="rId7" Type="http://schemas.openxmlformats.org/officeDocument/2006/relationships/image" Target="../media/image49.png"/><Relationship Id="rId8" Type="http://schemas.openxmlformats.org/officeDocument/2006/relationships/image" Target="../media/image49.png"/><Relationship Id="rId9" Type="http://schemas.openxmlformats.org/officeDocument/2006/relationships/image" Target="../media/image49.png"/><Relationship Id="rId10" Type="http://schemas.openxmlformats.org/officeDocument/2006/relationships/image" Target="../media/image49.png"/><Relationship Id="rId11" Type="http://schemas.openxmlformats.org/officeDocument/2006/relationships/image" Target="../media/image49.png"/><Relationship Id="rId12" Type="http://schemas.openxmlformats.org/officeDocument/2006/relationships/image" Target="../media/image49.pn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9.png"/><Relationship Id="rId6" Type="http://schemas.openxmlformats.org/officeDocument/2006/relationships/image" Target="../media/image49.png"/><Relationship Id="rId7" Type="http://schemas.openxmlformats.org/officeDocument/2006/relationships/image" Target="../media/image49.png"/><Relationship Id="rId8" Type="http://schemas.openxmlformats.org/officeDocument/2006/relationships/image" Target="../media/image49.png"/><Relationship Id="rId9" Type="http://schemas.openxmlformats.org/officeDocument/2006/relationships/image" Target="../media/image49.png"/><Relationship Id="rId10" Type="http://schemas.openxmlformats.org/officeDocument/2006/relationships/image" Target="../media/image49.png"/><Relationship Id="rId11" Type="http://schemas.openxmlformats.org/officeDocument/2006/relationships/image" Target="../media/image49.png"/><Relationship Id="rId12" Type="http://schemas.openxmlformats.org/officeDocument/2006/relationships/image" Target="../media/image49.png"/><Relationship Id="rId13" Type="http://schemas.openxmlformats.org/officeDocument/2006/relationships/image" Target="../media/image49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9.png"/><Relationship Id="rId6" Type="http://schemas.openxmlformats.org/officeDocument/2006/relationships/image" Target="../media/image49.png"/><Relationship Id="rId7" Type="http://schemas.openxmlformats.org/officeDocument/2006/relationships/image" Target="../media/image49.png"/><Relationship Id="rId8" Type="http://schemas.openxmlformats.org/officeDocument/2006/relationships/image" Target="../media/image49.png"/><Relationship Id="rId9" Type="http://schemas.openxmlformats.org/officeDocument/2006/relationships/image" Target="../media/image49.png"/><Relationship Id="rId10" Type="http://schemas.openxmlformats.org/officeDocument/2006/relationships/image" Target="../media/image49.png"/><Relationship Id="rId11" Type="http://schemas.openxmlformats.org/officeDocument/2006/relationships/image" Target="../media/image49.png"/><Relationship Id="rId12" Type="http://schemas.openxmlformats.org/officeDocument/2006/relationships/image" Target="../media/image49.png"/><Relationship Id="rId13" Type="http://schemas.openxmlformats.org/officeDocument/2006/relationships/image" Target="../media/image49.png"/><Relationship Id="rId1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9.png"/><Relationship Id="rId6" Type="http://schemas.openxmlformats.org/officeDocument/2006/relationships/image" Target="../media/image49.png"/><Relationship Id="rId7" Type="http://schemas.openxmlformats.org/officeDocument/2006/relationships/image" Target="../media/image49.png"/><Relationship Id="rId8" Type="http://schemas.openxmlformats.org/officeDocument/2006/relationships/image" Target="../media/image49.png"/><Relationship Id="rId9" Type="http://schemas.openxmlformats.org/officeDocument/2006/relationships/image" Target="../media/image49.png"/><Relationship Id="rId10" Type="http://schemas.openxmlformats.org/officeDocument/2006/relationships/image" Target="../media/image49.png"/><Relationship Id="rId11" Type="http://schemas.openxmlformats.org/officeDocument/2006/relationships/image" Target="../media/image49.png"/><Relationship Id="rId12" Type="http://schemas.openxmlformats.org/officeDocument/2006/relationships/image" Target="../media/image49.png"/><Relationship Id="rId13" Type="http://schemas.openxmlformats.org/officeDocument/2006/relationships/image" Target="../media/image49.png"/><Relationship Id="rId1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9.png"/><Relationship Id="rId6" Type="http://schemas.openxmlformats.org/officeDocument/2006/relationships/image" Target="../media/image49.png"/><Relationship Id="rId7" Type="http://schemas.openxmlformats.org/officeDocument/2006/relationships/image" Target="../media/image49.png"/><Relationship Id="rId8" Type="http://schemas.openxmlformats.org/officeDocument/2006/relationships/image" Target="../media/image49.png"/><Relationship Id="rId9" Type="http://schemas.openxmlformats.org/officeDocument/2006/relationships/image" Target="../media/image49.png"/><Relationship Id="rId10" Type="http://schemas.openxmlformats.org/officeDocument/2006/relationships/image" Target="../media/image49.png"/><Relationship Id="rId11" Type="http://schemas.openxmlformats.org/officeDocument/2006/relationships/image" Target="../media/image49.png"/><Relationship Id="rId12" Type="http://schemas.openxmlformats.org/officeDocument/2006/relationships/image" Target="../media/image49.png"/><Relationship Id="rId13" Type="http://schemas.openxmlformats.org/officeDocument/2006/relationships/image" Target="../media/image49.png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5.png"/><Relationship Id="rId6" Type="http://schemas.openxmlformats.org/officeDocument/2006/relationships/image" Target="../media/image54.png"/><Relationship Id="rId7" Type="http://schemas.openxmlformats.org/officeDocument/2006/relationships/image" Target="../media/image53.png"/><Relationship Id="rId8" Type="http://schemas.openxmlformats.org/officeDocument/2006/relationships/image" Target="../media/image57.png"/><Relationship Id="rId9" Type="http://schemas.openxmlformats.org/officeDocument/2006/relationships/image" Target="../media/image55.pn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image" Target="../media/image3.png"/><Relationship Id="rId5" Type="http://schemas.openxmlformats.org/officeDocument/2006/relationships/slide" Target="slide6.xm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10.png"/><Relationship Id="rId14" Type="http://schemas.openxmlformats.org/officeDocument/2006/relationships/slide" Target="slide7.xml"/><Relationship Id="rId15" Type="http://schemas.openxmlformats.org/officeDocument/2006/relationships/image" Target="../media/image11.wmf"/><Relationship Id="rId16" Type="http://schemas.openxmlformats.org/officeDocument/2006/relationships/image" Target="../media/image12.wmf"/><Relationship Id="rId17" Type="http://schemas.openxmlformats.org/officeDocument/2006/relationships/image" Target="../media/image13.png"/><Relationship Id="rId18" Type="http://schemas.openxmlformats.org/officeDocument/2006/relationships/image" Target="../media/image14.png"/><Relationship Id="rId19" Type="http://schemas.openxmlformats.org/officeDocument/2006/relationships/image" Target="../media/image15.png"/><Relationship Id="rId20" Type="http://schemas.openxmlformats.org/officeDocument/2006/relationships/image" Target="../media/image16.wmf"/><Relationship Id="rId21" Type="http://schemas.openxmlformats.org/officeDocument/2006/relationships/image" Target="../media/image17.png"/><Relationship Id="rId22" Type="http://schemas.openxmlformats.org/officeDocument/2006/relationships/image" Target="../media/image18.png"/><Relationship Id="rId23" Type="http://schemas.openxmlformats.org/officeDocument/2006/relationships/image" Target="../media/image19.png"/><Relationship Id="rId2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image" Target="../media/image20.png"/><Relationship Id="rId13" Type="http://schemas.openxmlformats.org/officeDocument/2006/relationships/image" Target="../media/image20.png"/><Relationship Id="rId14" Type="http://schemas.openxmlformats.org/officeDocument/2006/relationships/slide" Target="slide8.xml"/><Relationship Id="rId15" Type="http://schemas.openxmlformats.org/officeDocument/2006/relationships/image" Target="../media/image3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6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7c9c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412"/>
            </a:avLst>
          </a:prstGeom>
          <a:gradFill rotWithShape="0">
            <a:gsLst>
              <a:gs pos="0">
                <a:srgbClr val="336699"/>
              </a:gs>
              <a:gs pos="100000">
                <a:srgbClr val="6f93b6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1e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600200"/>
            <a:ext cx="7848720" cy="495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20000"/>
                </a:srgbClr>
              </a:gs>
              <a:gs pos="50000">
                <a:srgbClr val="336699"/>
              </a:gs>
              <a:gs pos="100000">
                <a:srgbClr val="000000">
                  <a:alpha val="20000"/>
                </a:srgbClr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1e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-2438280"/>
            <a:ext cx="2361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124080" y="3527280"/>
            <a:ext cx="1028880" cy="206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8f8f8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Dotum"/>
              </a:rPr>
              <a:t>DEFINICIÓN</a:t>
            </a:r>
            <a:endParaRPr b="1" lang="en-US" sz="1800" spc="1" strike="noStrike">
              <a:ln w="0">
                <a:noFill/>
              </a:ln>
              <a:solidFill>
                <a:srgbClr val="f8f8f8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Dotum"/>
              <a:ea typeface="Dotum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800600" y="5737320"/>
            <a:ext cx="1371600" cy="206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8f8f8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Dotum"/>
              </a:rPr>
              <a:t>CARACTERÍSTICAS</a:t>
            </a:r>
            <a:endParaRPr b="1" lang="en-US" sz="1800" spc="1" strike="noStrike">
              <a:ln w="0">
                <a:noFill/>
              </a:ln>
              <a:solidFill>
                <a:srgbClr val="f8f8f8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Dotum"/>
              <a:ea typeface="Dotum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102120" y="5715000"/>
            <a:ext cx="116496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8f8f8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Dotum"/>
              </a:rPr>
              <a:t>8 </a:t>
            </a:r>
            <a:endParaRPr b="1" lang="en-US" sz="1800" spc="1" strike="noStrike">
              <a:ln w="0">
                <a:noFill/>
              </a:ln>
              <a:solidFill>
                <a:srgbClr val="f8f8f8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Dotum"/>
              <a:ea typeface="Dot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8f8f8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Dotum"/>
              </a:rPr>
              <a:t>COMPETENCIAS</a:t>
            </a:r>
            <a:endParaRPr b="1" lang="en-US" sz="1800" spc="1" strike="noStrike">
              <a:ln w="0">
                <a:noFill/>
              </a:ln>
              <a:solidFill>
                <a:srgbClr val="f8f8f8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Dotum"/>
              <a:ea typeface="Dot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8f8f8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Dotum"/>
              </a:rPr>
              <a:t>CLAVE EN EL </a:t>
            </a:r>
            <a:endParaRPr b="1" lang="en-US" sz="1800" spc="1" strike="noStrike">
              <a:ln w="0">
                <a:noFill/>
              </a:ln>
              <a:solidFill>
                <a:srgbClr val="f8f8f8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Dotum"/>
              <a:ea typeface="Dot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8f8f8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Dotum"/>
              </a:rPr>
              <a:t>APRENDIZAJE</a:t>
            </a:r>
            <a:endParaRPr b="1" lang="en-US" sz="1800" spc="1" strike="noStrike">
              <a:ln w="0">
                <a:noFill/>
              </a:ln>
              <a:solidFill>
                <a:srgbClr val="f8f8f8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Dotum"/>
              <a:ea typeface="Dotum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211400" y="5761080"/>
            <a:ext cx="1303200" cy="411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8f8f8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Dotum"/>
              </a:rPr>
              <a:t>COMPETENCIAS</a:t>
            </a:r>
            <a:endParaRPr b="1" lang="en-US" sz="1800" spc="1" strike="noStrike">
              <a:ln w="0">
                <a:noFill/>
              </a:ln>
              <a:solidFill>
                <a:srgbClr val="f8f8f8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Dotum"/>
              <a:ea typeface="Dot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8f8f8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Dotum"/>
              </a:rPr>
              <a:t>COMUNICATIVAS</a:t>
            </a:r>
            <a:endParaRPr b="1" lang="en-US" sz="1800" spc="1" strike="noStrike">
              <a:ln w="0">
                <a:noFill/>
              </a:ln>
              <a:solidFill>
                <a:srgbClr val="f8f8f8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Dotum"/>
              <a:ea typeface="Dotum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705720" y="5699160"/>
            <a:ext cx="1371600" cy="549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8f8f8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Dotum"/>
              </a:rPr>
              <a:t>CÓMO TRABAJAR</a:t>
            </a:r>
            <a:endParaRPr b="0" lang="en-US" sz="1800" spc="1" strike="noStrike">
              <a:ln w="0">
                <a:noFill/>
              </a:ln>
              <a:solidFill>
                <a:srgbClr val="f8f8f8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Dotum"/>
              <a:ea typeface="Dot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8f8f8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Dotum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f8f8f8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Dotum"/>
              </a:rPr>
              <a:t>LAS C. CLAVE</a:t>
            </a:r>
            <a:endParaRPr b="0" lang="en-US" sz="1800" spc="1" strike="noStrike">
              <a:ln w="0">
                <a:noFill/>
              </a:ln>
              <a:solidFill>
                <a:srgbClr val="f8f8f8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Dotum"/>
              <a:ea typeface="Dot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8f8f8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Dotum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f8f8f8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Dotum"/>
              </a:rPr>
              <a:t>EN EL AULA</a:t>
            </a:r>
            <a:endParaRPr b="0" lang="en-US" sz="1800" spc="1" strike="noStrike">
              <a:ln w="0">
                <a:noFill/>
              </a:ln>
              <a:solidFill>
                <a:srgbClr val="f8f8f8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Dotum"/>
              <a:ea typeface="Dotum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023840" y="457200"/>
            <a:ext cx="7053480" cy="914400"/>
            <a:chOff x="1023840" y="457200"/>
            <a:chExt cx="7053480" cy="914400"/>
          </a:xfrm>
        </p:grpSpPr>
        <p:grpSp>
          <p:nvGrpSpPr>
            <p:cNvPr id="50" name=""/>
            <p:cNvGrpSpPr/>
            <p:nvPr/>
          </p:nvGrpSpPr>
          <p:grpSpPr>
            <a:xfrm>
              <a:off x="1023840" y="457200"/>
              <a:ext cx="7053480" cy="914400"/>
              <a:chOff x="1023840" y="457200"/>
              <a:chExt cx="7053480" cy="914400"/>
            </a:xfrm>
          </p:grpSpPr>
          <p:sp>
            <p:nvSpPr>
              <p:cNvPr id="51" name=""/>
              <p:cNvSpPr/>
              <p:nvPr/>
            </p:nvSpPr>
            <p:spPr>
              <a:xfrm>
                <a:off x="1023840" y="457200"/>
                <a:ext cx="7053480" cy="9144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efefe"/>
                  </a:gs>
                  <a:gs pos="100000">
                    <a:srgbClr val="808080"/>
                  </a:gs>
                </a:gsLst>
                <a:lin ang="8100000"/>
              </a:gradFill>
              <a:ln w="0">
                <a:noFill/>
              </a:ln>
              <a:effectLst>
                <a:outerShdw dist="17819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096200" y="529560"/>
                <a:ext cx="6923160" cy="7840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  <a:effectLst>
                <a:outerShdw dist="153753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 txBox="1"/>
            <p:nvPr/>
          </p:nvSpPr>
          <p:spPr>
            <a:xfrm>
              <a:off x="1241280" y="747360"/>
              <a:ext cx="6465240" cy="351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153753" dir="2700000" blurRad="0" rotWithShape="0">
                      <a:srgbClr val="1e3c5b"/>
                    </a:outerShdw>
                  </a:effectLst>
                  <a:latin typeface="Times New Roman"/>
                </a:rPr>
                <a:t>APRENDIZAJE POR COMPETENCIAS</a:t>
              </a:r>
              <a:endPara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153753" dir="2700000" blurRad="0" rotWithShape="0">
                    <a:srgbClr val="1e3c5b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1143000" y="1828800"/>
            <a:ext cx="1371240" cy="1905120"/>
            <a:chOff x="1143000" y="1828800"/>
            <a:chExt cx="1371240" cy="1905120"/>
          </a:xfrm>
        </p:grpSpPr>
        <p:sp>
          <p:nvSpPr>
            <p:cNvPr id="55" name=""/>
            <p:cNvSpPr txBox="1"/>
            <p:nvPr/>
          </p:nvSpPr>
          <p:spPr>
            <a:xfrm>
              <a:off x="1295280" y="3527640"/>
              <a:ext cx="1028880" cy="2062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8f8f8"/>
                  </a:solidFill>
                  <a:effectLst>
                    <a:outerShdw dist="17819" dir="2700000" blurRad="0" rotWithShape="0">
                      <a:srgbClr val="ffffff"/>
                    </a:outerShdw>
                  </a:effectLst>
                  <a:latin typeface="Dotum"/>
                </a:rPr>
                <a:t>CONTEXTO</a:t>
              </a:r>
              <a:endParaRPr b="1" lang="en-US" sz="1800" spc="1" strike="noStrike">
                <a:ln w="0">
                  <a:noFill/>
                </a:ln>
                <a:solidFill>
                  <a:srgbClr val="f8f8f8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Dotum"/>
                <a:ea typeface="Dotum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1143000" y="1828800"/>
              <a:ext cx="1371240" cy="1523520"/>
              <a:chOff x="1143000" y="1828800"/>
              <a:chExt cx="1371240" cy="1523520"/>
            </a:xfrm>
          </p:grpSpPr>
          <p:grpSp>
            <p:nvGrpSpPr>
              <p:cNvPr id="57" name=""/>
              <p:cNvGrpSpPr/>
              <p:nvPr/>
            </p:nvGrpSpPr>
            <p:grpSpPr>
              <a:xfrm>
                <a:off x="1143000" y="1828800"/>
                <a:ext cx="1371240" cy="1523520"/>
                <a:chOff x="1143000" y="1828800"/>
                <a:chExt cx="1371240" cy="152352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143000" y="1828800"/>
                  <a:ext cx="1371240" cy="1523520"/>
                </a:xfrm>
                <a:custGeom>
                  <a:avLst/>
                  <a:gdLst>
                    <a:gd name="textAreaLeft" fmla="*/ 157320 w 1371240"/>
                    <a:gd name="textAreaRight" fmla="*/ 1213920 w 1371240"/>
                    <a:gd name="textAreaTop" fmla="*/ 157320 h 1523520"/>
                    <a:gd name="textAreaBottom" fmla="*/ 1366200 h 1523520"/>
                  </a:gdLst>
                  <a:ahLst/>
                  <a:rect l="textAreaLeft" t="textAreaTop" r="textAreaRight" b="textAreaBottom"/>
                  <a:pathLst>
                    <a:path w="21600" h="23998">
                      <a:moveTo>
                        <a:pt x="8471" y="0"/>
                      </a:moveTo>
                      <a:arcTo wR="8471" hR="8471" stAng="16200000" swAng="-5400000"/>
                      <a:lnTo>
                        <a:pt x="0" y="15527"/>
                      </a:lnTo>
                      <a:arcTo wR="8471" hR="8471" stAng="10800000" swAng="-5400000"/>
                      <a:lnTo>
                        <a:pt x="13129" y="23998"/>
                      </a:lnTo>
                      <a:arcTo wR="8471" hR="8471" stAng="5400000" swAng="-5400000"/>
                      <a:lnTo>
                        <a:pt x="21600" y="8471"/>
                      </a:lnTo>
                      <a:arcTo wR="8471" hR="8471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fefefe"/>
                    </a:gs>
                    <a:gs pos="100000">
                      <a:srgbClr val="808080"/>
                    </a:gs>
                  </a:gsLst>
                  <a:lin ang="8100000"/>
                </a:gradFill>
                <a:ln w="0">
                  <a:noFill/>
                </a:ln>
                <a:effectLst>
                  <a:outerShdw dist="17819" dir="2700000" blurRad="0" rotWithShape="0">
                    <a:srgbClr val="4c4c4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1223640" y="1913400"/>
                  <a:ext cx="1196280" cy="1353960"/>
                </a:xfrm>
                <a:custGeom>
                  <a:avLst/>
                  <a:gdLst>
                    <a:gd name="textAreaLeft" fmla="*/ 121320 w 1196280"/>
                    <a:gd name="textAreaRight" fmla="*/ 1074960 w 1196280"/>
                    <a:gd name="textAreaTop" fmla="*/ 121320 h 1353960"/>
                    <a:gd name="textAreaBottom" fmla="*/ 1232640 h 1353960"/>
                  </a:gdLst>
                  <a:ahLst/>
                  <a:rect l="textAreaLeft" t="textAreaTop" r="textAreaRight" b="textAreaBottom"/>
                  <a:pathLst>
                    <a:path w="21600" h="24446">
                      <a:moveTo>
                        <a:pt x="7493" y="0"/>
                      </a:moveTo>
                      <a:arcTo wR="7493" hR="7493" stAng="16200000" swAng="-5400000"/>
                      <a:lnTo>
                        <a:pt x="0" y="16953"/>
                      </a:lnTo>
                      <a:arcTo wR="7493" hR="7493" stAng="10800000" swAng="-5400000"/>
                      <a:lnTo>
                        <a:pt x="14107" y="24446"/>
                      </a:lnTo>
                      <a:arcTo wR="7493" hR="7493" stAng="5400000" swAng="-5400000"/>
                      <a:lnTo>
                        <a:pt x="21600" y="7493"/>
                      </a:lnTo>
                      <a:arcTo wR="7493" hR="7493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50000">
                      <a:srgbClr val="dcdcdc"/>
                    </a:gs>
                    <a:gs pos="100000">
                      <a:srgbClr val="b2b2b2"/>
                    </a:gs>
                  </a:gsLst>
                  <a:lin ang="10800000"/>
                </a:gradFill>
                <a:ln w="0">
                  <a:noFill/>
                </a:ln>
                <a:effectLst>
                  <a:outerShdw dist="153753" dir="2700000" blurRad="0" rotWithShape="0">
                    <a:srgbClr val="6a6a6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0" name="" descr=""/>
              <p:cNvPicPr/>
              <p:nvPr/>
            </p:nvPicPr>
            <p:blipFill>
              <a:blip r:embed="rId1">
                <a:lum contrast="18000"/>
              </a:blip>
              <a:stretch/>
            </p:blipFill>
            <p:spPr>
              <a:xfrm>
                <a:off x="1371600" y="2133720"/>
                <a:ext cx="914400" cy="907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1" name=""/>
          <p:cNvGrpSpPr/>
          <p:nvPr/>
        </p:nvGrpSpPr>
        <p:grpSpPr>
          <a:xfrm>
            <a:off x="2971800" y="1828800"/>
            <a:ext cx="1371240" cy="1523520"/>
            <a:chOff x="2971800" y="1828800"/>
            <a:chExt cx="1371240" cy="1523520"/>
          </a:xfrm>
        </p:grpSpPr>
        <p:sp>
          <p:nvSpPr>
            <p:cNvPr id="62" name=""/>
            <p:cNvSpPr/>
            <p:nvPr/>
          </p:nvSpPr>
          <p:spPr>
            <a:xfrm>
              <a:off x="2971800" y="1828800"/>
              <a:ext cx="1371240" cy="1523520"/>
            </a:xfrm>
            <a:custGeom>
              <a:avLst/>
              <a:gdLst>
                <a:gd name="textAreaLeft" fmla="*/ 157320 w 1371240"/>
                <a:gd name="textAreaRight" fmla="*/ 1213920 w 1371240"/>
                <a:gd name="textAreaTop" fmla="*/ 157320 h 1523520"/>
                <a:gd name="textAreaBottom" fmla="*/ 1366200 h 1523520"/>
              </a:gdLst>
              <a:ahLst/>
              <a:rect l="textAreaLeft" t="textAreaTop" r="textAreaRight" b="textAreaBottom"/>
              <a:pathLst>
                <a:path w="21600" h="23998">
                  <a:moveTo>
                    <a:pt x="8471" y="0"/>
                  </a:moveTo>
                  <a:arcTo wR="8471" hR="8471" stAng="16200000" swAng="-5400000"/>
                  <a:lnTo>
                    <a:pt x="0" y="15527"/>
                  </a:lnTo>
                  <a:arcTo wR="8471" hR="8471" stAng="10800000" swAng="-5400000"/>
                  <a:lnTo>
                    <a:pt x="13129" y="23998"/>
                  </a:lnTo>
                  <a:arcTo wR="8471" hR="8471" stAng="5400000" swAng="-5400000"/>
                  <a:lnTo>
                    <a:pt x="21600" y="8471"/>
                  </a:lnTo>
                  <a:arcTo wR="8471" hR="8471" stAng="0" swAng="-5400000"/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50000">
                  <a:srgbClr val="fefefe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  <a:effectLst>
              <a:outerShdw dist="17819" dir="2700000" blurRad="0" rotWithShape="0">
                <a:srgbClr val="4c4c4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52440" y="1913400"/>
              <a:ext cx="1196280" cy="1353960"/>
            </a:xfrm>
            <a:custGeom>
              <a:avLst/>
              <a:gdLst>
                <a:gd name="textAreaLeft" fmla="*/ 121320 w 1196280"/>
                <a:gd name="textAreaRight" fmla="*/ 1074960 w 1196280"/>
                <a:gd name="textAreaTop" fmla="*/ 121320 h 1353960"/>
                <a:gd name="textAreaBottom" fmla="*/ 1232640 h 1353960"/>
              </a:gdLst>
              <a:ahLst/>
              <a:rect l="textAreaLeft" t="textAreaTop" r="textAreaRight" b="textAreaBottom"/>
              <a:pathLst>
                <a:path w="21600" h="24446">
                  <a:moveTo>
                    <a:pt x="7493" y="0"/>
                  </a:moveTo>
                  <a:arcTo wR="7493" hR="7493" stAng="16200000" swAng="-5400000"/>
                  <a:lnTo>
                    <a:pt x="0" y="16953"/>
                  </a:lnTo>
                  <a:arcTo wR="7493" hR="7493" stAng="10800000" swAng="-5400000"/>
                  <a:lnTo>
                    <a:pt x="14107" y="24446"/>
                  </a:lnTo>
                  <a:arcTo wR="7493" hR="7493" stAng="5400000" swAng="-5400000"/>
                  <a:lnTo>
                    <a:pt x="21600" y="7493"/>
                  </a:lnTo>
                  <a:arcTo wR="7493" hR="7493" stAng="0" swAng="-5400000"/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dcdcdc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  <a:effectLst>
              <a:outerShdw dist="153753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16240" y="2130480"/>
            <a:ext cx="898560" cy="99360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4800600" y="4038480"/>
            <a:ext cx="1371240" cy="1523520"/>
            <a:chOff x="4800600" y="4038480"/>
            <a:chExt cx="1371240" cy="1523520"/>
          </a:xfrm>
        </p:grpSpPr>
        <p:grpSp>
          <p:nvGrpSpPr>
            <p:cNvPr id="66" name=""/>
            <p:cNvGrpSpPr/>
            <p:nvPr/>
          </p:nvGrpSpPr>
          <p:grpSpPr>
            <a:xfrm>
              <a:off x="4800600" y="4038480"/>
              <a:ext cx="1371240" cy="1523520"/>
              <a:chOff x="4800600" y="4038480"/>
              <a:chExt cx="1371240" cy="1523520"/>
            </a:xfrm>
          </p:grpSpPr>
          <p:sp>
            <p:nvSpPr>
              <p:cNvPr id="67" name=""/>
              <p:cNvSpPr/>
              <p:nvPr/>
            </p:nvSpPr>
            <p:spPr>
              <a:xfrm>
                <a:off x="4800600" y="4038480"/>
                <a:ext cx="1371240" cy="1523520"/>
              </a:xfrm>
              <a:custGeom>
                <a:avLst/>
                <a:gdLst>
                  <a:gd name="textAreaLeft" fmla="*/ 157320 w 1371240"/>
                  <a:gd name="textAreaRight" fmla="*/ 1213920 w 1371240"/>
                  <a:gd name="textAreaTop" fmla="*/ 157320 h 1523520"/>
                  <a:gd name="textAreaBottom" fmla="*/ 1366200 h 1523520"/>
                </a:gdLst>
                <a:ahLst/>
                <a:rect l="textAreaLeft" t="textAreaTop" r="textAreaRight" b="textAreaBottom"/>
                <a:pathLst>
                  <a:path w="21600" h="23998">
                    <a:moveTo>
                      <a:pt x="8471" y="0"/>
                    </a:moveTo>
                    <a:arcTo wR="8471" hR="8471" stAng="16200000" swAng="-5400000"/>
                    <a:lnTo>
                      <a:pt x="0" y="15527"/>
                    </a:lnTo>
                    <a:arcTo wR="8471" hR="8471" stAng="10800000" swAng="-5400000"/>
                    <a:lnTo>
                      <a:pt x="13129" y="23998"/>
                    </a:lnTo>
                    <a:arcTo wR="8471" hR="8471" stAng="5400000" swAng="-5400000"/>
                    <a:lnTo>
                      <a:pt x="21600" y="8471"/>
                    </a:lnTo>
                    <a:arcTo wR="8471" hR="8471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fefefe"/>
                  </a:gs>
                  <a:gs pos="100000">
                    <a:srgbClr val="808080"/>
                  </a:gs>
                </a:gsLst>
                <a:lin ang="8100000"/>
              </a:gradFill>
              <a:ln w="0">
                <a:noFill/>
              </a:ln>
              <a:effectLst>
                <a:outerShdw dist="17819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881240" y="4123080"/>
                <a:ext cx="1196280" cy="1353960"/>
              </a:xfrm>
              <a:custGeom>
                <a:avLst/>
                <a:gdLst>
                  <a:gd name="textAreaLeft" fmla="*/ 121320 w 1196280"/>
                  <a:gd name="textAreaRight" fmla="*/ 1074960 w 1196280"/>
                  <a:gd name="textAreaTop" fmla="*/ 121320 h 1353960"/>
                  <a:gd name="textAreaBottom" fmla="*/ 1232640 h 1353960"/>
                </a:gdLst>
                <a:ahLst/>
                <a:rect l="textAreaLeft" t="textAreaTop" r="textAreaRight" b="textAreaBottom"/>
                <a:pathLst>
                  <a:path w="21600" h="24446">
                    <a:moveTo>
                      <a:pt x="7493" y="0"/>
                    </a:moveTo>
                    <a:arcTo wR="7493" hR="7493" stAng="16200000" swAng="-5400000"/>
                    <a:lnTo>
                      <a:pt x="0" y="16953"/>
                    </a:lnTo>
                    <a:arcTo wR="7493" hR="7493" stAng="10800000" swAng="-5400000"/>
                    <a:lnTo>
                      <a:pt x="14107" y="24446"/>
                    </a:lnTo>
                    <a:arcTo wR="7493" hR="7493" stAng="5400000" swAng="-5400000"/>
                    <a:lnTo>
                      <a:pt x="21600" y="7493"/>
                    </a:lnTo>
                    <a:arcTo wR="7493" hR="7493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  <a:effectLst>
                <a:outerShdw dist="153753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5105520" y="4267080"/>
              <a:ext cx="838080" cy="990720"/>
              <a:chOff x="5105520" y="4267080"/>
              <a:chExt cx="838080" cy="990720"/>
            </a:xfrm>
          </p:grpSpPr>
          <p:sp>
            <p:nvSpPr>
              <p:cNvPr id="70" name=""/>
              <p:cNvSpPr txBox="1"/>
              <p:nvPr/>
            </p:nvSpPr>
            <p:spPr>
              <a:xfrm>
                <a:off x="5105520" y="4267080"/>
                <a:ext cx="609480" cy="68580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752424"/>
                        </a:gs>
                        <a:gs pos="100000">
                          <a:srgbClr val="ff5050"/>
                        </a:gs>
                      </a:gsLst>
                      <a:lin ang="5400000"/>
                    </a:gradFill>
                    <a:effectLst>
                      <a:outerShdw dist="17819" dir="2700000" blurRad="0" rotWithShape="0">
                        <a:srgbClr val="333333"/>
                      </a:outerShdw>
                    </a:effectLst>
                    <a:latin typeface="Baskerville Old Face"/>
                  </a:rPr>
                  <a:t>C</a:t>
                </a:r>
                <a:endPara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752424"/>
                      </a:gs>
                      <a:gs pos="100000">
                        <a:srgbClr val="ff5050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333333"/>
                    </a:outerShdw>
                  </a:effectLst>
                  <a:latin typeface="Baskerville Old Face"/>
                  <a:ea typeface="Baskerville Old Face"/>
                </a:endParaRPr>
              </a:p>
            </p:txBody>
          </p:sp>
          <p:sp>
            <p:nvSpPr>
              <p:cNvPr id="71" name=""/>
              <p:cNvSpPr txBox="1"/>
              <p:nvPr/>
            </p:nvSpPr>
            <p:spPr>
              <a:xfrm>
                <a:off x="5334120" y="4572000"/>
                <a:ext cx="609480" cy="68580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752424"/>
                        </a:gs>
                        <a:gs pos="100000">
                          <a:srgbClr val="ff5050"/>
                        </a:gs>
                      </a:gsLst>
                      <a:lin ang="5400000"/>
                    </a:gradFill>
                    <a:effectLst>
                      <a:outerShdw dist="17819" dir="2700000" blurRad="0" rotWithShape="0">
                        <a:srgbClr val="333333"/>
                      </a:outerShdw>
                    </a:effectLst>
                    <a:latin typeface="Baskerville Old Face"/>
                  </a:rPr>
                  <a:t>C</a:t>
                </a:r>
                <a:endPara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752424"/>
                      </a:gs>
                      <a:gs pos="100000">
                        <a:srgbClr val="ff5050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333333"/>
                    </a:outerShdw>
                  </a:effectLst>
                  <a:latin typeface="Baskerville Old Face"/>
                  <a:ea typeface="Baskerville Old Face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629400" y="1828800"/>
            <a:ext cx="1371600" cy="2133720"/>
            <a:chOff x="6629400" y="1828800"/>
            <a:chExt cx="1371600" cy="2133720"/>
          </a:xfrm>
        </p:grpSpPr>
        <p:sp>
          <p:nvSpPr>
            <p:cNvPr id="73" name=""/>
            <p:cNvSpPr txBox="1"/>
            <p:nvPr/>
          </p:nvSpPr>
          <p:spPr>
            <a:xfrm>
              <a:off x="6697800" y="3483000"/>
              <a:ext cx="1303200" cy="4795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8f8f8"/>
                  </a:solidFill>
                  <a:effectLst>
                    <a:outerShdw dist="17819" dir="2700000" blurRad="0" rotWithShape="0">
                      <a:srgbClr val="ffffff"/>
                    </a:outerShdw>
                  </a:effectLst>
                  <a:latin typeface="Dotum"/>
                </a:rPr>
                <a:t>C. BÁSICAS O</a:t>
              </a:r>
              <a:endParaRPr b="1" lang="en-US" sz="1800" spc="1" strike="noStrike">
                <a:ln w="0">
                  <a:noFill/>
                </a:ln>
                <a:solidFill>
                  <a:srgbClr val="f8f8f8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Dotum"/>
                <a:ea typeface="Dotum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8f8f8"/>
                  </a:solidFill>
                  <a:effectLst>
                    <a:outerShdw dist="17819" dir="2700000" blurRad="0" rotWithShape="0">
                      <a:srgbClr val="ffffff"/>
                    </a:outerShdw>
                  </a:effectLst>
                  <a:latin typeface="Dotum"/>
                </a:rPr>
                <a:t>GENERALES</a:t>
              </a:r>
              <a:endParaRPr b="1" lang="en-US" sz="1800" spc="1" strike="noStrike">
                <a:ln w="0">
                  <a:noFill/>
                </a:ln>
                <a:solidFill>
                  <a:srgbClr val="f8f8f8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Dotum"/>
                <a:ea typeface="Dotum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6629400" y="1828800"/>
              <a:ext cx="1371240" cy="1523520"/>
              <a:chOff x="6629400" y="1828800"/>
              <a:chExt cx="1371240" cy="152352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6629400" y="1828800"/>
                <a:ext cx="1371240" cy="1523520"/>
                <a:chOff x="6629400" y="1828800"/>
                <a:chExt cx="1371240" cy="152352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6629400" y="1828800"/>
                  <a:ext cx="1371240" cy="1523520"/>
                </a:xfrm>
                <a:custGeom>
                  <a:avLst/>
                  <a:gdLst>
                    <a:gd name="textAreaLeft" fmla="*/ 157320 w 1371240"/>
                    <a:gd name="textAreaRight" fmla="*/ 1213920 w 1371240"/>
                    <a:gd name="textAreaTop" fmla="*/ 157320 h 1523520"/>
                    <a:gd name="textAreaBottom" fmla="*/ 1366200 h 1523520"/>
                  </a:gdLst>
                  <a:ahLst/>
                  <a:rect l="textAreaLeft" t="textAreaTop" r="textAreaRight" b="textAreaBottom"/>
                  <a:pathLst>
                    <a:path w="21600" h="23998">
                      <a:moveTo>
                        <a:pt x="8471" y="0"/>
                      </a:moveTo>
                      <a:arcTo wR="8471" hR="8471" stAng="16200000" swAng="-5400000"/>
                      <a:lnTo>
                        <a:pt x="0" y="15527"/>
                      </a:lnTo>
                      <a:arcTo wR="8471" hR="8471" stAng="10800000" swAng="-5400000"/>
                      <a:lnTo>
                        <a:pt x="13129" y="23998"/>
                      </a:lnTo>
                      <a:arcTo wR="8471" hR="8471" stAng="5400000" swAng="-5400000"/>
                      <a:lnTo>
                        <a:pt x="21600" y="8471"/>
                      </a:lnTo>
                      <a:arcTo wR="8471" hR="8471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fefefe"/>
                    </a:gs>
                    <a:gs pos="100000">
                      <a:srgbClr val="808080"/>
                    </a:gs>
                  </a:gsLst>
                  <a:lin ang="8100000"/>
                </a:gradFill>
                <a:ln w="0">
                  <a:noFill/>
                </a:ln>
                <a:effectLst>
                  <a:outerShdw dist="17819" dir="2700000" blurRad="0" rotWithShape="0">
                    <a:srgbClr val="4c4c4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6710040" y="1913400"/>
                  <a:ext cx="1196280" cy="1353960"/>
                </a:xfrm>
                <a:custGeom>
                  <a:avLst/>
                  <a:gdLst>
                    <a:gd name="textAreaLeft" fmla="*/ 121320 w 1196280"/>
                    <a:gd name="textAreaRight" fmla="*/ 1074960 w 1196280"/>
                    <a:gd name="textAreaTop" fmla="*/ 121320 h 1353960"/>
                    <a:gd name="textAreaBottom" fmla="*/ 1232640 h 1353960"/>
                  </a:gdLst>
                  <a:ahLst/>
                  <a:rect l="textAreaLeft" t="textAreaTop" r="textAreaRight" b="textAreaBottom"/>
                  <a:pathLst>
                    <a:path w="21600" h="24446">
                      <a:moveTo>
                        <a:pt x="7493" y="0"/>
                      </a:moveTo>
                      <a:arcTo wR="7493" hR="7493" stAng="16200000" swAng="-5400000"/>
                      <a:lnTo>
                        <a:pt x="0" y="16953"/>
                      </a:lnTo>
                      <a:arcTo wR="7493" hR="7493" stAng="10800000" swAng="-5400000"/>
                      <a:lnTo>
                        <a:pt x="14107" y="24446"/>
                      </a:lnTo>
                      <a:arcTo wR="7493" hR="7493" stAng="5400000" swAng="-5400000"/>
                      <a:lnTo>
                        <a:pt x="21600" y="7493"/>
                      </a:lnTo>
                      <a:arcTo wR="7493" hR="7493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50000">
                      <a:srgbClr val="dcdcdc"/>
                    </a:gs>
                    <a:gs pos="100000">
                      <a:srgbClr val="b2b2b2"/>
                    </a:gs>
                  </a:gsLst>
                  <a:lin ang="10800000"/>
                </a:gradFill>
                <a:ln w="0">
                  <a:noFill/>
                </a:ln>
                <a:effectLst>
                  <a:outerShdw dist="153753" dir="2700000" blurRad="0" rotWithShape="0">
                    <a:srgbClr val="6a6a6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6858000" y="2057400"/>
                <a:ext cx="990720" cy="853560"/>
                <a:chOff x="6858000" y="2057400"/>
                <a:chExt cx="990720" cy="853560"/>
              </a:xfrm>
            </p:grpSpPr>
            <p:sp>
              <p:nvSpPr>
                <p:cNvPr id="79" name="Pyr1"/>
                <p:cNvSpPr/>
                <p:nvPr/>
              </p:nvSpPr>
              <p:spPr>
                <a:xfrm>
                  <a:off x="7243560" y="2057400"/>
                  <a:ext cx="222120" cy="189000"/>
                </a:xfrm>
                <a:prstGeom prst="pie">
                  <a:avLst/>
                </a:prstGeom>
                <a:gradFill rotWithShape="0">
                  <a:gsLst>
                    <a:gs pos="0">
                      <a:srgbClr val="cc0066"/>
                    </a:gs>
                    <a:gs pos="100000">
                      <a:srgbClr val="6666ff"/>
                    </a:gs>
                  </a:gsLst>
                  <a:lin ang="5400000"/>
                </a:gradFill>
                <a:ln w="0">
                  <a:noFill/>
                </a:ln>
                <a:effectLst>
                  <a:outerShdw dist="52300" dir="836435" blurRad="0" rotWithShape="0">
                    <a:srgbClr val="79003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Pyr2"/>
                <p:cNvSpPr/>
                <p:nvPr/>
              </p:nvSpPr>
              <p:spPr>
                <a:xfrm>
                  <a:off x="7114680" y="2246400"/>
                  <a:ext cx="478080" cy="222120"/>
                </a:xfrm>
                <a:prstGeom prst="pie">
                  <a:avLst/>
                </a:prstGeom>
                <a:gradFill rotWithShape="0">
                  <a:gsLst>
                    <a:gs pos="0">
                      <a:srgbClr val="6666ff"/>
                    </a:gs>
                    <a:gs pos="100000">
                      <a:srgbClr val="33cc33"/>
                    </a:gs>
                  </a:gsLst>
                  <a:lin ang="5400000"/>
                </a:gradFill>
                <a:ln w="0">
                  <a:noFill/>
                </a:ln>
                <a:effectLst>
                  <a:outerShdw dist="52300" dir="836435" blurRad="0" rotWithShape="0">
                    <a:srgbClr val="3c3c9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Pyr3"/>
                <p:cNvSpPr/>
                <p:nvPr/>
              </p:nvSpPr>
              <p:spPr>
                <a:xfrm>
                  <a:off x="6987600" y="2468880"/>
                  <a:ext cx="732600" cy="221760"/>
                </a:xfrm>
                <a:prstGeom prst="pie">
                  <a:avLst/>
                </a:prstGeom>
                <a:gradFill rotWithShape="0">
                  <a:gsLst>
                    <a:gs pos="0">
                      <a:srgbClr val="33cc33"/>
                    </a:gs>
                    <a:gs pos="100000">
                      <a:srgbClr val="c3ff19"/>
                    </a:gs>
                  </a:gsLst>
                  <a:lin ang="5400000"/>
                </a:gradFill>
                <a:ln w="0">
                  <a:noFill/>
                </a:ln>
                <a:effectLst>
                  <a:outerShdw dist="52300" dir="836435" blurRad="0" rotWithShape="0">
                    <a:srgbClr val="1e791e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Pyr4"/>
                <p:cNvSpPr/>
                <p:nvPr/>
              </p:nvSpPr>
              <p:spPr>
                <a:xfrm>
                  <a:off x="6858000" y="2689200"/>
                  <a:ext cx="990720" cy="221760"/>
                </a:xfrm>
                <a:prstGeom prst="pie">
                  <a:avLst/>
                </a:prstGeom>
                <a:gradFill rotWithShape="0">
                  <a:gsLst>
                    <a:gs pos="0">
                      <a:srgbClr val="c3ff19"/>
                    </a:gs>
                    <a:gs pos="100000">
                      <a:srgbClr val="ffff00"/>
                    </a:gs>
                  </a:gsLst>
                  <a:lin ang="5400000"/>
                </a:gradFill>
                <a:ln w="0">
                  <a:noFill/>
                </a:ln>
                <a:effectLst>
                  <a:outerShdw dist="52300" dir="836435" blurRad="0" rotWithShape="0">
                    <a:srgbClr val="74980e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3" name=""/>
          <p:cNvGrpSpPr/>
          <p:nvPr/>
        </p:nvGrpSpPr>
        <p:grpSpPr>
          <a:xfrm>
            <a:off x="1143000" y="4038480"/>
            <a:ext cx="1371240" cy="1523520"/>
            <a:chOff x="1143000" y="4038480"/>
            <a:chExt cx="1371240" cy="1523520"/>
          </a:xfrm>
        </p:grpSpPr>
        <p:grpSp>
          <p:nvGrpSpPr>
            <p:cNvPr id="84" name=""/>
            <p:cNvGrpSpPr/>
            <p:nvPr/>
          </p:nvGrpSpPr>
          <p:grpSpPr>
            <a:xfrm>
              <a:off x="1143000" y="4038480"/>
              <a:ext cx="1371240" cy="1523520"/>
              <a:chOff x="1143000" y="4038480"/>
              <a:chExt cx="1371240" cy="1523520"/>
            </a:xfrm>
          </p:grpSpPr>
          <p:sp>
            <p:nvSpPr>
              <p:cNvPr id="85" name=""/>
              <p:cNvSpPr/>
              <p:nvPr/>
            </p:nvSpPr>
            <p:spPr>
              <a:xfrm>
                <a:off x="1143000" y="4038480"/>
                <a:ext cx="1371240" cy="1523520"/>
              </a:xfrm>
              <a:custGeom>
                <a:avLst/>
                <a:gdLst>
                  <a:gd name="textAreaLeft" fmla="*/ 157320 w 1371240"/>
                  <a:gd name="textAreaRight" fmla="*/ 1213920 w 1371240"/>
                  <a:gd name="textAreaTop" fmla="*/ 157320 h 1523520"/>
                  <a:gd name="textAreaBottom" fmla="*/ 1366200 h 1523520"/>
                </a:gdLst>
                <a:ahLst/>
                <a:rect l="textAreaLeft" t="textAreaTop" r="textAreaRight" b="textAreaBottom"/>
                <a:pathLst>
                  <a:path w="21600" h="23998">
                    <a:moveTo>
                      <a:pt x="8471" y="0"/>
                    </a:moveTo>
                    <a:arcTo wR="8471" hR="8471" stAng="16200000" swAng="-5400000"/>
                    <a:lnTo>
                      <a:pt x="0" y="15527"/>
                    </a:lnTo>
                    <a:arcTo wR="8471" hR="8471" stAng="10800000" swAng="-5400000"/>
                    <a:lnTo>
                      <a:pt x="13129" y="23998"/>
                    </a:lnTo>
                    <a:arcTo wR="8471" hR="8471" stAng="5400000" swAng="-5400000"/>
                    <a:lnTo>
                      <a:pt x="21600" y="8471"/>
                    </a:lnTo>
                    <a:arcTo wR="8471" hR="8471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fefefe"/>
                  </a:gs>
                  <a:gs pos="100000">
                    <a:srgbClr val="808080"/>
                  </a:gs>
                </a:gsLst>
                <a:lin ang="8100000"/>
              </a:gradFill>
              <a:ln w="0">
                <a:noFill/>
              </a:ln>
              <a:effectLst>
                <a:outerShdw dist="17819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223640" y="4123080"/>
                <a:ext cx="1196280" cy="1353960"/>
              </a:xfrm>
              <a:custGeom>
                <a:avLst/>
                <a:gdLst>
                  <a:gd name="textAreaLeft" fmla="*/ 121320 w 1196280"/>
                  <a:gd name="textAreaRight" fmla="*/ 1074960 w 1196280"/>
                  <a:gd name="textAreaTop" fmla="*/ 121320 h 1353960"/>
                  <a:gd name="textAreaBottom" fmla="*/ 1232640 h 1353960"/>
                </a:gdLst>
                <a:ahLst/>
                <a:rect l="textAreaLeft" t="textAreaTop" r="textAreaRight" b="textAreaBottom"/>
                <a:pathLst>
                  <a:path w="21600" h="24446">
                    <a:moveTo>
                      <a:pt x="7493" y="0"/>
                    </a:moveTo>
                    <a:arcTo wR="7493" hR="7493" stAng="16200000" swAng="-5400000"/>
                    <a:lnTo>
                      <a:pt x="0" y="16953"/>
                    </a:lnTo>
                    <a:arcTo wR="7493" hR="7493" stAng="10800000" swAng="-5400000"/>
                    <a:lnTo>
                      <a:pt x="14107" y="24446"/>
                    </a:lnTo>
                    <a:arcTo wR="7493" hR="7493" stAng="5400000" swAng="-5400000"/>
                    <a:lnTo>
                      <a:pt x="21600" y="7493"/>
                    </a:lnTo>
                    <a:arcTo wR="7493" hR="7493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  <a:effectLst>
                <a:outerShdw dist="153753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1244880" y="4114800"/>
              <a:ext cx="1193400" cy="1177920"/>
              <a:chOff x="1244880" y="4114800"/>
              <a:chExt cx="1193400" cy="1177920"/>
            </a:xfrm>
          </p:grpSpPr>
          <p:pic>
            <p:nvPicPr>
              <p:cNvPr id="8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652760" y="4114800"/>
                <a:ext cx="785520" cy="78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PubPieSlice"/>
              <p:cNvSpPr/>
              <p:nvPr/>
            </p:nvSpPr>
            <p:spPr>
              <a:xfrm rot="614400">
                <a:off x="1295640" y="4614480"/>
                <a:ext cx="628200" cy="627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6551" y="1659"/>
                    </a:moveTo>
                    <a:arcTo wR="10800" hR="10800" stAng="-3469539" swAng="-18130461"/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55e00"/>
                  </a:gs>
                  <a:gs pos="50000">
                    <a:srgbClr val="ffcc00"/>
                  </a:gs>
                  <a:gs pos="100000">
                    <a:srgbClr val="755e00"/>
                  </a:gs>
                </a:gsLst>
                <a:lin ang="74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" name=""/>
          <p:cNvGrpSpPr/>
          <p:nvPr/>
        </p:nvGrpSpPr>
        <p:grpSpPr>
          <a:xfrm>
            <a:off x="2971800" y="4038480"/>
            <a:ext cx="1371240" cy="1523880"/>
            <a:chOff x="2971800" y="4038480"/>
            <a:chExt cx="1371240" cy="1523880"/>
          </a:xfrm>
        </p:grpSpPr>
        <p:grpSp>
          <p:nvGrpSpPr>
            <p:cNvPr id="91" name=""/>
            <p:cNvGrpSpPr/>
            <p:nvPr/>
          </p:nvGrpSpPr>
          <p:grpSpPr>
            <a:xfrm>
              <a:off x="2971800" y="4038480"/>
              <a:ext cx="1371240" cy="1523880"/>
              <a:chOff x="2971800" y="4038480"/>
              <a:chExt cx="1371240" cy="1523880"/>
            </a:xfrm>
          </p:grpSpPr>
          <p:sp>
            <p:nvSpPr>
              <p:cNvPr id="92" name=""/>
              <p:cNvSpPr/>
              <p:nvPr/>
            </p:nvSpPr>
            <p:spPr>
              <a:xfrm>
                <a:off x="2971800" y="4038480"/>
                <a:ext cx="1371240" cy="1523880"/>
              </a:xfrm>
              <a:custGeom>
                <a:avLst/>
                <a:gdLst>
                  <a:gd name="textAreaLeft" fmla="*/ 157320 w 1371240"/>
                  <a:gd name="textAreaRight" fmla="*/ 1213920 w 1371240"/>
                  <a:gd name="textAreaTop" fmla="*/ 157320 h 1523880"/>
                  <a:gd name="textAreaBottom" fmla="*/ 1366560 h 1523880"/>
                </a:gdLst>
                <a:ahLst/>
                <a:rect l="textAreaLeft" t="textAreaTop" r="textAreaRight" b="textAreaBottom"/>
                <a:pathLst>
                  <a:path w="21600" h="24004">
                    <a:moveTo>
                      <a:pt x="8471" y="0"/>
                    </a:moveTo>
                    <a:arcTo wR="8471" hR="8471" stAng="16200000" swAng="-5400000"/>
                    <a:lnTo>
                      <a:pt x="0" y="15533"/>
                    </a:lnTo>
                    <a:arcTo wR="8471" hR="8471" stAng="10800000" swAng="-5400000"/>
                    <a:lnTo>
                      <a:pt x="13129" y="24004"/>
                    </a:lnTo>
                    <a:arcTo wR="8471" hR="8471" stAng="5400000" swAng="-5400000"/>
                    <a:lnTo>
                      <a:pt x="21600" y="8471"/>
                    </a:lnTo>
                    <a:arcTo wR="8471" hR="8471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fefefe"/>
                  </a:gs>
                  <a:gs pos="100000">
                    <a:srgbClr val="808080"/>
                  </a:gs>
                </a:gsLst>
                <a:lin ang="8100000"/>
              </a:gradFill>
              <a:ln w="0">
                <a:noFill/>
              </a:ln>
              <a:effectLst>
                <a:outerShdw dist="17819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052440" y="4123080"/>
                <a:ext cx="1196280" cy="1354320"/>
              </a:xfrm>
              <a:custGeom>
                <a:avLst/>
                <a:gdLst>
                  <a:gd name="textAreaLeft" fmla="*/ 121320 w 1196280"/>
                  <a:gd name="textAreaRight" fmla="*/ 1074960 w 1196280"/>
                  <a:gd name="textAreaTop" fmla="*/ 121320 h 1354320"/>
                  <a:gd name="textAreaBottom" fmla="*/ 1233000 h 1354320"/>
                </a:gdLst>
                <a:ahLst/>
                <a:rect l="textAreaLeft" t="textAreaTop" r="textAreaRight" b="textAreaBottom"/>
                <a:pathLst>
                  <a:path w="21600" h="24453">
                    <a:moveTo>
                      <a:pt x="7493" y="0"/>
                    </a:moveTo>
                    <a:arcTo wR="7493" hR="7493" stAng="16200000" swAng="-5400000"/>
                    <a:lnTo>
                      <a:pt x="0" y="16960"/>
                    </a:lnTo>
                    <a:arcTo wR="7493" hR="7493" stAng="10800000" swAng="-5400000"/>
                    <a:lnTo>
                      <a:pt x="14107" y="24453"/>
                    </a:lnTo>
                    <a:arcTo wR="7493" hR="7493" stAng="5400000" swAng="-5400000"/>
                    <a:lnTo>
                      <a:pt x="21600" y="7493"/>
                    </a:lnTo>
                    <a:arcTo wR="7493" hR="7493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  <a:effectLst>
                <a:outerShdw dist="153753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4" name="" descr="Nombre de archivo: j0335776.wmf&#13;Palabras clave: artículo del hogar, llaves, llaves de casa ...&#13;Tamaño de archivo: 65 KB"/>
            <p:cNvPicPr/>
            <p:nvPr/>
          </p:nvPicPr>
          <p:blipFill>
            <a:blip r:embed="rId4"/>
            <a:stretch/>
          </p:blipFill>
          <p:spPr>
            <a:xfrm rot="6326400">
              <a:off x="3124080" y="4267080"/>
              <a:ext cx="990720" cy="99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6705720" y="4038480"/>
            <a:ext cx="1371240" cy="1523520"/>
            <a:chOff x="6705720" y="4038480"/>
            <a:chExt cx="1371240" cy="1523520"/>
          </a:xfrm>
        </p:grpSpPr>
        <p:grpSp>
          <p:nvGrpSpPr>
            <p:cNvPr id="96" name=""/>
            <p:cNvGrpSpPr/>
            <p:nvPr/>
          </p:nvGrpSpPr>
          <p:grpSpPr>
            <a:xfrm>
              <a:off x="6705720" y="4038480"/>
              <a:ext cx="1371240" cy="1523520"/>
              <a:chOff x="6705720" y="4038480"/>
              <a:chExt cx="1371240" cy="1523520"/>
            </a:xfrm>
          </p:grpSpPr>
          <p:sp>
            <p:nvSpPr>
              <p:cNvPr id="97" name=""/>
              <p:cNvSpPr/>
              <p:nvPr/>
            </p:nvSpPr>
            <p:spPr>
              <a:xfrm>
                <a:off x="6705720" y="4038480"/>
                <a:ext cx="1371240" cy="1523520"/>
              </a:xfrm>
              <a:custGeom>
                <a:avLst/>
                <a:gdLst>
                  <a:gd name="textAreaLeft" fmla="*/ 157320 w 1371240"/>
                  <a:gd name="textAreaRight" fmla="*/ 1213920 w 1371240"/>
                  <a:gd name="textAreaTop" fmla="*/ 157320 h 1523520"/>
                  <a:gd name="textAreaBottom" fmla="*/ 1366200 h 1523520"/>
                </a:gdLst>
                <a:ahLst/>
                <a:rect l="textAreaLeft" t="textAreaTop" r="textAreaRight" b="textAreaBottom"/>
                <a:pathLst>
                  <a:path w="21600" h="23998">
                    <a:moveTo>
                      <a:pt x="8471" y="0"/>
                    </a:moveTo>
                    <a:arcTo wR="8471" hR="8471" stAng="16200000" swAng="-5400000"/>
                    <a:lnTo>
                      <a:pt x="0" y="15527"/>
                    </a:lnTo>
                    <a:arcTo wR="8471" hR="8471" stAng="10800000" swAng="-5400000"/>
                    <a:lnTo>
                      <a:pt x="13129" y="23998"/>
                    </a:lnTo>
                    <a:arcTo wR="8471" hR="8471" stAng="5400000" swAng="-5400000"/>
                    <a:lnTo>
                      <a:pt x="21600" y="8471"/>
                    </a:lnTo>
                    <a:arcTo wR="8471" hR="8471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fefefe"/>
                  </a:gs>
                  <a:gs pos="100000">
                    <a:srgbClr val="808080"/>
                  </a:gs>
                </a:gsLst>
                <a:lin ang="8100000"/>
              </a:gradFill>
              <a:ln w="0">
                <a:noFill/>
              </a:ln>
              <a:effectLst>
                <a:outerShdw dist="17819" dir="2700000" blurRad="0" rotWithShape="0">
                  <a:srgbClr val="4c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786360" y="4123080"/>
                <a:ext cx="1196280" cy="1353960"/>
              </a:xfrm>
              <a:custGeom>
                <a:avLst/>
                <a:gdLst>
                  <a:gd name="textAreaLeft" fmla="*/ 121320 w 1196280"/>
                  <a:gd name="textAreaRight" fmla="*/ 1074960 w 1196280"/>
                  <a:gd name="textAreaTop" fmla="*/ 121320 h 1353960"/>
                  <a:gd name="textAreaBottom" fmla="*/ 1232640 h 1353960"/>
                </a:gdLst>
                <a:ahLst/>
                <a:rect l="textAreaLeft" t="textAreaTop" r="textAreaRight" b="textAreaBottom"/>
                <a:pathLst>
                  <a:path w="21600" h="24446">
                    <a:moveTo>
                      <a:pt x="7493" y="0"/>
                    </a:moveTo>
                    <a:arcTo wR="7493" hR="7493" stAng="16200000" swAng="-5400000"/>
                    <a:lnTo>
                      <a:pt x="0" y="16953"/>
                    </a:lnTo>
                    <a:arcTo wR="7493" hR="7493" stAng="10800000" swAng="-5400000"/>
                    <a:lnTo>
                      <a:pt x="14107" y="24446"/>
                    </a:lnTo>
                    <a:arcTo wR="7493" hR="7493" stAng="5400000" swAng="-5400000"/>
                    <a:lnTo>
                      <a:pt x="21600" y="7493"/>
                    </a:lnTo>
                    <a:arcTo wR="7493" hR="7493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  <a:effectLst>
                <a:outerShdw dist="153753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6826320" y="4190760"/>
              <a:ext cx="1100520" cy="1303200"/>
              <a:chOff x="6826320" y="4190760"/>
              <a:chExt cx="1100520" cy="1303200"/>
            </a:xfrm>
          </p:grpSpPr>
          <p:pic>
            <p:nvPicPr>
              <p:cNvPr id="10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826320" y="4190760"/>
                <a:ext cx="1098720" cy="1303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1" name=""/>
          <p:cNvGrpSpPr/>
          <p:nvPr/>
        </p:nvGrpSpPr>
        <p:grpSpPr>
          <a:xfrm>
            <a:off x="4800600" y="1828800"/>
            <a:ext cx="1371600" cy="2057400"/>
            <a:chOff x="4800600" y="1828800"/>
            <a:chExt cx="1371600" cy="2057400"/>
          </a:xfrm>
        </p:grpSpPr>
        <p:sp>
          <p:nvSpPr>
            <p:cNvPr id="102" name=""/>
            <p:cNvSpPr txBox="1"/>
            <p:nvPr/>
          </p:nvSpPr>
          <p:spPr>
            <a:xfrm>
              <a:off x="4800600" y="3475080"/>
              <a:ext cx="1371600" cy="4111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8f8f8"/>
                  </a:solidFill>
                  <a:effectLst>
                    <a:outerShdw dist="17819" dir="2700000" blurRad="0" rotWithShape="0">
                      <a:srgbClr val="ffffff"/>
                    </a:outerShdw>
                  </a:effectLst>
                  <a:latin typeface="Dotum"/>
                </a:rPr>
                <a:t>TIPOS DE </a:t>
              </a:r>
              <a:endParaRPr b="1" lang="en-US" sz="1800" spc="1" strike="noStrike">
                <a:ln w="0">
                  <a:noFill/>
                </a:ln>
                <a:solidFill>
                  <a:srgbClr val="f8f8f8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Dotum"/>
                <a:ea typeface="Dotum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8f8f8"/>
                  </a:solidFill>
                  <a:effectLst>
                    <a:outerShdw dist="17819" dir="2700000" blurRad="0" rotWithShape="0">
                      <a:srgbClr val="ffffff"/>
                    </a:outerShdw>
                  </a:effectLst>
                  <a:latin typeface="Dotum"/>
                </a:rPr>
                <a:t>COMPETENCIAS</a:t>
              </a:r>
              <a:endParaRPr b="1" lang="en-US" sz="1800" spc="1" strike="noStrike">
                <a:ln w="0">
                  <a:noFill/>
                </a:ln>
                <a:solidFill>
                  <a:srgbClr val="f8f8f8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Dotum"/>
                <a:ea typeface="Dotum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4800600" y="1828800"/>
              <a:ext cx="1371600" cy="1523880"/>
              <a:chOff x="4800600" y="1828800"/>
              <a:chExt cx="1371600" cy="1523880"/>
            </a:xfrm>
          </p:grpSpPr>
          <p:grpSp>
            <p:nvGrpSpPr>
              <p:cNvPr id="104" name=""/>
              <p:cNvGrpSpPr/>
              <p:nvPr/>
            </p:nvGrpSpPr>
            <p:grpSpPr>
              <a:xfrm>
                <a:off x="4800600" y="1828800"/>
                <a:ext cx="1371240" cy="1523880"/>
                <a:chOff x="4800600" y="1828800"/>
                <a:chExt cx="1371240" cy="152388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4800600" y="1828800"/>
                  <a:ext cx="1371240" cy="1523880"/>
                </a:xfrm>
                <a:custGeom>
                  <a:avLst/>
                  <a:gdLst>
                    <a:gd name="textAreaLeft" fmla="*/ 157320 w 1371240"/>
                    <a:gd name="textAreaRight" fmla="*/ 1213920 w 1371240"/>
                    <a:gd name="textAreaTop" fmla="*/ 157320 h 1523880"/>
                    <a:gd name="textAreaBottom" fmla="*/ 1366560 h 1523880"/>
                  </a:gdLst>
                  <a:ahLst/>
                  <a:rect l="textAreaLeft" t="textAreaTop" r="textAreaRight" b="textAreaBottom"/>
                  <a:pathLst>
                    <a:path w="21600" h="24004">
                      <a:moveTo>
                        <a:pt x="8471" y="0"/>
                      </a:moveTo>
                      <a:arcTo wR="8471" hR="8471" stAng="16200000" swAng="-5400000"/>
                      <a:lnTo>
                        <a:pt x="0" y="15533"/>
                      </a:lnTo>
                      <a:arcTo wR="8471" hR="8471" stAng="10800000" swAng="-5400000"/>
                      <a:lnTo>
                        <a:pt x="13129" y="24004"/>
                      </a:lnTo>
                      <a:arcTo wR="8471" hR="8471" stAng="5400000" swAng="-5400000"/>
                      <a:lnTo>
                        <a:pt x="21600" y="8471"/>
                      </a:lnTo>
                      <a:arcTo wR="8471" hR="8471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fefefe"/>
                    </a:gs>
                    <a:gs pos="100000">
                      <a:srgbClr val="808080"/>
                    </a:gs>
                  </a:gsLst>
                  <a:lin ang="8100000"/>
                </a:gradFill>
                <a:ln w="0">
                  <a:noFill/>
                </a:ln>
                <a:effectLst>
                  <a:outerShdw dist="17819" dir="2700000" blurRad="0" rotWithShape="0">
                    <a:srgbClr val="4c4c4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881240" y="1913400"/>
                  <a:ext cx="1196280" cy="1354320"/>
                </a:xfrm>
                <a:custGeom>
                  <a:avLst/>
                  <a:gdLst>
                    <a:gd name="textAreaLeft" fmla="*/ 121320 w 1196280"/>
                    <a:gd name="textAreaRight" fmla="*/ 1074960 w 1196280"/>
                    <a:gd name="textAreaTop" fmla="*/ 121320 h 1354320"/>
                    <a:gd name="textAreaBottom" fmla="*/ 1233000 h 1354320"/>
                  </a:gdLst>
                  <a:ahLst/>
                  <a:rect l="textAreaLeft" t="textAreaTop" r="textAreaRight" b="textAreaBottom"/>
                  <a:pathLst>
                    <a:path w="21600" h="24453">
                      <a:moveTo>
                        <a:pt x="7493" y="0"/>
                      </a:moveTo>
                      <a:arcTo wR="7493" hR="7493" stAng="16200000" swAng="-5400000"/>
                      <a:lnTo>
                        <a:pt x="0" y="16960"/>
                      </a:lnTo>
                      <a:arcTo wR="7493" hR="7493" stAng="10800000" swAng="-5400000"/>
                      <a:lnTo>
                        <a:pt x="14107" y="24453"/>
                      </a:lnTo>
                      <a:arcTo wR="7493" hR="7493" stAng="5400000" swAng="-5400000"/>
                      <a:lnTo>
                        <a:pt x="21600" y="7493"/>
                      </a:lnTo>
                      <a:arcTo wR="7493" hR="7493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50000">
                      <a:srgbClr val="dcdcdc"/>
                    </a:gs>
                    <a:gs pos="100000">
                      <a:srgbClr val="b2b2b2"/>
                    </a:gs>
                  </a:gsLst>
                  <a:lin ang="10800000"/>
                </a:gradFill>
                <a:ln w="0">
                  <a:noFill/>
                </a:ln>
                <a:effectLst>
                  <a:outerShdw dist="153753" dir="2700000" blurRad="0" rotWithShape="0">
                    <a:srgbClr val="6a6a6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" name=""/>
              <p:cNvSpPr txBox="1"/>
              <p:nvPr/>
            </p:nvSpPr>
            <p:spPr>
              <a:xfrm>
                <a:off x="4800600" y="2079720"/>
                <a:ext cx="1371600" cy="89208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ffffff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effectLst>
                      <a:outerShdw dist="17819" dir="2700000" blurRad="0" rotWithShape="0">
                        <a:srgbClr val="224568"/>
                      </a:outerShdw>
                    </a:effectLst>
                    <a:latin typeface="Bradley Hand ITC"/>
                  </a:rPr>
                  <a:t>TIPOS</a:t>
                </a:r>
                <a:endPara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0000"/>
                      </a:gs>
                      <a:gs pos="50000">
                        <a:srgbClr val="ffffff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224568"/>
                    </a:outerShdw>
                  </a:effectLst>
                  <a:latin typeface="Bradley Hand ITC"/>
                  <a:ea typeface="Bradley Hand ITC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ffffff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effectLst>
                      <a:outerShdw dist="17819" dir="2700000" blurRad="0" rotWithShape="0">
                        <a:srgbClr val="224568"/>
                      </a:outerShdw>
                    </a:effectLst>
                    <a:latin typeface="Bradley Hand ITC"/>
                  </a:rPr>
                  <a:t> </a:t>
                </a:r>
                <a:r>
                  <a:rPr b="1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ffffff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effectLst>
                      <a:outerShdw dist="17819" dir="2700000" blurRad="0" rotWithShape="0">
                        <a:srgbClr val="224568"/>
                      </a:outerShdw>
                    </a:effectLst>
                    <a:latin typeface="Bradley Hand ITC"/>
                  </a:rPr>
                  <a:t>DE </a:t>
                </a:r>
                <a:endPara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0000"/>
                      </a:gs>
                      <a:gs pos="50000">
                        <a:srgbClr val="ffffff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224568"/>
                    </a:outerShdw>
                  </a:effectLst>
                  <a:latin typeface="Bradley Hand ITC"/>
                  <a:ea typeface="Bradley Hand ITC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ffffff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effectLst>
                      <a:outerShdw dist="17819" dir="2700000" blurRad="0" rotWithShape="0">
                        <a:srgbClr val="224568"/>
                      </a:outerShdw>
                    </a:effectLst>
                    <a:latin typeface="Bradley Hand ITC"/>
                  </a:rPr>
                  <a:t>COMPETENCIAS</a:t>
                </a:r>
                <a:endPara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000000"/>
                      </a:gs>
                      <a:gs pos="50000">
                        <a:srgbClr val="ffffff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224568"/>
                    </a:outerShdw>
                  </a:effectLst>
                  <a:latin typeface="Bradley Hand ITC"/>
                  <a:ea typeface="Bradley Hand ITC"/>
                </a:endParaRPr>
              </a:p>
            </p:txBody>
          </p:sp>
        </p:grpSp>
      </p:grpSp>
      <p:sp>
        <p:nvSpPr>
          <p:cNvPr id="108" name="">
            <a:hlinkClick r:id="rId6" action="ppaction://hlinksldjump"/>
          </p:cNvPr>
          <p:cNvSpPr/>
          <p:nvPr/>
        </p:nvSpPr>
        <p:spPr>
          <a:xfrm>
            <a:off x="1219320" y="1905120"/>
            <a:ext cx="1295280" cy="1371600"/>
          </a:xfrm>
          <a:custGeom>
            <a:avLst/>
            <a:gdLst>
              <a:gd name="textAreaLeft" fmla="*/ 133920 w 1295280"/>
              <a:gd name="textAreaRight" fmla="*/ 1161360 w 1295280"/>
              <a:gd name="textAreaTop" fmla="*/ 133920 h 1371600"/>
              <a:gd name="textAreaBottom" fmla="*/ 1237680 h 1371600"/>
            </a:gdLst>
            <a:ahLst/>
            <a:rect l="textAreaLeft" t="textAreaTop" r="textAreaRight" b="textAreaBottom"/>
            <a:pathLst>
              <a:path w="21600" h="22872">
                <a:moveTo>
                  <a:pt x="7624" y="0"/>
                </a:moveTo>
                <a:arcTo wR="7624" hR="7624" stAng="16200000" swAng="-5400000"/>
                <a:lnTo>
                  <a:pt x="0" y="15248"/>
                </a:lnTo>
                <a:arcTo wR="7624" hR="7624" stAng="10800000" swAng="-5400000"/>
                <a:lnTo>
                  <a:pt x="13976" y="22872"/>
                </a:lnTo>
                <a:arcTo wR="7624" hR="7624" stAng="5400000" swAng="-5400000"/>
                <a:lnTo>
                  <a:pt x="21600" y="7624"/>
                </a:lnTo>
                <a:arcTo wR="7624" hR="7624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10196"/>
                </a:srgbClr>
              </a:gs>
              <a:gs pos="100000">
                <a:srgbClr val="fefefe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7" action="ppaction://hlinksldjump"/>
          </p:cNvPr>
          <p:cNvSpPr/>
          <p:nvPr/>
        </p:nvSpPr>
        <p:spPr>
          <a:xfrm>
            <a:off x="3048120" y="1905120"/>
            <a:ext cx="1295280" cy="1371600"/>
          </a:xfrm>
          <a:custGeom>
            <a:avLst/>
            <a:gdLst>
              <a:gd name="textAreaLeft" fmla="*/ 133920 w 1295280"/>
              <a:gd name="textAreaRight" fmla="*/ 1161360 w 1295280"/>
              <a:gd name="textAreaTop" fmla="*/ 133920 h 1371600"/>
              <a:gd name="textAreaBottom" fmla="*/ 1237680 h 1371600"/>
            </a:gdLst>
            <a:ahLst/>
            <a:rect l="textAreaLeft" t="textAreaTop" r="textAreaRight" b="textAreaBottom"/>
            <a:pathLst>
              <a:path w="21600" h="22872">
                <a:moveTo>
                  <a:pt x="7624" y="0"/>
                </a:moveTo>
                <a:arcTo wR="7624" hR="7624" stAng="16200000" swAng="-5400000"/>
                <a:lnTo>
                  <a:pt x="0" y="15248"/>
                </a:lnTo>
                <a:arcTo wR="7624" hR="7624" stAng="10800000" swAng="-5400000"/>
                <a:lnTo>
                  <a:pt x="13976" y="22872"/>
                </a:lnTo>
                <a:arcTo wR="7624" hR="7624" stAng="5400000" swAng="-5400000"/>
                <a:lnTo>
                  <a:pt x="21600" y="7624"/>
                </a:lnTo>
                <a:arcTo wR="7624" hR="7624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10196"/>
                </a:srgbClr>
              </a:gs>
              <a:gs pos="100000">
                <a:srgbClr val="fefefe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8" action="ppaction://hlinksldjump"/>
          </p:cNvPr>
          <p:cNvSpPr/>
          <p:nvPr/>
        </p:nvSpPr>
        <p:spPr>
          <a:xfrm>
            <a:off x="4876920" y="1905120"/>
            <a:ext cx="1295280" cy="1371600"/>
          </a:xfrm>
          <a:custGeom>
            <a:avLst/>
            <a:gdLst>
              <a:gd name="textAreaLeft" fmla="*/ 133920 w 1295280"/>
              <a:gd name="textAreaRight" fmla="*/ 1161360 w 1295280"/>
              <a:gd name="textAreaTop" fmla="*/ 133920 h 1371600"/>
              <a:gd name="textAreaBottom" fmla="*/ 1237680 h 1371600"/>
            </a:gdLst>
            <a:ahLst/>
            <a:rect l="textAreaLeft" t="textAreaTop" r="textAreaRight" b="textAreaBottom"/>
            <a:pathLst>
              <a:path w="21600" h="22872">
                <a:moveTo>
                  <a:pt x="7624" y="0"/>
                </a:moveTo>
                <a:arcTo wR="7624" hR="7624" stAng="16200000" swAng="-5400000"/>
                <a:lnTo>
                  <a:pt x="0" y="15248"/>
                </a:lnTo>
                <a:arcTo wR="7624" hR="7624" stAng="10800000" swAng="-5400000"/>
                <a:lnTo>
                  <a:pt x="13976" y="22872"/>
                </a:lnTo>
                <a:arcTo wR="7624" hR="7624" stAng="5400000" swAng="-5400000"/>
                <a:lnTo>
                  <a:pt x="21600" y="7624"/>
                </a:lnTo>
                <a:arcTo wR="7624" hR="7624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10196"/>
                </a:srgbClr>
              </a:gs>
              <a:gs pos="100000">
                <a:srgbClr val="fefefe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9" action="ppaction://hlinksldjump"/>
          </p:cNvPr>
          <p:cNvSpPr/>
          <p:nvPr/>
        </p:nvSpPr>
        <p:spPr>
          <a:xfrm>
            <a:off x="6705720" y="1905120"/>
            <a:ext cx="1295280" cy="1371600"/>
          </a:xfrm>
          <a:custGeom>
            <a:avLst/>
            <a:gdLst>
              <a:gd name="textAreaLeft" fmla="*/ 133920 w 1295280"/>
              <a:gd name="textAreaRight" fmla="*/ 1161360 w 1295280"/>
              <a:gd name="textAreaTop" fmla="*/ 133920 h 1371600"/>
              <a:gd name="textAreaBottom" fmla="*/ 1237680 h 1371600"/>
            </a:gdLst>
            <a:ahLst/>
            <a:rect l="textAreaLeft" t="textAreaTop" r="textAreaRight" b="textAreaBottom"/>
            <a:pathLst>
              <a:path w="21600" h="22872">
                <a:moveTo>
                  <a:pt x="7624" y="0"/>
                </a:moveTo>
                <a:arcTo wR="7624" hR="7624" stAng="16200000" swAng="-5400000"/>
                <a:lnTo>
                  <a:pt x="0" y="15248"/>
                </a:lnTo>
                <a:arcTo wR="7624" hR="7624" stAng="10800000" swAng="-5400000"/>
                <a:lnTo>
                  <a:pt x="13976" y="22872"/>
                </a:lnTo>
                <a:arcTo wR="7624" hR="7624" stAng="5400000" swAng="-5400000"/>
                <a:lnTo>
                  <a:pt x="21600" y="7624"/>
                </a:lnTo>
                <a:arcTo wR="7624" hR="7624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10196"/>
                </a:srgbClr>
              </a:gs>
              <a:gs pos="100000">
                <a:srgbClr val="fefefe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10" action="ppaction://hlinksldjump"/>
          </p:cNvPr>
          <p:cNvSpPr/>
          <p:nvPr/>
        </p:nvSpPr>
        <p:spPr>
          <a:xfrm>
            <a:off x="1219320" y="4114800"/>
            <a:ext cx="1295280" cy="1371600"/>
          </a:xfrm>
          <a:custGeom>
            <a:avLst/>
            <a:gdLst>
              <a:gd name="textAreaLeft" fmla="*/ 133920 w 1295280"/>
              <a:gd name="textAreaRight" fmla="*/ 1161360 w 1295280"/>
              <a:gd name="textAreaTop" fmla="*/ 133920 h 1371600"/>
              <a:gd name="textAreaBottom" fmla="*/ 1237680 h 1371600"/>
            </a:gdLst>
            <a:ahLst/>
            <a:rect l="textAreaLeft" t="textAreaTop" r="textAreaRight" b="textAreaBottom"/>
            <a:pathLst>
              <a:path w="21600" h="22872">
                <a:moveTo>
                  <a:pt x="7624" y="0"/>
                </a:moveTo>
                <a:arcTo wR="7624" hR="7624" stAng="16200000" swAng="-5400000"/>
                <a:lnTo>
                  <a:pt x="0" y="15248"/>
                </a:lnTo>
                <a:arcTo wR="7624" hR="7624" stAng="10800000" swAng="-5400000"/>
                <a:lnTo>
                  <a:pt x="13976" y="22872"/>
                </a:lnTo>
                <a:arcTo wR="7624" hR="7624" stAng="5400000" swAng="-5400000"/>
                <a:lnTo>
                  <a:pt x="21600" y="7624"/>
                </a:lnTo>
                <a:arcTo wR="7624" hR="7624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10196"/>
                </a:srgbClr>
              </a:gs>
              <a:gs pos="100000">
                <a:srgbClr val="fefefe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11" action="ppaction://hlinksldjump"/>
          </p:cNvPr>
          <p:cNvSpPr/>
          <p:nvPr/>
        </p:nvSpPr>
        <p:spPr>
          <a:xfrm>
            <a:off x="3048120" y="4114800"/>
            <a:ext cx="1295280" cy="1371600"/>
          </a:xfrm>
          <a:custGeom>
            <a:avLst/>
            <a:gdLst>
              <a:gd name="textAreaLeft" fmla="*/ 133920 w 1295280"/>
              <a:gd name="textAreaRight" fmla="*/ 1161360 w 1295280"/>
              <a:gd name="textAreaTop" fmla="*/ 133920 h 1371600"/>
              <a:gd name="textAreaBottom" fmla="*/ 1237680 h 1371600"/>
            </a:gdLst>
            <a:ahLst/>
            <a:rect l="textAreaLeft" t="textAreaTop" r="textAreaRight" b="textAreaBottom"/>
            <a:pathLst>
              <a:path w="21600" h="22872">
                <a:moveTo>
                  <a:pt x="7624" y="0"/>
                </a:moveTo>
                <a:arcTo wR="7624" hR="7624" stAng="16200000" swAng="-5400000"/>
                <a:lnTo>
                  <a:pt x="0" y="15248"/>
                </a:lnTo>
                <a:arcTo wR="7624" hR="7624" stAng="10800000" swAng="-5400000"/>
                <a:lnTo>
                  <a:pt x="13976" y="22872"/>
                </a:lnTo>
                <a:arcTo wR="7624" hR="7624" stAng="5400000" swAng="-5400000"/>
                <a:lnTo>
                  <a:pt x="21600" y="7624"/>
                </a:lnTo>
                <a:arcTo wR="7624" hR="7624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10196"/>
                </a:srgbClr>
              </a:gs>
              <a:gs pos="100000">
                <a:srgbClr val="fefefe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12" action="ppaction://hlinksldjump"/>
          </p:cNvPr>
          <p:cNvSpPr/>
          <p:nvPr/>
        </p:nvSpPr>
        <p:spPr>
          <a:xfrm>
            <a:off x="4876920" y="4114800"/>
            <a:ext cx="1295280" cy="1371600"/>
          </a:xfrm>
          <a:custGeom>
            <a:avLst/>
            <a:gdLst>
              <a:gd name="textAreaLeft" fmla="*/ 133920 w 1295280"/>
              <a:gd name="textAreaRight" fmla="*/ 1161360 w 1295280"/>
              <a:gd name="textAreaTop" fmla="*/ 133920 h 1371600"/>
              <a:gd name="textAreaBottom" fmla="*/ 1237680 h 1371600"/>
            </a:gdLst>
            <a:ahLst/>
            <a:rect l="textAreaLeft" t="textAreaTop" r="textAreaRight" b="textAreaBottom"/>
            <a:pathLst>
              <a:path w="21600" h="22872">
                <a:moveTo>
                  <a:pt x="7624" y="0"/>
                </a:moveTo>
                <a:arcTo wR="7624" hR="7624" stAng="16200000" swAng="-5400000"/>
                <a:lnTo>
                  <a:pt x="0" y="15248"/>
                </a:lnTo>
                <a:arcTo wR="7624" hR="7624" stAng="10800000" swAng="-5400000"/>
                <a:lnTo>
                  <a:pt x="13976" y="22872"/>
                </a:lnTo>
                <a:arcTo wR="7624" hR="7624" stAng="5400000" swAng="-5400000"/>
                <a:lnTo>
                  <a:pt x="21600" y="7624"/>
                </a:lnTo>
                <a:arcTo wR="7624" hR="7624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10196"/>
                </a:srgbClr>
              </a:gs>
              <a:gs pos="100000">
                <a:srgbClr val="fefefe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Nombre de archivo: j0335776.wmf&#13;Palabras clave: artículo del hogar, llaves, llaves de casa ...&#13;Tamaño de archivo: 65 KB"/>
          <p:cNvPicPr/>
          <p:nvPr/>
        </p:nvPicPr>
        <p:blipFill>
          <a:blip r:embed="rId13"/>
          <a:stretch/>
        </p:blipFill>
        <p:spPr>
          <a:xfrm rot="8627400">
            <a:off x="7238520" y="4341600"/>
            <a:ext cx="685800" cy="687240"/>
          </a:xfrm>
          <a:prstGeom prst="rect">
            <a:avLst/>
          </a:prstGeom>
          <a:ln w="0">
            <a:noFill/>
          </a:ln>
        </p:spPr>
      </p:pic>
      <p:sp>
        <p:nvSpPr>
          <p:cNvPr id="116" name="">
            <a:hlinkClick r:id="rId14" action="ppaction://hlinksldjump"/>
          </p:cNvPr>
          <p:cNvSpPr/>
          <p:nvPr/>
        </p:nvSpPr>
        <p:spPr>
          <a:xfrm>
            <a:off x="6781680" y="4114800"/>
            <a:ext cx="1295640" cy="1371600"/>
          </a:xfrm>
          <a:custGeom>
            <a:avLst/>
            <a:gdLst>
              <a:gd name="textAreaLeft" fmla="*/ 133920 w 1295640"/>
              <a:gd name="textAreaRight" fmla="*/ 1161720 w 1295640"/>
              <a:gd name="textAreaTop" fmla="*/ 133920 h 1371600"/>
              <a:gd name="textAreaBottom" fmla="*/ 1237680 h 1371600"/>
            </a:gdLst>
            <a:ahLst/>
            <a:rect l="textAreaLeft" t="textAreaTop" r="textAreaRight" b="textAreaBottom"/>
            <a:pathLst>
              <a:path w="21600" h="22866">
                <a:moveTo>
                  <a:pt x="7624" y="0"/>
                </a:moveTo>
                <a:arcTo wR="7624" hR="7624" stAng="16200000" swAng="-5400000"/>
                <a:lnTo>
                  <a:pt x="0" y="15242"/>
                </a:lnTo>
                <a:arcTo wR="7624" hR="7624" stAng="10800000" swAng="-5400000"/>
                <a:lnTo>
                  <a:pt x="13976" y="22866"/>
                </a:lnTo>
                <a:arcTo wR="7624" hR="7624" stAng="5400000" swAng="-5400000"/>
                <a:lnTo>
                  <a:pt x="21600" y="7624"/>
                </a:lnTo>
                <a:arcTo wR="7624" hR="7624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10196"/>
                </a:srgbClr>
              </a:gs>
              <a:gs pos="100000">
                <a:srgbClr val="fefefe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7c9c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80880" y="380880"/>
            <a:ext cx="8610840" cy="6324840"/>
          </a:xfrm>
          <a:prstGeom prst="flowChartPunchedCard">
            <a:avLst/>
          </a:prstGeom>
          <a:gradFill rotWithShape="0">
            <a:gsLst>
              <a:gs pos="0">
                <a:srgbClr val="80808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04920" y="304920"/>
            <a:ext cx="8610480" cy="6324480"/>
          </a:xfrm>
          <a:prstGeom prst="flowChartPunchedCard">
            <a:avLst/>
          </a:prstGeom>
          <a:gradFill rotWithShape="0">
            <a:gsLst>
              <a:gs pos="0">
                <a:srgbClr val="eaeaea"/>
              </a:gs>
              <a:gs pos="50000">
                <a:srgbClr val="fefefe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0"/>
            <a:ext cx="914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914400" y="1676520"/>
            <a:ext cx="7467120" cy="4660200"/>
            <a:chOff x="914400" y="1676520"/>
            <a:chExt cx="7467120" cy="4660200"/>
          </a:xfrm>
        </p:grpSpPr>
        <p:grpSp>
          <p:nvGrpSpPr>
            <p:cNvPr id="332" name=""/>
            <p:cNvGrpSpPr/>
            <p:nvPr/>
          </p:nvGrpSpPr>
          <p:grpSpPr>
            <a:xfrm>
              <a:off x="1290600" y="1979280"/>
              <a:ext cx="6902640" cy="3690720"/>
              <a:chOff x="1290600" y="1979280"/>
              <a:chExt cx="6902640" cy="3690720"/>
            </a:xfrm>
          </p:grpSpPr>
          <p:sp>
            <p:nvSpPr>
              <p:cNvPr id="333" name=""/>
              <p:cNvSpPr/>
              <p:nvPr/>
            </p:nvSpPr>
            <p:spPr>
              <a:xfrm>
                <a:off x="1290600" y="1979280"/>
                <a:ext cx="6882120" cy="3690720"/>
              </a:xfrm>
              <a:custGeom>
                <a:avLst/>
                <a:gdLst/>
                <a:ahLst/>
                <a:rect l="l" t="t" r="r" b="b"/>
                <a:pathLst>
                  <a:path w="4974" h="2609">
                    <a:moveTo>
                      <a:pt x="529" y="916"/>
                    </a:moveTo>
                    <a:cubicBezTo>
                      <a:pt x="294" y="1078"/>
                      <a:pt x="60" y="1241"/>
                      <a:pt x="30" y="1460"/>
                    </a:cubicBezTo>
                    <a:cubicBezTo>
                      <a:pt x="0" y="1679"/>
                      <a:pt x="181" y="2133"/>
                      <a:pt x="347" y="2231"/>
                    </a:cubicBezTo>
                    <a:cubicBezTo>
                      <a:pt x="513" y="2329"/>
                      <a:pt x="809" y="2027"/>
                      <a:pt x="1028" y="2050"/>
                    </a:cubicBezTo>
                    <a:cubicBezTo>
                      <a:pt x="1247" y="2073"/>
                      <a:pt x="1451" y="2276"/>
                      <a:pt x="1663" y="2367"/>
                    </a:cubicBezTo>
                    <a:cubicBezTo>
                      <a:pt x="1875" y="2458"/>
                      <a:pt x="2086" y="2609"/>
                      <a:pt x="2298" y="2594"/>
                    </a:cubicBezTo>
                    <a:cubicBezTo>
                      <a:pt x="2510" y="2579"/>
                      <a:pt x="2744" y="2374"/>
                      <a:pt x="2933" y="2276"/>
                    </a:cubicBezTo>
                    <a:cubicBezTo>
                      <a:pt x="3122" y="2178"/>
                      <a:pt x="3273" y="2042"/>
                      <a:pt x="3432" y="2004"/>
                    </a:cubicBezTo>
                    <a:cubicBezTo>
                      <a:pt x="3591" y="1966"/>
                      <a:pt x="3756" y="2020"/>
                      <a:pt x="3885" y="2050"/>
                    </a:cubicBezTo>
                    <a:cubicBezTo>
                      <a:pt x="4014" y="2080"/>
                      <a:pt x="4059" y="2171"/>
                      <a:pt x="4203" y="2186"/>
                    </a:cubicBezTo>
                    <a:cubicBezTo>
                      <a:pt x="4347" y="2201"/>
                      <a:pt x="4641" y="2208"/>
                      <a:pt x="4747" y="2140"/>
                    </a:cubicBezTo>
                    <a:cubicBezTo>
                      <a:pt x="4853" y="2072"/>
                      <a:pt x="4830" y="1966"/>
                      <a:pt x="4838" y="1777"/>
                    </a:cubicBezTo>
                    <a:cubicBezTo>
                      <a:pt x="4846" y="1588"/>
                      <a:pt x="4778" y="1263"/>
                      <a:pt x="4793" y="1006"/>
                    </a:cubicBezTo>
                    <a:cubicBezTo>
                      <a:pt x="4808" y="749"/>
                      <a:pt x="4974" y="401"/>
                      <a:pt x="4929" y="235"/>
                    </a:cubicBezTo>
                    <a:cubicBezTo>
                      <a:pt x="4884" y="69"/>
                      <a:pt x="4694" y="0"/>
                      <a:pt x="4520" y="8"/>
                    </a:cubicBezTo>
                    <a:cubicBezTo>
                      <a:pt x="4346" y="16"/>
                      <a:pt x="4112" y="183"/>
                      <a:pt x="3885" y="281"/>
                    </a:cubicBezTo>
                    <a:cubicBezTo>
                      <a:pt x="3658" y="379"/>
                      <a:pt x="3402" y="538"/>
                      <a:pt x="3160" y="598"/>
                    </a:cubicBezTo>
                    <a:cubicBezTo>
                      <a:pt x="2918" y="658"/>
                      <a:pt x="2615" y="681"/>
                      <a:pt x="2434" y="643"/>
                    </a:cubicBezTo>
                    <a:cubicBezTo>
                      <a:pt x="2253" y="605"/>
                      <a:pt x="2162" y="439"/>
                      <a:pt x="2071" y="371"/>
                    </a:cubicBezTo>
                    <a:cubicBezTo>
                      <a:pt x="1980" y="303"/>
                      <a:pt x="1981" y="280"/>
                      <a:pt x="1890" y="235"/>
                    </a:cubicBezTo>
                    <a:cubicBezTo>
                      <a:pt x="1799" y="190"/>
                      <a:pt x="1625" y="114"/>
                      <a:pt x="1527" y="99"/>
                    </a:cubicBezTo>
                    <a:cubicBezTo>
                      <a:pt x="1429" y="84"/>
                      <a:pt x="1360" y="61"/>
                      <a:pt x="1300" y="144"/>
                    </a:cubicBezTo>
                    <a:cubicBezTo>
                      <a:pt x="1240" y="227"/>
                      <a:pt x="1255" y="500"/>
                      <a:pt x="1164" y="598"/>
                    </a:cubicBezTo>
                    <a:cubicBezTo>
                      <a:pt x="1073" y="696"/>
                      <a:pt x="870" y="673"/>
                      <a:pt x="756" y="734"/>
                    </a:cubicBezTo>
                    <a:cubicBezTo>
                      <a:pt x="642" y="795"/>
                      <a:pt x="528" y="923"/>
                      <a:pt x="483" y="961"/>
                    </a:cubicBezTo>
                  </a:path>
                </a:pathLst>
              </a:custGeom>
              <a:noFill/>
              <a:ln w="46656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311120" y="1979280"/>
                <a:ext cx="6882120" cy="3690720"/>
              </a:xfrm>
              <a:custGeom>
                <a:avLst/>
                <a:gdLst/>
                <a:ahLst/>
                <a:rect l="l" t="t" r="r" b="b"/>
                <a:pathLst>
                  <a:path w="4974" h="2609">
                    <a:moveTo>
                      <a:pt x="529" y="916"/>
                    </a:moveTo>
                    <a:cubicBezTo>
                      <a:pt x="294" y="1078"/>
                      <a:pt x="60" y="1241"/>
                      <a:pt x="30" y="1460"/>
                    </a:cubicBezTo>
                    <a:cubicBezTo>
                      <a:pt x="0" y="1679"/>
                      <a:pt x="181" y="2133"/>
                      <a:pt x="347" y="2231"/>
                    </a:cubicBezTo>
                    <a:cubicBezTo>
                      <a:pt x="513" y="2329"/>
                      <a:pt x="809" y="2027"/>
                      <a:pt x="1028" y="2050"/>
                    </a:cubicBezTo>
                    <a:cubicBezTo>
                      <a:pt x="1247" y="2073"/>
                      <a:pt x="1451" y="2276"/>
                      <a:pt x="1663" y="2367"/>
                    </a:cubicBezTo>
                    <a:cubicBezTo>
                      <a:pt x="1875" y="2458"/>
                      <a:pt x="2086" y="2609"/>
                      <a:pt x="2298" y="2594"/>
                    </a:cubicBezTo>
                    <a:cubicBezTo>
                      <a:pt x="2510" y="2579"/>
                      <a:pt x="2744" y="2374"/>
                      <a:pt x="2933" y="2276"/>
                    </a:cubicBezTo>
                    <a:cubicBezTo>
                      <a:pt x="3122" y="2178"/>
                      <a:pt x="3273" y="2042"/>
                      <a:pt x="3432" y="2004"/>
                    </a:cubicBezTo>
                    <a:cubicBezTo>
                      <a:pt x="3591" y="1966"/>
                      <a:pt x="3756" y="2020"/>
                      <a:pt x="3885" y="2050"/>
                    </a:cubicBezTo>
                    <a:cubicBezTo>
                      <a:pt x="4014" y="2080"/>
                      <a:pt x="4059" y="2171"/>
                      <a:pt x="4203" y="2186"/>
                    </a:cubicBezTo>
                    <a:cubicBezTo>
                      <a:pt x="4347" y="2201"/>
                      <a:pt x="4641" y="2208"/>
                      <a:pt x="4747" y="2140"/>
                    </a:cubicBezTo>
                    <a:cubicBezTo>
                      <a:pt x="4853" y="2072"/>
                      <a:pt x="4830" y="1966"/>
                      <a:pt x="4838" y="1777"/>
                    </a:cubicBezTo>
                    <a:cubicBezTo>
                      <a:pt x="4846" y="1588"/>
                      <a:pt x="4778" y="1263"/>
                      <a:pt x="4793" y="1006"/>
                    </a:cubicBezTo>
                    <a:cubicBezTo>
                      <a:pt x="4808" y="749"/>
                      <a:pt x="4974" y="401"/>
                      <a:pt x="4929" y="235"/>
                    </a:cubicBezTo>
                    <a:cubicBezTo>
                      <a:pt x="4884" y="69"/>
                      <a:pt x="4694" y="0"/>
                      <a:pt x="4520" y="8"/>
                    </a:cubicBezTo>
                    <a:cubicBezTo>
                      <a:pt x="4346" y="16"/>
                      <a:pt x="4112" y="183"/>
                      <a:pt x="3885" y="281"/>
                    </a:cubicBezTo>
                    <a:cubicBezTo>
                      <a:pt x="3658" y="379"/>
                      <a:pt x="3402" y="538"/>
                      <a:pt x="3160" y="598"/>
                    </a:cubicBezTo>
                    <a:cubicBezTo>
                      <a:pt x="2918" y="658"/>
                      <a:pt x="2615" y="681"/>
                      <a:pt x="2434" y="643"/>
                    </a:cubicBezTo>
                    <a:cubicBezTo>
                      <a:pt x="2253" y="605"/>
                      <a:pt x="2162" y="439"/>
                      <a:pt x="2071" y="371"/>
                    </a:cubicBezTo>
                    <a:cubicBezTo>
                      <a:pt x="1980" y="303"/>
                      <a:pt x="1981" y="280"/>
                      <a:pt x="1890" y="235"/>
                    </a:cubicBezTo>
                    <a:cubicBezTo>
                      <a:pt x="1799" y="190"/>
                      <a:pt x="1625" y="114"/>
                      <a:pt x="1527" y="99"/>
                    </a:cubicBezTo>
                    <a:cubicBezTo>
                      <a:pt x="1429" y="84"/>
                      <a:pt x="1360" y="61"/>
                      <a:pt x="1300" y="144"/>
                    </a:cubicBezTo>
                    <a:cubicBezTo>
                      <a:pt x="1240" y="227"/>
                      <a:pt x="1255" y="500"/>
                      <a:pt x="1164" y="598"/>
                    </a:cubicBezTo>
                    <a:cubicBezTo>
                      <a:pt x="1073" y="696"/>
                      <a:pt x="870" y="673"/>
                      <a:pt x="756" y="734"/>
                    </a:cubicBezTo>
                    <a:cubicBezTo>
                      <a:pt x="642" y="795"/>
                      <a:pt x="528" y="923"/>
                      <a:pt x="483" y="961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2761200">
                <a:off x="3089520" y="2182680"/>
                <a:ext cx="238680" cy="199080"/>
              </a:xfrm>
              <a:prstGeom prst="flowChartOnlineStorag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190600" y="3792960"/>
              <a:ext cx="2678760" cy="1809720"/>
              <a:chOff x="2190600" y="3792960"/>
              <a:chExt cx="2678760" cy="1809720"/>
            </a:xfrm>
          </p:grpSpPr>
          <p:pic>
            <p:nvPicPr>
              <p:cNvPr id="33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655000" y="3792960"/>
                <a:ext cx="2214360" cy="180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890800" y="3885120"/>
                <a:ext cx="942120" cy="41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125880" y="3792960"/>
                <a:ext cx="847440" cy="51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361320" y="3830760"/>
                <a:ext cx="847440" cy="51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502800" y="3838680"/>
                <a:ext cx="800640" cy="51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2" name=""/>
              <p:cNvSpPr/>
              <p:nvPr/>
            </p:nvSpPr>
            <p:spPr>
              <a:xfrm rot="21298200">
                <a:off x="2232720" y="3931920"/>
                <a:ext cx="2403360" cy="1069200"/>
              </a:xfrm>
              <a:custGeom>
                <a:avLst/>
                <a:gdLst>
                  <a:gd name="textAreaLeft" fmla="*/ 49680 w 2403360"/>
                  <a:gd name="textAreaRight" fmla="*/ 2453400 w 2403360"/>
                  <a:gd name="textAreaTop" fmla="*/ 441360 h 1069200"/>
                  <a:gd name="textAreaBottom" fmla="*/ 627840 h 106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48" y="4459"/>
                    </a:moveTo>
                    <a:cubicBezTo>
                      <a:pt x="7424" y="-11337"/>
                      <a:pt x="14624" y="20255"/>
                      <a:pt x="21600" y="4459"/>
                    </a:cubicBezTo>
                    <a:lnTo>
                      <a:pt x="21152" y="17141"/>
                    </a:lnTo>
                    <a:cubicBezTo>
                      <a:pt x="14176" y="32937"/>
                      <a:pt x="6976" y="1345"/>
                      <a:pt x="0" y="1714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20000"/>
                  </a:gs>
                </a:gsLst>
                <a:lin ang="11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 txBox="1"/>
              <p:nvPr/>
            </p:nvSpPr>
            <p:spPr>
              <a:xfrm>
                <a:off x="2372760" y="4118040"/>
                <a:ext cx="2071800" cy="650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Wave1">
                  <a:avLst>
                    <a:gd name="adj1" fmla="val 20644"/>
                    <a:gd name="adj2" fmla="val 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000000"/>
                    </a:solidFill>
                    <a:latin typeface="Bangle"/>
                  </a:rPr>
                  <a:t>INGLÉS   FRANCÉS </a:t>
                </a:r>
                <a:endPara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latin typeface="Bangle"/>
                  <a:ea typeface="Bangle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000000"/>
                    </a:solidFill>
                    <a:latin typeface="Bangle"/>
                  </a:rPr>
                  <a:t>  </a:t>
                </a:r>
                <a:r>
                  <a:rPr b="0" lang="en-US" sz="1800" spc="1" strike="noStrike">
                    <a:ln w="0">
                      <a:noFill/>
                    </a:ln>
                    <a:solidFill>
                      <a:srgbClr val="000000"/>
                    </a:solidFill>
                    <a:latin typeface="Bangle"/>
                  </a:rPr>
                  <a:t>ALEMÁN   ITALIANO...</a:t>
                </a:r>
                <a:endPara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latin typeface="Bangle"/>
                  <a:ea typeface="Bangle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5871960" y="4580280"/>
              <a:ext cx="626400" cy="567000"/>
              <a:chOff x="5871960" y="4580280"/>
              <a:chExt cx="626400" cy="567000"/>
            </a:xfrm>
          </p:grpSpPr>
          <p:sp>
            <p:nvSpPr>
              <p:cNvPr id="345" name=""/>
              <p:cNvSpPr/>
              <p:nvPr/>
            </p:nvSpPr>
            <p:spPr>
              <a:xfrm>
                <a:off x="5871960" y="4580280"/>
                <a:ext cx="626400" cy="543960"/>
              </a:xfrm>
              <a:prstGeom prst="ellipse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059880" y="4732200"/>
                <a:ext cx="281880" cy="2437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18673200">
                <a:off x="5962680" y="4912560"/>
                <a:ext cx="69480" cy="251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482" y="2398"/>
                      <a:pt x="13364" y="5080"/>
                      <a:pt x="13364" y="10800"/>
                    </a:cubicBezTo>
                    <a:cubicBezTo>
                      <a:pt x="13364" y="16520"/>
                      <a:pt x="17482" y="1920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7754760" y="4277160"/>
              <a:ext cx="626760" cy="567360"/>
              <a:chOff x="7754760" y="4277160"/>
              <a:chExt cx="626760" cy="567360"/>
            </a:xfrm>
          </p:grpSpPr>
          <p:sp>
            <p:nvSpPr>
              <p:cNvPr id="349" name=""/>
              <p:cNvSpPr/>
              <p:nvPr/>
            </p:nvSpPr>
            <p:spPr>
              <a:xfrm>
                <a:off x="7754760" y="4277160"/>
                <a:ext cx="626760" cy="543960"/>
              </a:xfrm>
              <a:prstGeom prst="ellipse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943040" y="4429080"/>
                <a:ext cx="281880" cy="2437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18673200">
                <a:off x="7845480" y="4609440"/>
                <a:ext cx="6948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482" y="2398"/>
                      <a:pt x="13364" y="5080"/>
                      <a:pt x="13364" y="10800"/>
                    </a:cubicBezTo>
                    <a:cubicBezTo>
                      <a:pt x="13364" y="16520"/>
                      <a:pt x="17482" y="1920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7754760" y="2039040"/>
              <a:ext cx="626760" cy="567720"/>
              <a:chOff x="7754760" y="2039040"/>
              <a:chExt cx="626760" cy="567720"/>
            </a:xfrm>
          </p:grpSpPr>
          <p:sp>
            <p:nvSpPr>
              <p:cNvPr id="353" name=""/>
              <p:cNvSpPr/>
              <p:nvPr/>
            </p:nvSpPr>
            <p:spPr>
              <a:xfrm>
                <a:off x="7754760" y="2039040"/>
                <a:ext cx="626760" cy="544320"/>
              </a:xfrm>
              <a:prstGeom prst="ellipse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943040" y="2190960"/>
                <a:ext cx="281880" cy="2440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8673200">
                <a:off x="7845480" y="2371680"/>
                <a:ext cx="6948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482" y="2398"/>
                      <a:pt x="13364" y="5080"/>
                      <a:pt x="13364" y="10800"/>
                    </a:cubicBezTo>
                    <a:cubicBezTo>
                      <a:pt x="13364" y="16520"/>
                      <a:pt x="17482" y="1920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4366440" y="2523240"/>
              <a:ext cx="626400" cy="567000"/>
              <a:chOff x="4366440" y="2523240"/>
              <a:chExt cx="626400" cy="567000"/>
            </a:xfrm>
          </p:grpSpPr>
          <p:sp>
            <p:nvSpPr>
              <p:cNvPr id="357" name=""/>
              <p:cNvSpPr/>
              <p:nvPr/>
            </p:nvSpPr>
            <p:spPr>
              <a:xfrm>
                <a:off x="4366440" y="2523240"/>
                <a:ext cx="626400" cy="543960"/>
              </a:xfrm>
              <a:prstGeom prst="ellipse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554360" y="2675160"/>
                <a:ext cx="281880" cy="2437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8673200">
                <a:off x="4457160" y="2855520"/>
                <a:ext cx="69480" cy="251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482" y="2398"/>
                      <a:pt x="13364" y="5080"/>
                      <a:pt x="13364" y="10800"/>
                    </a:cubicBezTo>
                    <a:cubicBezTo>
                      <a:pt x="13364" y="16520"/>
                      <a:pt x="17482" y="1920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1166040" y="4640040"/>
              <a:ext cx="626760" cy="567720"/>
              <a:chOff x="1166040" y="4640040"/>
              <a:chExt cx="626760" cy="567720"/>
            </a:xfrm>
          </p:grpSpPr>
          <p:sp>
            <p:nvSpPr>
              <p:cNvPr id="361" name=""/>
              <p:cNvSpPr/>
              <p:nvPr/>
            </p:nvSpPr>
            <p:spPr>
              <a:xfrm>
                <a:off x="1166040" y="4640040"/>
                <a:ext cx="626760" cy="544320"/>
              </a:xfrm>
              <a:prstGeom prst="ellipse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354320" y="4791960"/>
                <a:ext cx="281880" cy="2440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8673200">
                <a:off x="1256760" y="4972680"/>
                <a:ext cx="6948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482" y="2398"/>
                      <a:pt x="13364" y="5080"/>
                      <a:pt x="13364" y="10800"/>
                    </a:cubicBezTo>
                    <a:cubicBezTo>
                      <a:pt x="13364" y="16520"/>
                      <a:pt x="17482" y="1920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1666800" y="2946240"/>
              <a:ext cx="626760" cy="567360"/>
              <a:chOff x="1666800" y="2946240"/>
              <a:chExt cx="626760" cy="567360"/>
            </a:xfrm>
          </p:grpSpPr>
          <p:sp>
            <p:nvSpPr>
              <p:cNvPr id="365" name=""/>
              <p:cNvSpPr/>
              <p:nvPr/>
            </p:nvSpPr>
            <p:spPr>
              <a:xfrm>
                <a:off x="1666800" y="2946240"/>
                <a:ext cx="626760" cy="543960"/>
              </a:xfrm>
              <a:prstGeom prst="ellipse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855080" y="3098160"/>
                <a:ext cx="281880" cy="2437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8673200">
                <a:off x="1757520" y="3278520"/>
                <a:ext cx="6948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482" y="2398"/>
                      <a:pt x="13364" y="5080"/>
                      <a:pt x="13364" y="10800"/>
                    </a:cubicBezTo>
                    <a:cubicBezTo>
                      <a:pt x="13364" y="16520"/>
                      <a:pt x="17482" y="1920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2923200" y="1857960"/>
              <a:ext cx="626400" cy="567000"/>
              <a:chOff x="2923200" y="1857960"/>
              <a:chExt cx="626400" cy="567000"/>
            </a:xfrm>
          </p:grpSpPr>
          <p:sp>
            <p:nvSpPr>
              <p:cNvPr id="369" name=""/>
              <p:cNvSpPr/>
              <p:nvPr/>
            </p:nvSpPr>
            <p:spPr>
              <a:xfrm>
                <a:off x="2923200" y="1857960"/>
                <a:ext cx="626400" cy="543960"/>
              </a:xfrm>
              <a:prstGeom prst="ellipse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111120" y="2009880"/>
                <a:ext cx="281880" cy="2437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8673200">
                <a:off x="3013920" y="2190240"/>
                <a:ext cx="69480" cy="251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482" y="2398"/>
                      <a:pt x="13364" y="5080"/>
                      <a:pt x="13364" y="10800"/>
                    </a:cubicBezTo>
                    <a:cubicBezTo>
                      <a:pt x="13364" y="16520"/>
                      <a:pt x="17482" y="1920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5935320" y="2220480"/>
              <a:ext cx="626760" cy="567360"/>
              <a:chOff x="5935320" y="2220480"/>
              <a:chExt cx="626760" cy="567360"/>
            </a:xfrm>
          </p:grpSpPr>
          <p:sp>
            <p:nvSpPr>
              <p:cNvPr id="373" name=""/>
              <p:cNvSpPr/>
              <p:nvPr/>
            </p:nvSpPr>
            <p:spPr>
              <a:xfrm>
                <a:off x="5935320" y="2220480"/>
                <a:ext cx="626760" cy="543960"/>
              </a:xfrm>
              <a:prstGeom prst="ellipse">
                <a:avLst/>
              </a:prstGeom>
              <a:gradFill rotWithShape="0">
                <a:gsLst>
                  <a:gs pos="0">
                    <a:srgbClr val="bdbdbd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54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123600" y="2372400"/>
                <a:ext cx="281880" cy="2437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8673200">
                <a:off x="6026040" y="2552760"/>
                <a:ext cx="6948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482" y="2398"/>
                      <a:pt x="13364" y="5080"/>
                      <a:pt x="13364" y="10800"/>
                    </a:cubicBezTo>
                    <a:cubicBezTo>
                      <a:pt x="13364" y="16520"/>
                      <a:pt x="17482" y="1920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" name=""/>
            <p:cNvSpPr txBox="1"/>
            <p:nvPr/>
          </p:nvSpPr>
          <p:spPr>
            <a:xfrm rot="1706400">
              <a:off x="6187320" y="5401800"/>
              <a:ext cx="1631160" cy="581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Berlin Sans FB Demi"/>
                </a:rPr>
                <a:t>C. en comunicación </a:t>
              </a:r>
              <a:endParaRPr b="0" lang="en-US" sz="1800" spc="1" strike="noStrike">
                <a:ln w="0">
                  <a:noFill/>
                </a:ln>
                <a:solidFill>
                  <a:srgbClr val="008000"/>
                </a:solidFill>
                <a:latin typeface="Berlin Sans FB Demi"/>
                <a:ea typeface="Berlin Sans FB Dem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Berlin Sans FB Demi"/>
                </a:rPr>
                <a:t>lingüística. </a:t>
              </a:r>
              <a:endParaRPr b="0" lang="en-US" sz="1800" spc="1" strike="noStrike">
                <a:ln w="0">
                  <a:noFill/>
                </a:ln>
                <a:solidFill>
                  <a:srgbClr val="008000"/>
                </a:solidFill>
                <a:latin typeface="Berlin Sans FB Demi"/>
                <a:ea typeface="Berlin Sans FB Demi"/>
              </a:endParaRPr>
            </a:p>
          </p:txBody>
        </p:sp>
        <p:sp>
          <p:nvSpPr>
            <p:cNvPr id="377" name=""/>
            <p:cNvSpPr txBox="1"/>
            <p:nvPr/>
          </p:nvSpPr>
          <p:spPr>
            <a:xfrm rot="20392800">
              <a:off x="2545560" y="3248640"/>
              <a:ext cx="2008800" cy="218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Berlin Sans FB Demi"/>
                </a:rPr>
                <a:t>C. social y ciudadana. </a:t>
              </a:r>
              <a:endParaRPr b="0" lang="en-US" sz="1800" spc="1" strike="noStrike">
                <a:ln w="0">
                  <a:noFill/>
                </a:ln>
                <a:solidFill>
                  <a:srgbClr val="008000"/>
                </a:solidFill>
                <a:latin typeface="Berlin Sans FB Demi"/>
                <a:ea typeface="Berlin Sans FB Demi"/>
              </a:endParaRPr>
            </a:p>
          </p:txBody>
        </p:sp>
        <p:sp>
          <p:nvSpPr>
            <p:cNvPr id="378" name=""/>
            <p:cNvSpPr txBox="1"/>
            <p:nvPr/>
          </p:nvSpPr>
          <p:spPr>
            <a:xfrm>
              <a:off x="1102320" y="1676520"/>
              <a:ext cx="1946880" cy="21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Berlin Sans FB Demi"/>
                </a:rPr>
                <a:t>C. cultural y artística. </a:t>
              </a:r>
              <a:endParaRPr b="0" lang="en-US" sz="1800" spc="1" strike="noStrike">
                <a:ln w="0">
                  <a:noFill/>
                </a:ln>
                <a:solidFill>
                  <a:srgbClr val="008000"/>
                </a:solidFill>
                <a:latin typeface="Berlin Sans FB Demi"/>
                <a:ea typeface="Berlin Sans FB Demi"/>
              </a:endParaRPr>
            </a:p>
          </p:txBody>
        </p:sp>
        <p:sp>
          <p:nvSpPr>
            <p:cNvPr id="379" name=""/>
            <p:cNvSpPr txBox="1"/>
            <p:nvPr/>
          </p:nvSpPr>
          <p:spPr>
            <a:xfrm>
              <a:off x="4240440" y="1676520"/>
              <a:ext cx="2822400" cy="52020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Berlin Sans FB Demi"/>
                </a:rPr>
                <a:t>C. en tratamiento de información </a:t>
              </a:r>
              <a:endParaRPr b="0" lang="en-US" sz="1800" spc="1" strike="noStrike">
                <a:ln w="0">
                  <a:noFill/>
                </a:ln>
                <a:solidFill>
                  <a:srgbClr val="008000"/>
                </a:solidFill>
                <a:latin typeface="Berlin Sans FB Demi"/>
                <a:ea typeface="Berlin Sans FB Dem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Berlin Sans FB Demi"/>
                </a:rPr>
                <a:t>y competencia digital. </a:t>
              </a:r>
              <a:endParaRPr b="0" lang="en-US" sz="1800" spc="1" strike="noStrike">
                <a:ln w="0">
                  <a:noFill/>
                </a:ln>
                <a:solidFill>
                  <a:srgbClr val="008000"/>
                </a:solidFill>
                <a:latin typeface="Berlin Sans FB Demi"/>
                <a:ea typeface="Berlin Sans FB Demi"/>
              </a:endParaRPr>
            </a:p>
          </p:txBody>
        </p:sp>
        <p:sp>
          <p:nvSpPr>
            <p:cNvPr id="380" name=""/>
            <p:cNvSpPr txBox="1"/>
            <p:nvPr/>
          </p:nvSpPr>
          <p:spPr>
            <a:xfrm rot="20304000">
              <a:off x="5276520" y="2876400"/>
              <a:ext cx="2670480" cy="543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Berlin Sans FB Demi"/>
                </a:rPr>
                <a:t>C. en conocimiento e interacción </a:t>
              </a:r>
              <a:endParaRPr b="0" lang="en-US" sz="1800" spc="1" strike="noStrike">
                <a:ln w="0">
                  <a:noFill/>
                </a:ln>
                <a:solidFill>
                  <a:srgbClr val="008000"/>
                </a:solidFill>
                <a:latin typeface="Berlin Sans FB Demi"/>
                <a:ea typeface="Berlin Sans FB Dem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Berlin Sans FB Demi"/>
                </a:rPr>
                <a:t>con el mundo físico. </a:t>
              </a:r>
              <a:endParaRPr b="0" lang="en-US" sz="1800" spc="1" strike="noStrike">
                <a:ln w="0">
                  <a:noFill/>
                </a:ln>
                <a:solidFill>
                  <a:srgbClr val="008000"/>
                </a:solidFill>
                <a:latin typeface="Berlin Sans FB Demi"/>
                <a:ea typeface="Berlin Sans FB Demi"/>
              </a:endParaRPr>
            </a:p>
          </p:txBody>
        </p:sp>
        <p:sp>
          <p:nvSpPr>
            <p:cNvPr id="381" name=""/>
            <p:cNvSpPr txBox="1"/>
            <p:nvPr/>
          </p:nvSpPr>
          <p:spPr>
            <a:xfrm>
              <a:off x="6311880" y="4277160"/>
              <a:ext cx="1442880" cy="217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Berlin Sans FB Demi"/>
                </a:rPr>
                <a:t>C. matemática</a:t>
              </a:r>
              <a:endParaRPr b="0" lang="en-US" sz="1800" spc="1" strike="noStrike">
                <a:ln w="0">
                  <a:noFill/>
                </a:ln>
                <a:solidFill>
                  <a:srgbClr val="008000"/>
                </a:solidFill>
                <a:latin typeface="Berlin Sans FB Demi"/>
                <a:ea typeface="Berlin Sans FB Demi"/>
              </a:endParaRPr>
            </a:p>
          </p:txBody>
        </p:sp>
        <p:sp>
          <p:nvSpPr>
            <p:cNvPr id="382" name=""/>
            <p:cNvSpPr txBox="1"/>
            <p:nvPr/>
          </p:nvSpPr>
          <p:spPr>
            <a:xfrm>
              <a:off x="914400" y="2401920"/>
              <a:ext cx="1665720" cy="48420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Berlin Sans FB Demi"/>
                </a:rPr>
                <a:t>C. para aprender </a:t>
              </a:r>
              <a:endParaRPr b="0" lang="en-US" sz="1800" spc="1" strike="noStrike">
                <a:ln w="0">
                  <a:noFill/>
                </a:ln>
                <a:solidFill>
                  <a:srgbClr val="008000"/>
                </a:solidFill>
                <a:latin typeface="Berlin Sans FB Demi"/>
                <a:ea typeface="Berlin Sans FB Dem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Berlin Sans FB Demi"/>
                </a:rPr>
                <a:t>a aprender</a:t>
              </a:r>
              <a:endParaRPr b="0" lang="en-US" sz="1800" spc="1" strike="noStrike">
                <a:ln w="0">
                  <a:noFill/>
                </a:ln>
                <a:solidFill>
                  <a:srgbClr val="008000"/>
                </a:solidFill>
                <a:latin typeface="Berlin Sans FB Demi"/>
                <a:ea typeface="Berlin Sans FB Demi"/>
              </a:endParaRPr>
            </a:p>
          </p:txBody>
        </p:sp>
        <p:sp>
          <p:nvSpPr>
            <p:cNvPr id="383" name=""/>
            <p:cNvSpPr txBox="1"/>
            <p:nvPr/>
          </p:nvSpPr>
          <p:spPr>
            <a:xfrm>
              <a:off x="976320" y="5367240"/>
              <a:ext cx="2039400" cy="757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Berlin Sans FB Demi"/>
                </a:rPr>
                <a:t>C. en autonomía </a:t>
              </a:r>
              <a:endParaRPr b="0" lang="en-US" sz="1800" spc="1" strike="noStrike">
                <a:ln w="0">
                  <a:noFill/>
                </a:ln>
                <a:solidFill>
                  <a:srgbClr val="008000"/>
                </a:solidFill>
                <a:latin typeface="Berlin Sans FB Demi"/>
                <a:ea typeface="Berlin Sans FB Dem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Berlin Sans FB Demi"/>
                </a:rPr>
                <a:t>e iniciativa personal. </a:t>
              </a:r>
              <a:endParaRPr b="0" lang="en-US" sz="1800" spc="1" strike="noStrike">
                <a:ln w="0">
                  <a:noFill/>
                </a:ln>
                <a:solidFill>
                  <a:srgbClr val="008000"/>
                </a:solidFill>
                <a:latin typeface="Berlin Sans FB Demi"/>
                <a:ea typeface="Berlin Sans FB Dem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1" strike="noStrike">
                <a:ln w="0">
                  <a:noFill/>
                </a:ln>
                <a:solidFill>
                  <a:srgbClr val="008000"/>
                </a:solidFill>
                <a:latin typeface="Berlin Sans FB Demi"/>
                <a:ea typeface="Berlin Sans FB Demi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250920" y="152280"/>
            <a:ext cx="7237080" cy="1374840"/>
            <a:chOff x="250920" y="152280"/>
            <a:chExt cx="7237080" cy="1374840"/>
          </a:xfrm>
        </p:grpSpPr>
        <p:grpSp>
          <p:nvGrpSpPr>
            <p:cNvPr id="385" name=""/>
            <p:cNvGrpSpPr/>
            <p:nvPr/>
          </p:nvGrpSpPr>
          <p:grpSpPr>
            <a:xfrm>
              <a:off x="1263960" y="297000"/>
              <a:ext cx="6224040" cy="723240"/>
              <a:chOff x="1263960" y="297000"/>
              <a:chExt cx="6224040" cy="723240"/>
            </a:xfrm>
          </p:grpSpPr>
          <p:sp>
            <p:nvSpPr>
              <p:cNvPr id="386" name=""/>
              <p:cNvSpPr/>
              <p:nvPr/>
            </p:nvSpPr>
            <p:spPr>
              <a:xfrm>
                <a:off x="1263960" y="297000"/>
                <a:ext cx="6224040" cy="7232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efefe"/>
                  </a:gs>
                  <a:gs pos="100000">
                    <a:srgbClr val="808080"/>
                  </a:gs>
                </a:gsLst>
                <a:lin ang="81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335960" y="369360"/>
                <a:ext cx="6079320" cy="57816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 txBox="1"/>
              <p:nvPr/>
            </p:nvSpPr>
            <p:spPr>
              <a:xfrm>
                <a:off x="1915200" y="513720"/>
                <a:ext cx="4993560" cy="28908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COMPETENCIAS E IDIOMAS</a:t>
                </a:r>
                <a:endPara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17819" dir="2700000" blurRad="0" rotWithShape="0">
                      <a:srgbClr val="001f1e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250920" y="152280"/>
              <a:ext cx="1195560" cy="1374840"/>
              <a:chOff x="250920" y="152280"/>
              <a:chExt cx="1195560" cy="1374840"/>
            </a:xfrm>
          </p:grpSpPr>
          <p:sp>
            <p:nvSpPr>
              <p:cNvPr id="390" name="">
                <a:hlinkClick r:id="rId6" action="ppaction://hlinksldjump"/>
              </p:cNvPr>
              <p:cNvSpPr/>
              <p:nvPr/>
            </p:nvSpPr>
            <p:spPr>
              <a:xfrm>
                <a:off x="250920" y="152280"/>
                <a:ext cx="1195560" cy="1374840"/>
              </a:xfrm>
              <a:custGeom>
                <a:avLst/>
                <a:gdLst>
                  <a:gd name="textAreaLeft" fmla="*/ 0 w 1195560"/>
                  <a:gd name="textAreaRight" fmla="*/ 1195920 w 1195560"/>
                  <a:gd name="textAreaTop" fmla="*/ 0 h 1374840"/>
                  <a:gd name="textAreaBottom" fmla="*/ 1375200 h 1374840"/>
                </a:gdLst>
                <a:ahLst/>
                <a:rect l="textAreaLeft" t="textAreaTop" r="textAreaRight" b="textAreaBottom"/>
                <a:pathLst>
                  <a:path w="21600" h="24838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4838"/>
                    </a:lnTo>
                    <a:lnTo>
                      <a:pt x="0" y="24838"/>
                    </a:lnTo>
                    <a:close/>
                  </a:path>
                  <a:path fill="lightenLess" w="21600" h="24838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  <a:path fill="darken" w="21600" h="24838">
                    <a:moveTo>
                      <a:pt x="21600" y="0"/>
                    </a:moveTo>
                    <a:lnTo>
                      <a:pt x="21600" y="24838"/>
                    </a:lnTo>
                    <a:lnTo>
                      <a:pt x="21600" y="24838"/>
                    </a:lnTo>
                    <a:lnTo>
                      <a:pt x="21600" y="0"/>
                    </a:lnTo>
                    <a:close/>
                  </a:path>
                  <a:path fill="darkenLess" w="21600" h="24838">
                    <a:moveTo>
                      <a:pt x="21600" y="24838"/>
                    </a:moveTo>
                    <a:lnTo>
                      <a:pt x="0" y="24838"/>
                    </a:lnTo>
                    <a:lnTo>
                      <a:pt x="0" y="24838"/>
                    </a:lnTo>
                    <a:lnTo>
                      <a:pt x="21600" y="24838"/>
                    </a:lnTo>
                    <a:close/>
                  </a:path>
                  <a:path fill="lighten" w="21600" h="24838">
                    <a:moveTo>
                      <a:pt x="0" y="2483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48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91" name="" descr="Nombre de archivo: j0335776.wmf&#13;Palabras clave: artículo del hogar, llaves, llaves de casa ...&#13;Tamaño de archivo: 65 KB"/>
              <p:cNvPicPr/>
              <p:nvPr/>
            </p:nvPicPr>
            <p:blipFill>
              <a:blip r:embed="rId7"/>
              <a:stretch/>
            </p:blipFill>
            <p:spPr>
              <a:xfrm rot="6326400">
                <a:off x="395640" y="36936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92" name="">
            <a:hlinkClick r:id="" action="ppaction://hlinkshowjump?jump=nextslide"/>
          </p:cNvPr>
          <p:cNvSpPr/>
          <p:nvPr/>
        </p:nvSpPr>
        <p:spPr>
          <a:xfrm>
            <a:off x="784872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10800"/>
                </a:moveTo>
                <a:lnTo>
                  <a:pt x="26797" y="3794"/>
                </a:lnTo>
                <a:lnTo>
                  <a:pt x="26797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>
            <a:hlinkClick r:id="" action="ppaction://hlinkshowjump?jump=firstslide"/>
          </p:cNvPr>
          <p:cNvSpPr/>
          <p:nvPr/>
        </p:nvSpPr>
        <p:spPr>
          <a:xfrm>
            <a:off x="457200" y="6095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7301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5456" y="5956"/>
                </a:lnTo>
                <a:lnTo>
                  <a:pt x="5456" y="19969"/>
                </a:lnTo>
                <a:lnTo>
                  <a:pt x="3794" y="19969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7c9c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80880" y="380880"/>
            <a:ext cx="8610840" cy="6324840"/>
          </a:xfrm>
          <a:prstGeom prst="flowChartPunchedCard">
            <a:avLst/>
          </a:prstGeom>
          <a:gradFill rotWithShape="0">
            <a:gsLst>
              <a:gs pos="0">
                <a:srgbClr val="80808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04920"/>
            <a:ext cx="8610480" cy="6324480"/>
          </a:xfrm>
          <a:prstGeom prst="flowChartPunchedCard">
            <a:avLst/>
          </a:prstGeom>
          <a:gradFill rotWithShape="0">
            <a:gsLst>
              <a:gs pos="0">
                <a:srgbClr val="eaeaea"/>
              </a:gs>
              <a:gs pos="50000">
                <a:srgbClr val="fefefe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250920" y="152280"/>
            <a:ext cx="6625800" cy="1374840"/>
            <a:chOff x="250920" y="152280"/>
            <a:chExt cx="6625800" cy="1374840"/>
          </a:xfrm>
        </p:grpSpPr>
        <p:grpSp>
          <p:nvGrpSpPr>
            <p:cNvPr id="398" name=""/>
            <p:cNvGrpSpPr/>
            <p:nvPr/>
          </p:nvGrpSpPr>
          <p:grpSpPr>
            <a:xfrm>
              <a:off x="651960" y="297000"/>
              <a:ext cx="6224760" cy="723240"/>
              <a:chOff x="651960" y="297000"/>
              <a:chExt cx="6224760" cy="723240"/>
            </a:xfrm>
          </p:grpSpPr>
          <p:sp>
            <p:nvSpPr>
              <p:cNvPr id="399" name=""/>
              <p:cNvSpPr/>
              <p:nvPr/>
            </p:nvSpPr>
            <p:spPr>
              <a:xfrm>
                <a:off x="651960" y="297000"/>
                <a:ext cx="6224760" cy="7232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efefe"/>
                  </a:gs>
                  <a:gs pos="100000">
                    <a:srgbClr val="808080"/>
                  </a:gs>
                </a:gsLst>
                <a:lin ang="81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23960" y="369360"/>
                <a:ext cx="6080040" cy="57816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 txBox="1"/>
              <p:nvPr/>
            </p:nvSpPr>
            <p:spPr>
              <a:xfrm>
                <a:off x="1520280" y="441360"/>
                <a:ext cx="4487400" cy="36180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    </a:t>
                </a: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CARACTERÍSTICAS   </a:t>
                </a:r>
                <a:endPara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17819" dir="2700000" blurRad="0" rotWithShape="0">
                      <a:srgbClr val="001f1e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250920" y="152280"/>
              <a:ext cx="1197000" cy="1374840"/>
              <a:chOff x="250920" y="152280"/>
              <a:chExt cx="1197000" cy="1374840"/>
            </a:xfrm>
          </p:grpSpPr>
          <p:sp>
            <p:nvSpPr>
              <p:cNvPr id="403" name="">
                <a:hlinkClick r:id="rId1" action="ppaction://hlinksldjump"/>
              </p:cNvPr>
              <p:cNvSpPr/>
              <p:nvPr/>
            </p:nvSpPr>
            <p:spPr>
              <a:xfrm>
                <a:off x="250920" y="152280"/>
                <a:ext cx="1197000" cy="1374840"/>
              </a:xfrm>
              <a:custGeom>
                <a:avLst/>
                <a:gdLst>
                  <a:gd name="textAreaLeft" fmla="*/ 0 w 1197000"/>
                  <a:gd name="textAreaRight" fmla="*/ 1197000 w 1197000"/>
                  <a:gd name="textAreaTop" fmla="*/ 0 h 1374840"/>
                  <a:gd name="textAreaBottom" fmla="*/ 1375200 h 1374840"/>
                </a:gdLst>
                <a:ahLst/>
                <a:rect l="textAreaLeft" t="textAreaTop" r="textAreaRight" b="textAreaBottom"/>
                <a:pathLst>
                  <a:path w="21600" h="24808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4808"/>
                    </a:lnTo>
                    <a:lnTo>
                      <a:pt x="0" y="24808"/>
                    </a:lnTo>
                    <a:close/>
                  </a:path>
                  <a:path fill="lightenLess" w="21600" h="24808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  <a:path fill="darken" w="21600" h="24808">
                    <a:moveTo>
                      <a:pt x="21600" y="0"/>
                    </a:moveTo>
                    <a:lnTo>
                      <a:pt x="21600" y="24808"/>
                    </a:lnTo>
                    <a:lnTo>
                      <a:pt x="21600" y="24808"/>
                    </a:lnTo>
                    <a:lnTo>
                      <a:pt x="21600" y="0"/>
                    </a:lnTo>
                    <a:close/>
                  </a:path>
                  <a:path fill="darkenLess" w="21600" h="24808">
                    <a:moveTo>
                      <a:pt x="21600" y="24808"/>
                    </a:moveTo>
                    <a:lnTo>
                      <a:pt x="0" y="24808"/>
                    </a:lnTo>
                    <a:lnTo>
                      <a:pt x="0" y="24808"/>
                    </a:lnTo>
                    <a:lnTo>
                      <a:pt x="21600" y="24808"/>
                    </a:lnTo>
                    <a:close/>
                  </a:path>
                  <a:path fill="lighten" w="21600" h="24808">
                    <a:moveTo>
                      <a:pt x="0" y="2480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48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4" name=""/>
              <p:cNvGrpSpPr/>
              <p:nvPr/>
            </p:nvGrpSpPr>
            <p:grpSpPr>
              <a:xfrm>
                <a:off x="495000" y="296640"/>
                <a:ext cx="795600" cy="940320"/>
                <a:chOff x="495000" y="296640"/>
                <a:chExt cx="795600" cy="940320"/>
              </a:xfrm>
            </p:grpSpPr>
            <p:sp>
              <p:nvSpPr>
                <p:cNvPr id="405" name=""/>
                <p:cNvSpPr txBox="1"/>
                <p:nvPr/>
              </p:nvSpPr>
              <p:spPr>
                <a:xfrm>
                  <a:off x="495000" y="296640"/>
                  <a:ext cx="578520" cy="650880"/>
                </a:xfrm>
                <a:prstGeom prst="rect">
                  <a:avLst/>
                </a:prstGeom>
              </p:spPr>
              <p:txBody>
                <a:bodyPr wrap="none" lIns="90000" rIns="90000" tIns="46800" bIns="46800" anchor="ctr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0">
                        <a:noFill/>
                      </a:ln>
                      <a:gradFill rotWithShape="0">
                        <a:gsLst>
                          <a:gs pos="0">
                            <a:srgbClr val="752424"/>
                          </a:gs>
                          <a:gs pos="100000">
                            <a:srgbClr val="ff5050"/>
                          </a:gs>
                        </a:gsLst>
                        <a:lin ang="5400000"/>
                      </a:gradFill>
                      <a:effectLst>
                        <a:outerShdw dist="17819" dir="2700000" blurRad="0" rotWithShape="0">
                          <a:srgbClr val="333333"/>
                        </a:outerShdw>
                      </a:effectLst>
                      <a:latin typeface="Baskerville Old Face"/>
                    </a:rPr>
                    <a:t>C</a:t>
                  </a:r>
                  <a:endParaRPr b="1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752424"/>
                        </a:gs>
                        <a:gs pos="100000">
                          <a:srgbClr val="ff5050"/>
                        </a:gs>
                      </a:gsLst>
                      <a:lin ang="5400000"/>
                    </a:gradFill>
                    <a:effectLst>
                      <a:outerShdw dist="17819" dir="2700000" blurRad="0" rotWithShape="0">
                        <a:srgbClr val="333333"/>
                      </a:outerShdw>
                    </a:effectLst>
                    <a:latin typeface="Baskerville Old Face"/>
                    <a:ea typeface="Baskerville Old Face"/>
                  </a:endParaRPr>
                </a:p>
              </p:txBody>
            </p:sp>
            <p:sp>
              <p:nvSpPr>
                <p:cNvPr id="406" name=""/>
                <p:cNvSpPr txBox="1"/>
                <p:nvPr/>
              </p:nvSpPr>
              <p:spPr>
                <a:xfrm>
                  <a:off x="712080" y="586080"/>
                  <a:ext cx="578520" cy="650880"/>
                </a:xfrm>
                <a:prstGeom prst="rect">
                  <a:avLst/>
                </a:prstGeom>
              </p:spPr>
              <p:txBody>
                <a:bodyPr wrap="none" lIns="90000" rIns="90000" tIns="46800" bIns="46800" anchor="ctr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0">
                        <a:noFill/>
                      </a:ln>
                      <a:gradFill rotWithShape="0">
                        <a:gsLst>
                          <a:gs pos="0">
                            <a:srgbClr val="752424"/>
                          </a:gs>
                          <a:gs pos="100000">
                            <a:srgbClr val="ff5050"/>
                          </a:gs>
                        </a:gsLst>
                        <a:lin ang="5400000"/>
                      </a:gradFill>
                      <a:effectLst>
                        <a:outerShdw dist="17819" dir="2700000" blurRad="0" rotWithShape="0">
                          <a:srgbClr val="333333"/>
                        </a:outerShdw>
                      </a:effectLst>
                      <a:latin typeface="Baskerville Old Face"/>
                    </a:rPr>
                    <a:t>C</a:t>
                  </a:r>
                  <a:endParaRPr b="1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752424"/>
                        </a:gs>
                        <a:gs pos="100000">
                          <a:srgbClr val="ff5050"/>
                        </a:gs>
                      </a:gsLst>
                      <a:lin ang="5400000"/>
                    </a:gradFill>
                    <a:effectLst>
                      <a:outerShdw dist="17819" dir="2700000" blurRad="0" rotWithShape="0">
                        <a:srgbClr val="333333"/>
                      </a:outerShdw>
                    </a:effectLst>
                    <a:latin typeface="Baskerville Old Face"/>
                    <a:ea typeface="Baskerville Old Face"/>
                  </a:endParaRPr>
                </a:p>
              </p:txBody>
            </p:sp>
          </p:grpSp>
        </p:grpSp>
      </p:grpSp>
      <p:pic>
        <p:nvPicPr>
          <p:cNvPr id="407" name="" descr=""/>
          <p:cNvPicPr/>
          <p:nvPr/>
        </p:nvPicPr>
        <p:blipFill>
          <a:blip r:embed="rId2"/>
          <a:srcRect l="6758" t="20121" r="8045" b="11579"/>
          <a:stretch/>
        </p:blipFill>
        <p:spPr>
          <a:xfrm flipH="1" rot="1986600">
            <a:off x="6477120" y="4021200"/>
            <a:ext cx="1904760" cy="13129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3962520" y="1752480"/>
            <a:ext cx="4343400" cy="3657600"/>
          </a:xfrm>
          <a:prstGeom prst="rect">
            <a:avLst/>
          </a:prstGeom>
          <a:gradFill rotWithShape="0">
            <a:gsLst>
              <a:gs pos="0">
                <a:srgbClr val="99cc00">
                  <a:alpha val="50196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5507280" y="1526760"/>
            <a:ext cx="2562840" cy="2257560"/>
            <a:chOff x="5507280" y="1526760"/>
            <a:chExt cx="2562840" cy="2257560"/>
          </a:xfrm>
        </p:grpSpPr>
        <p:pic>
          <p:nvPicPr>
            <p:cNvPr id="410" name="" descr=""/>
            <p:cNvPicPr/>
            <p:nvPr/>
          </p:nvPicPr>
          <p:blipFill>
            <a:blip r:embed="rId3"/>
            <a:srcRect l="-9846" t="18029" r="51529" b="44597"/>
            <a:stretch/>
          </p:blipFill>
          <p:spPr>
            <a:xfrm flipH="1" rot="20351400">
              <a:off x="6809400" y="1755000"/>
              <a:ext cx="1108800" cy="8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" descr=""/>
            <p:cNvPicPr/>
            <p:nvPr/>
          </p:nvPicPr>
          <p:blipFill>
            <a:blip r:embed="rId4"/>
            <a:stretch/>
          </p:blipFill>
          <p:spPr>
            <a:xfrm rot="642000">
              <a:off x="5638320" y="1986840"/>
              <a:ext cx="2131920" cy="161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" descr=""/>
            <p:cNvPicPr/>
            <p:nvPr/>
          </p:nvPicPr>
          <p:blipFill>
            <a:blip r:embed="rId5"/>
            <a:stretch/>
          </p:blipFill>
          <p:spPr>
            <a:xfrm rot="706200">
              <a:off x="6790680" y="1641600"/>
              <a:ext cx="1209960" cy="80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3" name=""/>
          <p:cNvSpPr/>
          <p:nvPr/>
        </p:nvSpPr>
        <p:spPr>
          <a:xfrm>
            <a:off x="152280" y="1371600"/>
            <a:ext cx="7391520" cy="45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286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NGUAJE = VEHÍC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18171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ORIDAD DE LO O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18171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RENDIZAJE PRÁC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18171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REA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CTIVIDADES . (LAS TARE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 BASAN EN SITUACIONES REAL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18171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PECTOS LINGÜÍSTICOS, SOCIAL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ULTURALE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>
            <a:hlinkClick r:id="" action="ppaction://hlinkshowjump?jump=nextslide"/>
          </p:cNvPr>
          <p:cNvSpPr/>
          <p:nvPr/>
        </p:nvSpPr>
        <p:spPr>
          <a:xfrm>
            <a:off x="784872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10800"/>
                </a:moveTo>
                <a:lnTo>
                  <a:pt x="26797" y="3794"/>
                </a:lnTo>
                <a:lnTo>
                  <a:pt x="26797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>
            <a:hlinkClick r:id="" action="ppaction://hlinkshowjump?jump=firstslide"/>
          </p:cNvPr>
          <p:cNvSpPr/>
          <p:nvPr/>
        </p:nvSpPr>
        <p:spPr>
          <a:xfrm>
            <a:off x="457200" y="6095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7301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5456" y="5956"/>
                </a:lnTo>
                <a:lnTo>
                  <a:pt x="5456" y="19969"/>
                </a:lnTo>
                <a:lnTo>
                  <a:pt x="3794" y="19969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7c9c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380880" y="380880"/>
            <a:ext cx="8610840" cy="6324840"/>
          </a:xfrm>
          <a:prstGeom prst="flowChartPunchedCard">
            <a:avLst/>
          </a:prstGeom>
          <a:gradFill rotWithShape="0">
            <a:gsLst>
              <a:gs pos="0">
                <a:srgbClr val="80808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04920" y="304920"/>
            <a:ext cx="8610480" cy="6324480"/>
          </a:xfrm>
          <a:prstGeom prst="flowChartPunchedCard">
            <a:avLst/>
          </a:prstGeom>
          <a:gradFill rotWithShape="0">
            <a:gsLst>
              <a:gs pos="0">
                <a:srgbClr val="eaeaea"/>
              </a:gs>
              <a:gs pos="50000">
                <a:srgbClr val="fefefe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590920" y="1219320"/>
            <a:ext cx="403848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Berlin Sans FB"/>
              </a:rPr>
              <a:t>PROPORCIÓN DE LAS </a:t>
            </a:r>
            <a:r>
              <a:rPr b="1" lang="en-US" sz="2000" spc="-1" strike="noStrike">
                <a:solidFill>
                  <a:srgbClr val="cc0000"/>
                </a:solidFill>
                <a:latin typeface="Berlin Sans FB"/>
              </a:rPr>
              <a:t>4 </a:t>
            </a:r>
            <a:r>
              <a:rPr b="1" lang="en-US" sz="1800" spc="-1" strike="noStrike">
                <a:solidFill>
                  <a:srgbClr val="cc0000"/>
                </a:solidFill>
                <a:latin typeface="Berlin Sans FB"/>
              </a:rPr>
              <a:t>MACROCOMPETENCIAS</a:t>
            </a:r>
            <a:r>
              <a:rPr b="0" lang="en-US" sz="1800" spc="-1" strike="noStrike">
                <a:solidFill>
                  <a:srgbClr val="cc0000"/>
                </a:solidFill>
                <a:latin typeface="Berlin Sans FB"/>
              </a:rPr>
              <a:t> EN EL APRENDIZAJE DEL IDIOMA</a:t>
            </a:r>
            <a:r>
              <a:rPr b="1" lang="en-US" sz="1800" spc="-1" strike="noStrike">
                <a:solidFill>
                  <a:srgbClr val="cc0000"/>
                </a:solidFill>
                <a:latin typeface="Berlin Sans F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6631200" y="1154160"/>
            <a:ext cx="1456560" cy="1284120"/>
            <a:chOff x="6631200" y="1154160"/>
            <a:chExt cx="1456560" cy="1284120"/>
          </a:xfrm>
        </p:grpSpPr>
        <p:pic>
          <p:nvPicPr>
            <p:cNvPr id="421" name="" descr=""/>
            <p:cNvPicPr/>
            <p:nvPr/>
          </p:nvPicPr>
          <p:blipFill>
            <a:blip r:embed="rId1"/>
            <a:srcRect l="-9846" t="18029" r="51529" b="44597"/>
            <a:stretch/>
          </p:blipFill>
          <p:spPr>
            <a:xfrm flipH="1" rot="20352000">
              <a:off x="7371360" y="1284120"/>
              <a:ext cx="630360" cy="49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" descr=""/>
            <p:cNvPicPr/>
            <p:nvPr/>
          </p:nvPicPr>
          <p:blipFill>
            <a:blip r:embed="rId2"/>
            <a:stretch/>
          </p:blipFill>
          <p:spPr>
            <a:xfrm rot="642000">
              <a:off x="6705720" y="1415880"/>
              <a:ext cx="1211760" cy="9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" descr=""/>
            <p:cNvPicPr/>
            <p:nvPr/>
          </p:nvPicPr>
          <p:blipFill>
            <a:blip r:embed="rId3"/>
            <a:stretch/>
          </p:blipFill>
          <p:spPr>
            <a:xfrm rot="706200">
              <a:off x="7360200" y="1219320"/>
              <a:ext cx="687600" cy="4586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424" name=""/>
          <p:cNvGraphicFramePr/>
          <p:nvPr/>
        </p:nvGraphicFramePr>
        <p:xfrm>
          <a:off x="-228600" y="3124080"/>
          <a:ext cx="4038480" cy="2694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228600" y="3124080"/>
                    <a:ext cx="4038480" cy="26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2590920" y="3124080"/>
          <a:ext cx="4038480" cy="2694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90920" y="3124080"/>
                    <a:ext cx="4038480" cy="26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5410080" y="3124080"/>
          <a:ext cx="4038840" cy="2694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410080" y="3124080"/>
                    <a:ext cx="4038840" cy="26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0" name=""/>
          <p:cNvSpPr txBox="1"/>
          <p:nvPr/>
        </p:nvSpPr>
        <p:spPr>
          <a:xfrm>
            <a:off x="4419720" y="3733920"/>
            <a:ext cx="761760" cy="152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SCRIBI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7467480" y="4191120"/>
            <a:ext cx="914400" cy="152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SCRIBI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32" name=""/>
          <p:cNvSpPr txBox="1"/>
          <p:nvPr/>
        </p:nvSpPr>
        <p:spPr>
          <a:xfrm rot="19921200">
            <a:off x="2057400" y="3581280"/>
            <a:ext cx="457200" cy="152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EER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5029200" y="3962520"/>
            <a:ext cx="457200" cy="152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EER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7543800" y="4648320"/>
            <a:ext cx="533520" cy="152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EER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1905120" y="4495680"/>
            <a:ext cx="685800" cy="152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ABLAR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648320" y="4724280"/>
            <a:ext cx="838080" cy="152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ABLAR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553080" y="4648320"/>
            <a:ext cx="762120" cy="152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ABLAR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6781680" y="4191120"/>
            <a:ext cx="457200" cy="152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IR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809880" y="3962520"/>
            <a:ext cx="609840" cy="228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IR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990720" y="4419720"/>
            <a:ext cx="533160" cy="228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IR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914400" y="3581280"/>
            <a:ext cx="990360" cy="152640"/>
            <a:chOff x="914400" y="3581280"/>
            <a:chExt cx="990360" cy="152640"/>
          </a:xfrm>
        </p:grpSpPr>
        <p:sp>
          <p:nvSpPr>
            <p:cNvPr id="442" name=""/>
            <p:cNvSpPr txBox="1"/>
            <p:nvPr/>
          </p:nvSpPr>
          <p:spPr>
            <a:xfrm>
              <a:off x="914400" y="3581280"/>
              <a:ext cx="874080" cy="1526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333399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ESCRIBIR</a:t>
              </a:r>
              <a:endPara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805400" y="3632040"/>
              <a:ext cx="99360" cy="8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4e4e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685800" y="289548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 AÑ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 year 1 )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AÑ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year 3 )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 AÑ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year 9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553080" y="914400"/>
            <a:ext cx="2057400" cy="1752480"/>
          </a:xfrm>
          <a:prstGeom prst="ellipse">
            <a:avLst/>
          </a:prstGeom>
          <a:gradFill rotWithShape="0">
            <a:gsLst>
              <a:gs pos="0">
                <a:srgbClr val="eaeaea">
                  <a:alpha val="60392"/>
                </a:srgbClr>
              </a:gs>
              <a:gs pos="100000">
                <a:srgbClr val="fefefe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250920" y="152280"/>
            <a:ext cx="6625800" cy="1374840"/>
            <a:chOff x="250920" y="152280"/>
            <a:chExt cx="6625800" cy="1374840"/>
          </a:xfrm>
        </p:grpSpPr>
        <p:grpSp>
          <p:nvGrpSpPr>
            <p:cNvPr id="447" name=""/>
            <p:cNvGrpSpPr/>
            <p:nvPr/>
          </p:nvGrpSpPr>
          <p:grpSpPr>
            <a:xfrm>
              <a:off x="651960" y="297000"/>
              <a:ext cx="6224760" cy="723240"/>
              <a:chOff x="651960" y="297000"/>
              <a:chExt cx="6224760" cy="723240"/>
            </a:xfrm>
          </p:grpSpPr>
          <p:sp>
            <p:nvSpPr>
              <p:cNvPr id="448" name=""/>
              <p:cNvSpPr/>
              <p:nvPr/>
            </p:nvSpPr>
            <p:spPr>
              <a:xfrm>
                <a:off x="651960" y="297000"/>
                <a:ext cx="6224760" cy="7232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efefe"/>
                  </a:gs>
                  <a:gs pos="100000">
                    <a:srgbClr val="808080"/>
                  </a:gs>
                </a:gsLst>
                <a:lin ang="81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24320" y="369000"/>
                <a:ext cx="6080040" cy="5788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 txBox="1"/>
              <p:nvPr/>
            </p:nvSpPr>
            <p:spPr>
              <a:xfrm>
                <a:off x="1593000" y="513720"/>
                <a:ext cx="5066280" cy="28908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        </a:t>
                </a: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LA ORALIDAD         </a:t>
                </a:r>
                <a:endPara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17819" dir="2700000" blurRad="0" rotWithShape="0">
                      <a:srgbClr val="001f1e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50920" y="152280"/>
              <a:ext cx="1197000" cy="1374840"/>
              <a:chOff x="250920" y="152280"/>
              <a:chExt cx="1197000" cy="1374840"/>
            </a:xfrm>
          </p:grpSpPr>
          <p:sp>
            <p:nvSpPr>
              <p:cNvPr id="452" name="">
                <a:hlinkClick r:id="rId10" action="ppaction://hlinksldjump"/>
              </p:cNvPr>
              <p:cNvSpPr/>
              <p:nvPr/>
            </p:nvSpPr>
            <p:spPr>
              <a:xfrm>
                <a:off x="250920" y="152280"/>
                <a:ext cx="1197000" cy="1374840"/>
              </a:xfrm>
              <a:custGeom>
                <a:avLst/>
                <a:gdLst>
                  <a:gd name="textAreaLeft" fmla="*/ 0 w 1197000"/>
                  <a:gd name="textAreaRight" fmla="*/ 1197000 w 1197000"/>
                  <a:gd name="textAreaTop" fmla="*/ 0 h 1374840"/>
                  <a:gd name="textAreaBottom" fmla="*/ 1375200 h 1374840"/>
                </a:gdLst>
                <a:ahLst/>
                <a:rect l="textAreaLeft" t="textAreaTop" r="textAreaRight" b="textAreaBottom"/>
                <a:pathLst>
                  <a:path w="21600" h="24808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4808"/>
                    </a:lnTo>
                    <a:lnTo>
                      <a:pt x="0" y="24808"/>
                    </a:lnTo>
                    <a:close/>
                  </a:path>
                  <a:path fill="lightenLess" w="21600" h="24808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  <a:path fill="darken" w="21600" h="24808">
                    <a:moveTo>
                      <a:pt x="21600" y="0"/>
                    </a:moveTo>
                    <a:lnTo>
                      <a:pt x="21600" y="24808"/>
                    </a:lnTo>
                    <a:lnTo>
                      <a:pt x="21600" y="24808"/>
                    </a:lnTo>
                    <a:lnTo>
                      <a:pt x="21600" y="0"/>
                    </a:lnTo>
                    <a:close/>
                  </a:path>
                  <a:path fill="darkenLess" w="21600" h="24808">
                    <a:moveTo>
                      <a:pt x="21600" y="24808"/>
                    </a:moveTo>
                    <a:lnTo>
                      <a:pt x="0" y="24808"/>
                    </a:lnTo>
                    <a:lnTo>
                      <a:pt x="0" y="24808"/>
                    </a:lnTo>
                    <a:lnTo>
                      <a:pt x="21600" y="24808"/>
                    </a:lnTo>
                    <a:close/>
                  </a:path>
                  <a:path fill="lighten" w="21600" h="24808">
                    <a:moveTo>
                      <a:pt x="0" y="2480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48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3" name=""/>
              <p:cNvGrpSpPr/>
              <p:nvPr/>
            </p:nvGrpSpPr>
            <p:grpSpPr>
              <a:xfrm>
                <a:off x="495000" y="296640"/>
                <a:ext cx="795600" cy="940320"/>
                <a:chOff x="495000" y="296640"/>
                <a:chExt cx="795600" cy="940320"/>
              </a:xfrm>
            </p:grpSpPr>
            <p:sp>
              <p:nvSpPr>
                <p:cNvPr id="454" name=""/>
                <p:cNvSpPr txBox="1"/>
                <p:nvPr/>
              </p:nvSpPr>
              <p:spPr>
                <a:xfrm>
                  <a:off x="495000" y="296640"/>
                  <a:ext cx="578520" cy="650880"/>
                </a:xfrm>
                <a:prstGeom prst="rect">
                  <a:avLst/>
                </a:prstGeom>
              </p:spPr>
              <p:txBody>
                <a:bodyPr wrap="none" lIns="90000" rIns="90000" tIns="46800" bIns="46800" anchor="ctr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0">
                        <a:noFill/>
                      </a:ln>
                      <a:gradFill rotWithShape="0">
                        <a:gsLst>
                          <a:gs pos="0">
                            <a:srgbClr val="752424"/>
                          </a:gs>
                          <a:gs pos="100000">
                            <a:srgbClr val="ff5050"/>
                          </a:gs>
                        </a:gsLst>
                        <a:lin ang="5400000"/>
                      </a:gradFill>
                      <a:effectLst>
                        <a:outerShdw dist="17819" dir="2700000" blurRad="0" rotWithShape="0">
                          <a:srgbClr val="333333"/>
                        </a:outerShdw>
                      </a:effectLst>
                      <a:latin typeface="Baskerville Old Face"/>
                    </a:rPr>
                    <a:t>C</a:t>
                  </a:r>
                  <a:endParaRPr b="1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752424"/>
                        </a:gs>
                        <a:gs pos="100000">
                          <a:srgbClr val="ff5050"/>
                        </a:gs>
                      </a:gsLst>
                      <a:lin ang="5400000"/>
                    </a:gradFill>
                    <a:effectLst>
                      <a:outerShdw dist="17819" dir="2700000" blurRad="0" rotWithShape="0">
                        <a:srgbClr val="333333"/>
                      </a:outerShdw>
                    </a:effectLst>
                    <a:latin typeface="Baskerville Old Face"/>
                    <a:ea typeface="Baskerville Old Face"/>
                  </a:endParaRPr>
                </a:p>
              </p:txBody>
            </p:sp>
            <p:sp>
              <p:nvSpPr>
                <p:cNvPr id="455" name=""/>
                <p:cNvSpPr txBox="1"/>
                <p:nvPr/>
              </p:nvSpPr>
              <p:spPr>
                <a:xfrm>
                  <a:off x="712080" y="586080"/>
                  <a:ext cx="578520" cy="650880"/>
                </a:xfrm>
                <a:prstGeom prst="rect">
                  <a:avLst/>
                </a:prstGeom>
              </p:spPr>
              <p:txBody>
                <a:bodyPr wrap="none" lIns="90000" rIns="90000" tIns="46800" bIns="46800" anchor="ctr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0">
                        <a:noFill/>
                      </a:ln>
                      <a:gradFill rotWithShape="0">
                        <a:gsLst>
                          <a:gs pos="0">
                            <a:srgbClr val="752424"/>
                          </a:gs>
                          <a:gs pos="100000">
                            <a:srgbClr val="ff5050"/>
                          </a:gs>
                        </a:gsLst>
                        <a:lin ang="5400000"/>
                      </a:gradFill>
                      <a:effectLst>
                        <a:outerShdw dist="17819" dir="2700000" blurRad="0" rotWithShape="0">
                          <a:srgbClr val="333333"/>
                        </a:outerShdw>
                      </a:effectLst>
                      <a:latin typeface="Baskerville Old Face"/>
                    </a:rPr>
                    <a:t>C</a:t>
                  </a:r>
                  <a:endParaRPr b="1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752424"/>
                        </a:gs>
                        <a:gs pos="100000">
                          <a:srgbClr val="ff5050"/>
                        </a:gs>
                      </a:gsLst>
                      <a:lin ang="5400000"/>
                    </a:gradFill>
                    <a:effectLst>
                      <a:outerShdw dist="17819" dir="2700000" blurRad="0" rotWithShape="0">
                        <a:srgbClr val="333333"/>
                      </a:outerShdw>
                    </a:effectLst>
                    <a:latin typeface="Baskerville Old Face"/>
                    <a:ea typeface="Baskerville Old Face"/>
                  </a:endParaRPr>
                </a:p>
              </p:txBody>
            </p:sp>
          </p:grpSp>
        </p:grpSp>
      </p:grpSp>
      <p:sp>
        <p:nvSpPr>
          <p:cNvPr id="456" name="">
            <a:hlinkClick r:id="" action="ppaction://hlinkshowjump?jump=nextslide"/>
          </p:cNvPr>
          <p:cNvSpPr/>
          <p:nvPr/>
        </p:nvSpPr>
        <p:spPr>
          <a:xfrm>
            <a:off x="784872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10800"/>
                </a:moveTo>
                <a:lnTo>
                  <a:pt x="26797" y="3794"/>
                </a:lnTo>
                <a:lnTo>
                  <a:pt x="26797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>
            <a:hlinkClick r:id="" action="ppaction://hlinkshowjump?jump=firstslide"/>
          </p:cNvPr>
          <p:cNvSpPr/>
          <p:nvPr/>
        </p:nvSpPr>
        <p:spPr>
          <a:xfrm>
            <a:off x="457200" y="6095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7301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5456" y="5956"/>
                </a:lnTo>
                <a:lnTo>
                  <a:pt x="5456" y="19969"/>
                </a:lnTo>
                <a:lnTo>
                  <a:pt x="3794" y="19969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1066680" y="3809880"/>
            <a:ext cx="457200" cy="228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%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1066680" y="4724280"/>
            <a:ext cx="457200" cy="228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5%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2209680" y="4724280"/>
            <a:ext cx="457200" cy="228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0%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981080" y="3886200"/>
            <a:ext cx="533520" cy="228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0%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648320" y="3429000"/>
            <a:ext cx="533160" cy="228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0%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952880" y="4191120"/>
            <a:ext cx="533520" cy="228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5%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3886200" y="4267080"/>
            <a:ext cx="533520" cy="228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0%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0" y="5029200"/>
            <a:ext cx="533520" cy="228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5%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6858000" y="3733920"/>
            <a:ext cx="533520" cy="228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5%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6858000" y="4952880"/>
            <a:ext cx="533520" cy="228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5%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7620120" y="4952880"/>
            <a:ext cx="533160" cy="228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5%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7620120" y="3733920"/>
            <a:ext cx="533160" cy="228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5%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7c9c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380880" y="380880"/>
            <a:ext cx="8610840" cy="6324840"/>
          </a:xfrm>
          <a:prstGeom prst="flowChartPunchedCard">
            <a:avLst/>
          </a:prstGeom>
          <a:gradFill rotWithShape="0">
            <a:gsLst>
              <a:gs pos="0">
                <a:srgbClr val="80808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04920" y="304920"/>
            <a:ext cx="8610480" cy="6324480"/>
          </a:xfrm>
          <a:prstGeom prst="flowChartPunchedCard">
            <a:avLst/>
          </a:prstGeom>
          <a:gradFill rotWithShape="0">
            <a:gsLst>
              <a:gs pos="0">
                <a:srgbClr val="eaeaea"/>
              </a:gs>
              <a:gs pos="50000">
                <a:srgbClr val="fefefe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50920" y="152280"/>
            <a:ext cx="7006320" cy="1374840"/>
            <a:chOff x="250920" y="152280"/>
            <a:chExt cx="7006320" cy="1374840"/>
          </a:xfrm>
        </p:grpSpPr>
        <p:grpSp>
          <p:nvGrpSpPr>
            <p:cNvPr id="474" name=""/>
            <p:cNvGrpSpPr/>
            <p:nvPr/>
          </p:nvGrpSpPr>
          <p:grpSpPr>
            <a:xfrm>
              <a:off x="651600" y="297000"/>
              <a:ext cx="6605640" cy="723240"/>
              <a:chOff x="651600" y="297000"/>
              <a:chExt cx="6605640" cy="723240"/>
            </a:xfrm>
          </p:grpSpPr>
          <p:sp>
            <p:nvSpPr>
              <p:cNvPr id="475" name=""/>
              <p:cNvSpPr/>
              <p:nvPr/>
            </p:nvSpPr>
            <p:spPr>
              <a:xfrm>
                <a:off x="651600" y="297000"/>
                <a:ext cx="6605640" cy="7232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efefe"/>
                  </a:gs>
                  <a:gs pos="100000">
                    <a:srgbClr val="808080"/>
                  </a:gs>
                </a:gsLst>
                <a:lin ang="81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28280" y="369000"/>
                <a:ext cx="6452280" cy="5788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 txBox="1"/>
              <p:nvPr/>
            </p:nvSpPr>
            <p:spPr>
              <a:xfrm>
                <a:off x="1650240" y="513720"/>
                <a:ext cx="5376600" cy="28908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APRENDIZAJE POR TAREAS</a:t>
                </a:r>
                <a:endPara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17819" dir="2700000" blurRad="0" rotWithShape="0">
                      <a:srgbClr val="001f1e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250920" y="152280"/>
              <a:ext cx="1196640" cy="1374840"/>
              <a:chOff x="250920" y="152280"/>
              <a:chExt cx="1196640" cy="1374840"/>
            </a:xfrm>
          </p:grpSpPr>
          <p:sp>
            <p:nvSpPr>
              <p:cNvPr id="479" name="">
                <a:hlinkClick r:id="rId1" action="ppaction://hlinksldjump"/>
              </p:cNvPr>
              <p:cNvSpPr/>
              <p:nvPr/>
            </p:nvSpPr>
            <p:spPr>
              <a:xfrm>
                <a:off x="250920" y="152280"/>
                <a:ext cx="1196640" cy="1374840"/>
              </a:xfrm>
              <a:custGeom>
                <a:avLst/>
                <a:gdLst>
                  <a:gd name="textAreaLeft" fmla="*/ 0 w 1196640"/>
                  <a:gd name="textAreaRight" fmla="*/ 1197000 w 1196640"/>
                  <a:gd name="textAreaTop" fmla="*/ 0 h 1374840"/>
                  <a:gd name="textAreaBottom" fmla="*/ 1375200 h 1374840"/>
                </a:gdLst>
                <a:ahLst/>
                <a:rect l="textAreaLeft" t="textAreaTop" r="textAreaRight" b="textAreaBottom"/>
                <a:pathLst>
                  <a:path w="21600" h="24816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4816"/>
                    </a:lnTo>
                    <a:lnTo>
                      <a:pt x="0" y="24816"/>
                    </a:lnTo>
                    <a:close/>
                  </a:path>
                  <a:path fill="lightenLess" w="21600" h="24816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  <a:path fill="darken" w="21600" h="24816">
                    <a:moveTo>
                      <a:pt x="21600" y="0"/>
                    </a:moveTo>
                    <a:lnTo>
                      <a:pt x="21600" y="24816"/>
                    </a:lnTo>
                    <a:lnTo>
                      <a:pt x="21600" y="24816"/>
                    </a:lnTo>
                    <a:lnTo>
                      <a:pt x="21600" y="0"/>
                    </a:lnTo>
                    <a:close/>
                  </a:path>
                  <a:path fill="darkenLess" w="21600" h="24816">
                    <a:moveTo>
                      <a:pt x="21600" y="24816"/>
                    </a:moveTo>
                    <a:lnTo>
                      <a:pt x="0" y="24816"/>
                    </a:lnTo>
                    <a:lnTo>
                      <a:pt x="0" y="24816"/>
                    </a:lnTo>
                    <a:lnTo>
                      <a:pt x="21600" y="24816"/>
                    </a:lnTo>
                    <a:close/>
                  </a:path>
                  <a:path fill="lighten" w="21600" h="24816">
                    <a:moveTo>
                      <a:pt x="0" y="2481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48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0" name=""/>
              <p:cNvGrpSpPr/>
              <p:nvPr/>
            </p:nvGrpSpPr>
            <p:grpSpPr>
              <a:xfrm>
                <a:off x="494640" y="296640"/>
                <a:ext cx="795600" cy="940320"/>
                <a:chOff x="494640" y="296640"/>
                <a:chExt cx="795600" cy="940320"/>
              </a:xfrm>
            </p:grpSpPr>
            <p:sp>
              <p:nvSpPr>
                <p:cNvPr id="481" name=""/>
                <p:cNvSpPr txBox="1"/>
                <p:nvPr/>
              </p:nvSpPr>
              <p:spPr>
                <a:xfrm>
                  <a:off x="494640" y="296640"/>
                  <a:ext cx="578520" cy="650880"/>
                </a:xfrm>
                <a:prstGeom prst="rect">
                  <a:avLst/>
                </a:prstGeom>
              </p:spPr>
              <p:txBody>
                <a:bodyPr wrap="none" lIns="90000" rIns="90000" tIns="46800" bIns="46800" anchor="ctr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0">
                        <a:noFill/>
                      </a:ln>
                      <a:gradFill rotWithShape="0">
                        <a:gsLst>
                          <a:gs pos="0">
                            <a:srgbClr val="752424"/>
                          </a:gs>
                          <a:gs pos="100000">
                            <a:srgbClr val="ff5050"/>
                          </a:gs>
                        </a:gsLst>
                        <a:lin ang="5400000"/>
                      </a:gradFill>
                      <a:effectLst>
                        <a:outerShdw dist="17819" dir="2700000" blurRad="0" rotWithShape="0">
                          <a:srgbClr val="333333"/>
                        </a:outerShdw>
                      </a:effectLst>
                      <a:latin typeface="Baskerville Old Face"/>
                    </a:rPr>
                    <a:t>C</a:t>
                  </a:r>
                  <a:endParaRPr b="1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752424"/>
                        </a:gs>
                        <a:gs pos="100000">
                          <a:srgbClr val="ff5050"/>
                        </a:gs>
                      </a:gsLst>
                      <a:lin ang="5400000"/>
                    </a:gradFill>
                    <a:effectLst>
                      <a:outerShdw dist="17819" dir="2700000" blurRad="0" rotWithShape="0">
                        <a:srgbClr val="333333"/>
                      </a:outerShdw>
                    </a:effectLst>
                    <a:latin typeface="Baskerville Old Face"/>
                    <a:ea typeface="Baskerville Old Face"/>
                  </a:endParaRPr>
                </a:p>
              </p:txBody>
            </p:sp>
            <p:sp>
              <p:nvSpPr>
                <p:cNvPr id="482" name=""/>
                <p:cNvSpPr txBox="1"/>
                <p:nvPr/>
              </p:nvSpPr>
              <p:spPr>
                <a:xfrm>
                  <a:off x="711720" y="586080"/>
                  <a:ext cx="578520" cy="650880"/>
                </a:xfrm>
                <a:prstGeom prst="rect">
                  <a:avLst/>
                </a:prstGeom>
              </p:spPr>
              <p:txBody>
                <a:bodyPr wrap="none" lIns="90000" rIns="90000" tIns="46800" bIns="46800" anchor="ctr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0">
                        <a:noFill/>
                      </a:ln>
                      <a:gradFill rotWithShape="0">
                        <a:gsLst>
                          <a:gs pos="0">
                            <a:srgbClr val="752424"/>
                          </a:gs>
                          <a:gs pos="100000">
                            <a:srgbClr val="ff5050"/>
                          </a:gs>
                        </a:gsLst>
                        <a:lin ang="5400000"/>
                      </a:gradFill>
                      <a:effectLst>
                        <a:outerShdw dist="17819" dir="2700000" blurRad="0" rotWithShape="0">
                          <a:srgbClr val="333333"/>
                        </a:outerShdw>
                      </a:effectLst>
                      <a:latin typeface="Baskerville Old Face"/>
                    </a:rPr>
                    <a:t>C</a:t>
                  </a:r>
                  <a:endParaRPr b="1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752424"/>
                        </a:gs>
                        <a:gs pos="100000">
                          <a:srgbClr val="ff5050"/>
                        </a:gs>
                      </a:gsLst>
                      <a:lin ang="5400000"/>
                    </a:gradFill>
                    <a:effectLst>
                      <a:outerShdw dist="17819" dir="2700000" blurRad="0" rotWithShape="0">
                        <a:srgbClr val="333333"/>
                      </a:outerShdw>
                    </a:effectLst>
                    <a:latin typeface="Baskerville Old Face"/>
                    <a:ea typeface="Baskerville Old Face"/>
                  </a:endParaRPr>
                </a:p>
              </p:txBody>
            </p:sp>
          </p:grpSp>
        </p:grpSp>
      </p:grpSp>
      <p:grpSp>
        <p:nvGrpSpPr>
          <p:cNvPr id="483" name=""/>
          <p:cNvGrpSpPr/>
          <p:nvPr/>
        </p:nvGrpSpPr>
        <p:grpSpPr>
          <a:xfrm>
            <a:off x="1890720" y="2014560"/>
            <a:ext cx="5572080" cy="3319560"/>
            <a:chOff x="1890720" y="2014560"/>
            <a:chExt cx="5572080" cy="3319560"/>
          </a:xfrm>
        </p:grpSpPr>
        <p:sp>
          <p:nvSpPr>
            <p:cNvPr id="484" name=""/>
            <p:cNvSpPr/>
            <p:nvPr/>
          </p:nvSpPr>
          <p:spPr>
            <a:xfrm>
              <a:off x="3809880" y="4348080"/>
              <a:ext cx="1646280" cy="986040"/>
            </a:xfrm>
            <a:custGeom>
              <a:avLst/>
              <a:gdLst>
                <a:gd name="textAreaLeft" fmla="*/ 0 w 1646280"/>
                <a:gd name="textAreaRight" fmla="*/ 1646640 w 1646280"/>
                <a:gd name="textAreaTop" fmla="*/ 0 h 986040"/>
                <a:gd name="textAreaBottom" fmla="*/ 986400 h 986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5100" y="4334"/>
                  </a:lnTo>
                  <a:lnTo>
                    <a:pt x="13000" y="4334"/>
                  </a:lnTo>
                  <a:lnTo>
                    <a:pt x="13000" y="8600"/>
                  </a:lnTo>
                  <a:lnTo>
                    <a:pt x="17266" y="8600"/>
                  </a:lnTo>
                  <a:lnTo>
                    <a:pt x="17266" y="6500"/>
                  </a:lnTo>
                  <a:lnTo>
                    <a:pt x="21600" y="10800"/>
                  </a:lnTo>
                  <a:lnTo>
                    <a:pt x="17266" y="15100"/>
                  </a:lnTo>
                  <a:lnTo>
                    <a:pt x="17266" y="13000"/>
                  </a:lnTo>
                  <a:lnTo>
                    <a:pt x="4334" y="13000"/>
                  </a:lnTo>
                  <a:lnTo>
                    <a:pt x="4334" y="15100"/>
                  </a:lnTo>
                  <a:lnTo>
                    <a:pt x="0" y="10800"/>
                  </a:lnTo>
                  <a:lnTo>
                    <a:pt x="4334" y="6500"/>
                  </a:lnTo>
                  <a:lnTo>
                    <a:pt x="4334" y="8600"/>
                  </a:lnTo>
                  <a:lnTo>
                    <a:pt x="8600" y="8600"/>
                  </a:lnTo>
                  <a:lnTo>
                    <a:pt x="8600" y="4334"/>
                  </a:lnTo>
                  <a:lnTo>
                    <a:pt x="6500" y="4334"/>
                  </a:lnTo>
                  <a:close/>
                </a:path>
              </a:pathLst>
            </a:custGeom>
            <a:gradFill rotWithShape="0">
              <a:gsLst>
                <a:gs pos="0">
                  <a:srgbClr val="ff6600">
                    <a:alpha val="0"/>
                  </a:srgbClr>
                </a:gs>
                <a:gs pos="100000">
                  <a:srgbClr val="f20000">
                    <a:alpha val="4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703920" y="2014560"/>
              <a:ext cx="758880" cy="1859040"/>
            </a:xfrm>
            <a:prstGeom prst="downArrow">
              <a:avLst>
                <a:gd name="adj1" fmla="val 50000"/>
                <a:gd name="adj2" fmla="val 61243"/>
              </a:avLst>
            </a:prstGeom>
            <a:gradFill rotWithShape="0">
              <a:gsLst>
                <a:gs pos="0">
                  <a:srgbClr val="ff6600">
                    <a:alpha val="0"/>
                  </a:srgbClr>
                </a:gs>
                <a:gs pos="100000">
                  <a:srgbClr val="f20000">
                    <a:alpha val="4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890720" y="2014560"/>
              <a:ext cx="758880" cy="1859040"/>
            </a:xfrm>
            <a:prstGeom prst="downArrow">
              <a:avLst>
                <a:gd name="adj1" fmla="val 50000"/>
                <a:gd name="adj2" fmla="val 61243"/>
              </a:avLst>
            </a:prstGeom>
            <a:gradFill rotWithShape="0">
              <a:gsLst>
                <a:gs pos="0">
                  <a:srgbClr val="ff6600">
                    <a:alpha val="0"/>
                  </a:srgbClr>
                </a:gs>
                <a:gs pos="100000">
                  <a:srgbClr val="f20000">
                    <a:alpha val="4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_s1033"/>
          <p:cNvSpPr/>
          <p:nvPr/>
        </p:nvSpPr>
        <p:spPr>
          <a:xfrm flipV="1">
            <a:off x="1636560" y="4782960"/>
            <a:ext cx="2025720" cy="1160640"/>
          </a:xfrm>
          <a:custGeom>
            <a:avLst/>
            <a:gdLst>
              <a:gd name="textAreaLeft" fmla="*/ 163800 w 2025720"/>
              <a:gd name="textAreaRight" fmla="*/ 1861920 w 2025720"/>
              <a:gd name="textAreaTop" fmla="*/ 93960 h 1160640"/>
              <a:gd name="textAreaBottom" fmla="*/ 1066680 h 116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ffffff">
                  <a:alpha val="29019"/>
                </a:srgbClr>
              </a:gs>
              <a:gs pos="100000">
                <a:srgbClr val="33cc33"/>
              </a:gs>
            </a:gsLst>
            <a:lin ang="10800000"/>
          </a:gra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 Demi"/>
              </a:rPr>
              <a:t>OBJETIV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 Demi"/>
              </a:rPr>
              <a:t>CUMPL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5529240" y="4784760"/>
            <a:ext cx="1977120" cy="1270440"/>
            <a:chOff x="5529240" y="4784760"/>
            <a:chExt cx="1977120" cy="1270440"/>
          </a:xfrm>
        </p:grpSpPr>
        <p:sp>
          <p:nvSpPr>
            <p:cNvPr id="489" name="_s48211"/>
            <p:cNvSpPr/>
            <p:nvPr/>
          </p:nvSpPr>
          <p:spPr>
            <a:xfrm flipV="1">
              <a:off x="5530320" y="4784400"/>
              <a:ext cx="1976040" cy="315720"/>
            </a:xfrm>
            <a:custGeom>
              <a:avLst/>
              <a:gdLst>
                <a:gd name="textAreaLeft" fmla="*/ 159840 w 1976040"/>
                <a:gd name="textAreaRight" fmla="*/ 1816200 w 1976040"/>
                <a:gd name="textAreaTop" fmla="*/ 25560 h 315720"/>
                <a:gd name="textAreaBottom" fmla="*/ 290160 h 31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cc00">
                    <a:alpha val="56078"/>
                  </a:srgbClr>
                </a:gs>
                <a:gs pos="50000">
                  <a:srgbClr val="ff6600">
                    <a:alpha val="29019"/>
                  </a:srgbClr>
                </a:gs>
                <a:gs pos="100000">
                  <a:srgbClr val="ffcc00">
                    <a:alpha val="56078"/>
                  </a:srgbClr>
                </a:gs>
              </a:gsLst>
              <a:lin ang="108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erlin Sans FB Demi"/>
                </a:rPr>
                <a:t>OBJETIVOS </a:t>
              </a:r>
              <a:r>
                <a:rPr b="0" lang="en-US" sz="1300" spc="-1" strike="noStrike">
                  <a:solidFill>
                    <a:srgbClr val="ac0000"/>
                  </a:solidFill>
                  <a:latin typeface="Berlin Sans FB Demi"/>
                </a:rPr>
                <a:t>NO</a:t>
              </a:r>
              <a:r>
                <a:rPr b="0" lang="en-US" sz="1300" spc="-1" strike="noStrike">
                  <a:solidFill>
                    <a:srgbClr val="000000"/>
                  </a:solidFill>
                  <a:latin typeface="Berlin Sans FB Demi"/>
                </a:rPr>
                <a:t> CUMPLIDO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_s48212"/>
            <p:cNvSpPr/>
            <p:nvPr/>
          </p:nvSpPr>
          <p:spPr>
            <a:xfrm flipV="1">
              <a:off x="5529240" y="5074920"/>
              <a:ext cx="1976040" cy="317160"/>
            </a:xfrm>
            <a:custGeom>
              <a:avLst/>
              <a:gdLst>
                <a:gd name="textAreaLeft" fmla="*/ 159840 w 1976040"/>
                <a:gd name="textAreaRight" fmla="*/ 1816200 w 1976040"/>
                <a:gd name="textAreaTop" fmla="*/ 25560 h 317160"/>
                <a:gd name="textAreaBottom" fmla="*/ 291600 h 31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cc00">
                    <a:alpha val="56078"/>
                  </a:srgbClr>
                </a:gs>
                <a:gs pos="50000">
                  <a:srgbClr val="ff6600">
                    <a:alpha val="29019"/>
                  </a:srgbClr>
                </a:gs>
                <a:gs pos="100000">
                  <a:srgbClr val="ffcc00">
                    <a:alpha val="56078"/>
                  </a:srgbClr>
                </a:gs>
              </a:gsLst>
              <a:lin ang="108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erlin Sans FB Demi"/>
                </a:rPr>
                <a:t>NUEVAS TAREA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_s48213"/>
            <p:cNvSpPr/>
            <p:nvPr/>
          </p:nvSpPr>
          <p:spPr>
            <a:xfrm flipV="1">
              <a:off x="5529240" y="5737680"/>
              <a:ext cx="1976040" cy="317160"/>
            </a:xfrm>
            <a:custGeom>
              <a:avLst/>
              <a:gdLst>
                <a:gd name="textAreaLeft" fmla="*/ 159840 w 1976040"/>
                <a:gd name="textAreaRight" fmla="*/ 1816200 w 1976040"/>
                <a:gd name="textAreaTop" fmla="*/ 25560 h 317160"/>
                <a:gd name="textAreaBottom" fmla="*/ 291600 h 31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cc00">
                    <a:alpha val="56078"/>
                  </a:srgbClr>
                </a:gs>
                <a:gs pos="50000">
                  <a:srgbClr val="ff6600">
                    <a:alpha val="29019"/>
                  </a:srgbClr>
                </a:gs>
                <a:gs pos="100000">
                  <a:srgbClr val="ffcc00">
                    <a:alpha val="56078"/>
                  </a:srgbClr>
                </a:gs>
              </a:gsLst>
              <a:lin ang="108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erlin Sans FB Demi"/>
                </a:rPr>
                <a:t>NUEVOS RESULTADO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_s48214"/>
            <p:cNvSpPr/>
            <p:nvPr/>
          </p:nvSpPr>
          <p:spPr>
            <a:xfrm flipV="1">
              <a:off x="5530320" y="5365440"/>
              <a:ext cx="1976040" cy="315720"/>
            </a:xfrm>
            <a:custGeom>
              <a:avLst/>
              <a:gdLst>
                <a:gd name="textAreaLeft" fmla="*/ 159840 w 1976040"/>
                <a:gd name="textAreaRight" fmla="*/ 1816200 w 1976040"/>
                <a:gd name="textAreaTop" fmla="*/ 25560 h 315720"/>
                <a:gd name="textAreaBottom" fmla="*/ 290160 h 31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cc00">
                    <a:alpha val="56078"/>
                  </a:srgbClr>
                </a:gs>
                <a:gs pos="50000">
                  <a:srgbClr val="ff6600">
                    <a:alpha val="29019"/>
                  </a:srgbClr>
                </a:gs>
                <a:gs pos="100000">
                  <a:srgbClr val="ffcc00">
                    <a:alpha val="56078"/>
                  </a:srgbClr>
                </a:gs>
              </a:gsLst>
              <a:lin ang="108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erlin Sans FB Demi"/>
                </a:rPr>
                <a:t>NUEVA EVALUACIÓ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2217240" y="1347120"/>
            <a:ext cx="4692600" cy="3359880"/>
            <a:chOff x="2217240" y="1347120"/>
            <a:chExt cx="4692600" cy="3359880"/>
          </a:xfrm>
        </p:grpSpPr>
        <p:sp>
          <p:nvSpPr>
            <p:cNvPr id="494" name="_s48217"/>
            <p:cNvSpPr/>
            <p:nvPr/>
          </p:nvSpPr>
          <p:spPr>
            <a:xfrm flipV="1">
              <a:off x="4086000" y="1347120"/>
              <a:ext cx="941040" cy="668160"/>
            </a:xfrm>
            <a:custGeom>
              <a:avLst/>
              <a:gdLst>
                <a:gd name="textAreaLeft" fmla="*/ 75960 w 941040"/>
                <a:gd name="textAreaRight" fmla="*/ 865080 w 941040"/>
                <a:gd name="textAreaTop" fmla="*/ 54000 h 668160"/>
                <a:gd name="textAreaBottom" fmla="*/ 614160 h 66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20000">
                    <a:alpha val="76078"/>
                  </a:srgbClr>
                </a:gs>
                <a:gs pos="50000">
                  <a:srgbClr val="ff6600">
                    <a:alpha val="29019"/>
                  </a:srgbClr>
                </a:gs>
                <a:gs pos="100000">
                  <a:srgbClr val="f20000">
                    <a:alpha val="76078"/>
                  </a:srgbClr>
                </a:gs>
              </a:gsLst>
              <a:lin ang="108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Berlin Sans FB Demi"/>
                </a:rPr>
                <a:t>COMPETENCIAS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_s48218"/>
            <p:cNvSpPr/>
            <p:nvPr/>
          </p:nvSpPr>
          <p:spPr>
            <a:xfrm flipV="1">
              <a:off x="3618720" y="2014560"/>
              <a:ext cx="1875960" cy="669240"/>
            </a:xfrm>
            <a:custGeom>
              <a:avLst/>
              <a:gdLst>
                <a:gd name="textAreaLeft" fmla="*/ 151920 w 1875960"/>
                <a:gd name="textAreaRight" fmla="*/ 1724040 w 1875960"/>
                <a:gd name="textAreaTop" fmla="*/ 54000 h 669240"/>
                <a:gd name="textAreaBottom" fmla="*/ 615240 h 66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20000">
                    <a:alpha val="76078"/>
                  </a:srgbClr>
                </a:gs>
                <a:gs pos="50000">
                  <a:srgbClr val="ff6600">
                    <a:alpha val="29019"/>
                  </a:srgbClr>
                </a:gs>
                <a:gs pos="100000">
                  <a:srgbClr val="f20000">
                    <a:alpha val="76078"/>
                  </a:srgbClr>
                </a:gs>
              </a:gsLst>
              <a:lin ang="108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Berlin Sans FB Demi"/>
                </a:rPr>
                <a:t>OBJETIVO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_s48219"/>
            <p:cNvSpPr/>
            <p:nvPr/>
          </p:nvSpPr>
          <p:spPr>
            <a:xfrm flipV="1">
              <a:off x="3148200" y="2684160"/>
              <a:ext cx="2816640" cy="669600"/>
            </a:xfrm>
            <a:custGeom>
              <a:avLst/>
              <a:gdLst>
                <a:gd name="textAreaLeft" fmla="*/ 227880 w 2816640"/>
                <a:gd name="textAreaRight" fmla="*/ 2588760 w 2816640"/>
                <a:gd name="textAreaTop" fmla="*/ 54000 h 669600"/>
                <a:gd name="textAreaBottom" fmla="*/ 615600 h 66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20000">
                    <a:alpha val="76078"/>
                  </a:srgbClr>
                </a:gs>
                <a:gs pos="50000">
                  <a:srgbClr val="ff6600">
                    <a:alpha val="29019"/>
                  </a:srgbClr>
                </a:gs>
                <a:gs pos="100000">
                  <a:srgbClr val="f20000">
                    <a:alpha val="76078"/>
                  </a:srgbClr>
                </a:gs>
              </a:gsLst>
              <a:lin ang="108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Berlin Sans FB Demi"/>
                </a:rPr>
                <a:t>TAREAS O PROYECTO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_s48220"/>
            <p:cNvSpPr/>
            <p:nvPr/>
          </p:nvSpPr>
          <p:spPr>
            <a:xfrm flipV="1">
              <a:off x="2719440" y="3335400"/>
              <a:ext cx="3753360" cy="669240"/>
            </a:xfrm>
            <a:custGeom>
              <a:avLst/>
              <a:gdLst>
                <a:gd name="textAreaLeft" fmla="*/ 303840 w 3753360"/>
                <a:gd name="textAreaRight" fmla="*/ 3449520 w 3753360"/>
                <a:gd name="textAreaTop" fmla="*/ 54000 h 669240"/>
                <a:gd name="textAreaBottom" fmla="*/ 615240 h 66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20000">
                    <a:alpha val="76078"/>
                  </a:srgbClr>
                </a:gs>
                <a:gs pos="50000">
                  <a:srgbClr val="ff6600">
                    <a:alpha val="29019"/>
                  </a:srgbClr>
                </a:gs>
                <a:gs pos="100000">
                  <a:srgbClr val="f20000">
                    <a:alpha val="76078"/>
                  </a:srgbClr>
                </a:gs>
              </a:gsLst>
              <a:lin ang="108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Berlin Sans FB Demi"/>
                </a:rPr>
                <a:t>EVALUACIÓ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_s48221"/>
            <p:cNvSpPr/>
            <p:nvPr/>
          </p:nvSpPr>
          <p:spPr>
            <a:xfrm flipV="1">
              <a:off x="2217240" y="4038840"/>
              <a:ext cx="4692600" cy="668160"/>
            </a:xfrm>
            <a:custGeom>
              <a:avLst/>
              <a:gdLst>
                <a:gd name="textAreaLeft" fmla="*/ 380160 w 4692600"/>
                <a:gd name="textAreaRight" fmla="*/ 4312440 w 4692600"/>
                <a:gd name="textAreaTop" fmla="*/ 54000 h 668160"/>
                <a:gd name="textAreaBottom" fmla="*/ 614160 h 66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20000">
                    <a:alpha val="76078"/>
                  </a:srgbClr>
                </a:gs>
                <a:gs pos="50000">
                  <a:srgbClr val="ff6600">
                    <a:alpha val="29019"/>
                  </a:srgbClr>
                </a:gs>
                <a:gs pos="100000">
                  <a:srgbClr val="f20000">
                    <a:alpha val="76078"/>
                  </a:srgbClr>
                </a:gs>
              </a:gsLst>
              <a:lin ang="108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Berlin Sans FB Demi"/>
                </a:rPr>
                <a:t>RESULTADOS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>
            <a:hlinkClick r:id="" action="ppaction://hlinkshowjump?jump=nextslide"/>
          </p:cNvPr>
          <p:cNvSpPr/>
          <p:nvPr/>
        </p:nvSpPr>
        <p:spPr>
          <a:xfrm>
            <a:off x="784872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10800"/>
                </a:moveTo>
                <a:lnTo>
                  <a:pt x="26797" y="3794"/>
                </a:lnTo>
                <a:lnTo>
                  <a:pt x="26797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>
            <a:hlinkClick r:id="" action="ppaction://hlinkshowjump?jump=firstslide"/>
          </p:cNvPr>
          <p:cNvSpPr/>
          <p:nvPr/>
        </p:nvSpPr>
        <p:spPr>
          <a:xfrm>
            <a:off x="457200" y="6095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7301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5456" y="5956"/>
                </a:lnTo>
                <a:lnTo>
                  <a:pt x="5456" y="19969"/>
                </a:lnTo>
                <a:lnTo>
                  <a:pt x="3794" y="19969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7c9c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380880" y="380880"/>
            <a:ext cx="8610840" cy="6324840"/>
          </a:xfrm>
          <a:prstGeom prst="flowChartPunchedCard">
            <a:avLst/>
          </a:prstGeom>
          <a:gradFill rotWithShape="0">
            <a:gsLst>
              <a:gs pos="0">
                <a:srgbClr val="80808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04920" y="304920"/>
            <a:ext cx="8610480" cy="6324480"/>
          </a:xfrm>
          <a:prstGeom prst="flowChartPunchedCard">
            <a:avLst/>
          </a:prstGeom>
          <a:gradFill rotWithShape="0">
            <a:gsLst>
              <a:gs pos="0">
                <a:srgbClr val="eaeaea"/>
              </a:gs>
              <a:gs pos="50000">
                <a:srgbClr val="fefefe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457200" y="609480"/>
            <a:ext cx="8153280" cy="5410440"/>
            <a:chOff x="457200" y="609480"/>
            <a:chExt cx="8153280" cy="5410440"/>
          </a:xfrm>
        </p:grpSpPr>
        <p:sp>
          <p:nvSpPr>
            <p:cNvPr id="505" name="_s1028"/>
            <p:cNvSpPr/>
            <p:nvPr/>
          </p:nvSpPr>
          <p:spPr>
            <a:xfrm>
              <a:off x="3032280" y="1406520"/>
              <a:ext cx="3146400" cy="3022560"/>
            </a:xfrm>
            <a:prstGeom prst="ellipse">
              <a:avLst/>
            </a:prstGeom>
            <a:solidFill>
              <a:srgbClr val="f9f67f">
                <a:alpha val="50000"/>
              </a:srgbClr>
            </a:soli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_s1029"/>
            <p:cNvSpPr/>
            <p:nvPr/>
          </p:nvSpPr>
          <p:spPr>
            <a:xfrm>
              <a:off x="3770280" y="1895400"/>
              <a:ext cx="16556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_s1030"/>
            <p:cNvSpPr/>
            <p:nvPr/>
          </p:nvSpPr>
          <p:spPr>
            <a:xfrm>
              <a:off x="4075200" y="2992320"/>
              <a:ext cx="3147840" cy="302256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_s1031"/>
            <p:cNvSpPr/>
            <p:nvPr/>
          </p:nvSpPr>
          <p:spPr>
            <a:xfrm>
              <a:off x="5180040" y="4253040"/>
              <a:ext cx="16556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_s1032"/>
            <p:cNvSpPr/>
            <p:nvPr/>
          </p:nvSpPr>
          <p:spPr>
            <a:xfrm>
              <a:off x="1865160" y="2995560"/>
              <a:ext cx="3148200" cy="3024360"/>
            </a:xfrm>
            <a:prstGeom prst="ellipse">
              <a:avLst/>
            </a:prstGeom>
            <a:solidFill>
              <a:srgbClr val="ff9933">
                <a:alpha val="50000"/>
              </a:srgbClr>
            </a:soli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_s1033"/>
            <p:cNvSpPr/>
            <p:nvPr/>
          </p:nvSpPr>
          <p:spPr>
            <a:xfrm>
              <a:off x="2359080" y="4371840"/>
              <a:ext cx="165420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 txBox="1"/>
            <p:nvPr/>
          </p:nvSpPr>
          <p:spPr>
            <a:xfrm>
              <a:off x="3645000" y="3521160"/>
              <a:ext cx="1779480" cy="47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latin typeface="Arial Black"/>
                </a:rPr>
                <a:t>TAREA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12" name=""/>
            <p:cNvSpPr txBox="1"/>
            <p:nvPr/>
          </p:nvSpPr>
          <p:spPr>
            <a:xfrm>
              <a:off x="3459240" y="609480"/>
              <a:ext cx="2270160" cy="130356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ac0000"/>
                  </a:solidFill>
                  <a:latin typeface="Berlin Sans FB Demi"/>
                </a:rPr>
                <a:t> </a:t>
              </a:r>
              <a:endParaRPr b="0" lang="en-US" sz="1800" spc="1" strike="noStrike">
                <a:ln w="0">
                  <a:noFill/>
                </a:ln>
                <a:solidFill>
                  <a:srgbClr val="ac0000"/>
                </a:solidFill>
                <a:latin typeface="Berlin Sans FB Demi"/>
                <a:ea typeface="Berlin Sans FB Dem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1" strike="noStrike">
                <a:ln w="0">
                  <a:noFill/>
                </a:ln>
                <a:solidFill>
                  <a:srgbClr val="ac0000"/>
                </a:solidFill>
                <a:latin typeface="Berlin Sans FB Demi"/>
                <a:ea typeface="Berlin Sans FB Dem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ac0000"/>
                  </a:solidFill>
                  <a:latin typeface="Berlin Sans FB Demi"/>
                </a:rPr>
                <a:t>COMPETENCIAS</a:t>
              </a:r>
              <a:endParaRPr b="0" lang="en-US" sz="1800" spc="1" strike="noStrike">
                <a:ln w="0">
                  <a:noFill/>
                </a:ln>
                <a:solidFill>
                  <a:srgbClr val="ac0000"/>
                </a:solidFill>
                <a:latin typeface="Berlin Sans FB Demi"/>
                <a:ea typeface="Berlin Sans FB Dem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1" strike="noStrike">
                <a:ln w="0">
                  <a:noFill/>
                </a:ln>
                <a:solidFill>
                  <a:srgbClr val="ac0000"/>
                </a:solidFill>
                <a:latin typeface="Berlin Sans FB Demi"/>
                <a:ea typeface="Berlin Sans FB Demi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689360" y="1717560"/>
              <a:ext cx="3921120" cy="159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Berlin Sans FB Demi"/>
                </a:rPr>
                <a:t>SOCIAL Y CIUDADANA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Berlin Sans FB Demi"/>
                </a:rPr>
                <a:t>CULTURAL Y ARTÍSTICA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Berlin Sans FB Demi"/>
                </a:rPr>
                <a:t>APRENDER A APREN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876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Berlin Sans FB Demi"/>
                </a:rPr>
                <a:t>AUTONOMÍA E INICIATIVA PERS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178600" y="3720960"/>
              <a:ext cx="2084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57200" y="1695600"/>
              <a:ext cx="3984480" cy="179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2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Berlin Sans FB Demi"/>
                </a:rPr>
                <a:t>LINGÜÍST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Berlin Sans FB Demi"/>
                </a:rPr>
                <a:t>MATEMÁT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0000"/>
                </a:lnSpc>
                <a:spcBef>
                  <a:spcPts val="876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Berlin Sans FB Demi"/>
                </a:rPr>
                <a:t>INTERACCIÓN CON EL MUNDO FÍS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0000"/>
                </a:lnSpc>
                <a:spcBef>
                  <a:spcPts val="876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Berlin Sans FB Demi"/>
                </a:rPr>
                <a:t>TRATAMIENTO DE LA INFORMACIÓN Y C. DIGI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197240" y="4052880"/>
              <a:ext cx="3894120" cy="15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1257480" indent="-343080" algn="r">
                <a:lnSpc>
                  <a:spcPct val="16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Berlin Sans FB Demi"/>
                  <a:ea typeface="Arial"/>
                </a:rPr>
                <a:t>PRIORIDAD DE LO OR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257480" indent="-343080" algn="r">
                <a:lnSpc>
                  <a:spcPct val="16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Berlin Sans FB Demi"/>
                  <a:ea typeface="Arial"/>
                </a:rPr>
                <a:t>ASPECTOS  SOCIALES,  CULTUR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257480" indent="-343080" algn="r">
                <a:lnSpc>
                  <a:spcPct val="11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Berlin Sans FB Demi"/>
                  <a:ea typeface="Arial"/>
                </a:rPr>
                <a:t> 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Berlin Sans FB Demi"/>
                  <a:ea typeface="Arial"/>
                </a:rPr>
                <a:t>TAREAS 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Symbol"/>
                  <a:ea typeface="Symbol"/>
                </a:rPr>
                <a:t>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Berlin Sans FB Demi"/>
                  <a:ea typeface="Arial"/>
                </a:rPr>
                <a:t>  ACTIVIDADES</a:t>
              </a: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Berlin Sans FB Demi"/>
                  <a:ea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 txBox="1"/>
            <p:nvPr/>
          </p:nvSpPr>
          <p:spPr>
            <a:xfrm>
              <a:off x="5546880" y="3286080"/>
              <a:ext cx="2759040" cy="81936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ac0000"/>
                  </a:solidFill>
                  <a:latin typeface="Berlin Sans FB Demi"/>
                </a:rPr>
                <a:t> </a:t>
              </a:r>
              <a:endParaRPr b="0" lang="en-US" sz="1800" spc="1" strike="noStrike">
                <a:ln w="0">
                  <a:noFill/>
                </a:ln>
                <a:solidFill>
                  <a:srgbClr val="ac0000"/>
                </a:solidFill>
                <a:latin typeface="Berlin Sans FB Demi"/>
                <a:ea typeface="Berlin Sans FB Dem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1" strike="noStrike">
                <a:ln w="0">
                  <a:noFill/>
                </a:ln>
                <a:solidFill>
                  <a:srgbClr val="ac0000"/>
                </a:solidFill>
                <a:latin typeface="Berlin Sans FB Demi"/>
                <a:ea typeface="Berlin Sans FB Dem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ac0000"/>
                  </a:solidFill>
                  <a:latin typeface="Berlin Sans FB Demi"/>
                </a:rPr>
                <a:t>ASPECTOS DE LA TAREA</a:t>
              </a:r>
              <a:endParaRPr b="0" lang="en-US" sz="1800" spc="1" strike="noStrike">
                <a:ln w="0">
                  <a:noFill/>
                </a:ln>
                <a:solidFill>
                  <a:srgbClr val="ac0000"/>
                </a:solidFill>
                <a:latin typeface="Berlin Sans FB Demi"/>
                <a:ea typeface="Berlin Sans FB Dem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1" strike="noStrike">
                <a:ln w="0">
                  <a:noFill/>
                </a:ln>
                <a:solidFill>
                  <a:srgbClr val="ac0000"/>
                </a:solidFill>
                <a:latin typeface="Berlin Sans FB Demi"/>
                <a:ea typeface="Berlin Sans FB Demi"/>
              </a:endParaRPr>
            </a:p>
          </p:txBody>
        </p:sp>
        <p:sp>
          <p:nvSpPr>
            <p:cNvPr id="518" name=""/>
            <p:cNvSpPr txBox="1"/>
            <p:nvPr/>
          </p:nvSpPr>
          <p:spPr>
            <a:xfrm>
              <a:off x="1128600" y="3286080"/>
              <a:ext cx="2392560" cy="81936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ac0000"/>
                  </a:solidFill>
                  <a:latin typeface="Berlin Sans FB Demi"/>
                </a:rPr>
                <a:t> </a:t>
              </a:r>
              <a:endParaRPr b="0" lang="en-US" sz="1800" spc="1" strike="noStrike">
                <a:ln w="0">
                  <a:noFill/>
                </a:ln>
                <a:solidFill>
                  <a:srgbClr val="ac0000"/>
                </a:solidFill>
                <a:latin typeface="Berlin Sans FB Demi"/>
                <a:ea typeface="Berlin Sans FB Dem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1" strike="noStrike">
                <a:ln w="0">
                  <a:noFill/>
                </a:ln>
                <a:solidFill>
                  <a:srgbClr val="ac0000"/>
                </a:solidFill>
                <a:latin typeface="Berlin Sans FB Demi"/>
                <a:ea typeface="Berlin Sans FB Dem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ac0000"/>
                  </a:solidFill>
                  <a:latin typeface="Berlin Sans FB Demi"/>
                </a:rPr>
                <a:t>FASES DE LA TAREA</a:t>
              </a:r>
              <a:endParaRPr b="0" lang="en-US" sz="1800" spc="1" strike="noStrike">
                <a:ln w="0">
                  <a:noFill/>
                </a:ln>
                <a:solidFill>
                  <a:srgbClr val="ac0000"/>
                </a:solidFill>
                <a:latin typeface="Berlin Sans FB Demi"/>
                <a:ea typeface="Berlin Sans FB Dem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1" strike="noStrike">
                <a:ln w="0">
                  <a:noFill/>
                </a:ln>
                <a:solidFill>
                  <a:srgbClr val="ac0000"/>
                </a:solidFill>
                <a:latin typeface="Berlin Sans FB Demi"/>
                <a:ea typeface="Berlin Sans FB Demi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155680" y="3971880"/>
              <a:ext cx="2333880" cy="152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Berlin Sans FB Demi"/>
                </a:rPr>
                <a:t>PRE-TARE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Berlin Sans FB Demi"/>
                </a:rPr>
                <a:t>CICLO</a:t>
              </a: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Berlin Sans FB"/>
                </a:rPr>
                <a:t> </a:t>
              </a: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Berlin Sans FB Demi"/>
                </a:rPr>
                <a:t>DE TARE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Berlin Sans FB Demi"/>
                </a:rPr>
                <a:t>POSTARE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Berlin Sans FB Demi"/>
                </a:rPr>
                <a:t>EVALU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250920" y="152280"/>
            <a:ext cx="7006320" cy="1374840"/>
            <a:chOff x="250920" y="152280"/>
            <a:chExt cx="7006320" cy="1374840"/>
          </a:xfrm>
        </p:grpSpPr>
        <p:grpSp>
          <p:nvGrpSpPr>
            <p:cNvPr id="521" name=""/>
            <p:cNvGrpSpPr/>
            <p:nvPr/>
          </p:nvGrpSpPr>
          <p:grpSpPr>
            <a:xfrm>
              <a:off x="651600" y="297000"/>
              <a:ext cx="6605640" cy="723240"/>
              <a:chOff x="651600" y="297000"/>
              <a:chExt cx="6605640" cy="723240"/>
            </a:xfrm>
          </p:grpSpPr>
          <p:sp>
            <p:nvSpPr>
              <p:cNvPr id="522" name=""/>
              <p:cNvSpPr/>
              <p:nvPr/>
            </p:nvSpPr>
            <p:spPr>
              <a:xfrm>
                <a:off x="651600" y="297000"/>
                <a:ext cx="6605640" cy="7232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efefe"/>
                  </a:gs>
                  <a:gs pos="100000">
                    <a:srgbClr val="808080"/>
                  </a:gs>
                </a:gsLst>
                <a:lin ang="81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8280" y="369000"/>
                <a:ext cx="6452280" cy="5788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 txBox="1"/>
              <p:nvPr/>
            </p:nvSpPr>
            <p:spPr>
              <a:xfrm>
                <a:off x="1650240" y="513720"/>
                <a:ext cx="5376600" cy="28908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APRENDIZAJE POR TAREAS</a:t>
                </a:r>
                <a:endPara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17819" dir="2700000" blurRad="0" rotWithShape="0">
                      <a:srgbClr val="001f1e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250920" y="152280"/>
              <a:ext cx="1196640" cy="1374840"/>
              <a:chOff x="250920" y="152280"/>
              <a:chExt cx="1196640" cy="1374840"/>
            </a:xfrm>
          </p:grpSpPr>
          <p:sp>
            <p:nvSpPr>
              <p:cNvPr id="526" name="">
                <a:hlinkClick r:id="rId1" action="ppaction://hlinksldjump"/>
              </p:cNvPr>
              <p:cNvSpPr/>
              <p:nvPr/>
            </p:nvSpPr>
            <p:spPr>
              <a:xfrm>
                <a:off x="250920" y="152280"/>
                <a:ext cx="1196640" cy="1374840"/>
              </a:xfrm>
              <a:custGeom>
                <a:avLst/>
                <a:gdLst>
                  <a:gd name="textAreaLeft" fmla="*/ 0 w 1196640"/>
                  <a:gd name="textAreaRight" fmla="*/ 1197000 w 1196640"/>
                  <a:gd name="textAreaTop" fmla="*/ 0 h 1374840"/>
                  <a:gd name="textAreaBottom" fmla="*/ 1375200 h 1374840"/>
                </a:gdLst>
                <a:ahLst/>
                <a:rect l="textAreaLeft" t="textAreaTop" r="textAreaRight" b="textAreaBottom"/>
                <a:pathLst>
                  <a:path w="21600" h="24816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4816"/>
                    </a:lnTo>
                    <a:lnTo>
                      <a:pt x="0" y="24816"/>
                    </a:lnTo>
                    <a:close/>
                  </a:path>
                  <a:path fill="lightenLess" w="21600" h="24816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  <a:path fill="darken" w="21600" h="24816">
                    <a:moveTo>
                      <a:pt x="21600" y="0"/>
                    </a:moveTo>
                    <a:lnTo>
                      <a:pt x="21600" y="24816"/>
                    </a:lnTo>
                    <a:lnTo>
                      <a:pt x="21600" y="24816"/>
                    </a:lnTo>
                    <a:lnTo>
                      <a:pt x="21600" y="0"/>
                    </a:lnTo>
                    <a:close/>
                  </a:path>
                  <a:path fill="darkenLess" w="21600" h="24816">
                    <a:moveTo>
                      <a:pt x="21600" y="24816"/>
                    </a:moveTo>
                    <a:lnTo>
                      <a:pt x="0" y="24816"/>
                    </a:lnTo>
                    <a:lnTo>
                      <a:pt x="0" y="24816"/>
                    </a:lnTo>
                    <a:lnTo>
                      <a:pt x="21600" y="24816"/>
                    </a:lnTo>
                    <a:close/>
                  </a:path>
                  <a:path fill="lighten" w="21600" h="24816">
                    <a:moveTo>
                      <a:pt x="0" y="2481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48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7" name=""/>
              <p:cNvGrpSpPr/>
              <p:nvPr/>
            </p:nvGrpSpPr>
            <p:grpSpPr>
              <a:xfrm>
                <a:off x="494640" y="296640"/>
                <a:ext cx="795600" cy="940320"/>
                <a:chOff x="494640" y="296640"/>
                <a:chExt cx="795600" cy="940320"/>
              </a:xfrm>
            </p:grpSpPr>
            <p:sp>
              <p:nvSpPr>
                <p:cNvPr id="528" name=""/>
                <p:cNvSpPr txBox="1"/>
                <p:nvPr/>
              </p:nvSpPr>
              <p:spPr>
                <a:xfrm>
                  <a:off x="494640" y="296640"/>
                  <a:ext cx="578520" cy="650880"/>
                </a:xfrm>
                <a:prstGeom prst="rect">
                  <a:avLst/>
                </a:prstGeom>
              </p:spPr>
              <p:txBody>
                <a:bodyPr wrap="none" lIns="90000" rIns="90000" tIns="46800" bIns="46800" anchor="ctr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0">
                        <a:noFill/>
                      </a:ln>
                      <a:gradFill rotWithShape="0">
                        <a:gsLst>
                          <a:gs pos="0">
                            <a:srgbClr val="752424"/>
                          </a:gs>
                          <a:gs pos="100000">
                            <a:srgbClr val="ff5050"/>
                          </a:gs>
                        </a:gsLst>
                        <a:lin ang="5400000"/>
                      </a:gradFill>
                      <a:effectLst>
                        <a:outerShdw dist="17819" dir="2700000" blurRad="0" rotWithShape="0">
                          <a:srgbClr val="333333"/>
                        </a:outerShdw>
                      </a:effectLst>
                      <a:latin typeface="Baskerville Old Face"/>
                    </a:rPr>
                    <a:t>C</a:t>
                  </a:r>
                  <a:endParaRPr b="1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752424"/>
                        </a:gs>
                        <a:gs pos="100000">
                          <a:srgbClr val="ff5050"/>
                        </a:gs>
                      </a:gsLst>
                      <a:lin ang="5400000"/>
                    </a:gradFill>
                    <a:effectLst>
                      <a:outerShdw dist="17819" dir="2700000" blurRad="0" rotWithShape="0">
                        <a:srgbClr val="333333"/>
                      </a:outerShdw>
                    </a:effectLst>
                    <a:latin typeface="Baskerville Old Face"/>
                    <a:ea typeface="Baskerville Old Face"/>
                  </a:endParaRPr>
                </a:p>
              </p:txBody>
            </p:sp>
            <p:sp>
              <p:nvSpPr>
                <p:cNvPr id="529" name=""/>
                <p:cNvSpPr txBox="1"/>
                <p:nvPr/>
              </p:nvSpPr>
              <p:spPr>
                <a:xfrm>
                  <a:off x="711720" y="586080"/>
                  <a:ext cx="578520" cy="650880"/>
                </a:xfrm>
                <a:prstGeom prst="rect">
                  <a:avLst/>
                </a:prstGeom>
              </p:spPr>
              <p:txBody>
                <a:bodyPr wrap="none" lIns="90000" rIns="90000" tIns="46800" bIns="46800" anchor="ctr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0">
                        <a:noFill/>
                      </a:ln>
                      <a:gradFill rotWithShape="0">
                        <a:gsLst>
                          <a:gs pos="0">
                            <a:srgbClr val="752424"/>
                          </a:gs>
                          <a:gs pos="100000">
                            <a:srgbClr val="ff5050"/>
                          </a:gs>
                        </a:gsLst>
                        <a:lin ang="5400000"/>
                      </a:gradFill>
                      <a:effectLst>
                        <a:outerShdw dist="17819" dir="2700000" blurRad="0" rotWithShape="0">
                          <a:srgbClr val="333333"/>
                        </a:outerShdw>
                      </a:effectLst>
                      <a:latin typeface="Baskerville Old Face"/>
                    </a:rPr>
                    <a:t>C</a:t>
                  </a:r>
                  <a:endParaRPr b="1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752424"/>
                        </a:gs>
                        <a:gs pos="100000">
                          <a:srgbClr val="ff5050"/>
                        </a:gs>
                      </a:gsLst>
                      <a:lin ang="5400000"/>
                    </a:gradFill>
                    <a:effectLst>
                      <a:outerShdw dist="17819" dir="2700000" blurRad="0" rotWithShape="0">
                        <a:srgbClr val="333333"/>
                      </a:outerShdw>
                    </a:effectLst>
                    <a:latin typeface="Baskerville Old Face"/>
                    <a:ea typeface="Baskerville Old Face"/>
                  </a:endParaRPr>
                </a:p>
              </p:txBody>
            </p:sp>
          </p:grpSp>
        </p:grpSp>
      </p:grpSp>
      <p:sp>
        <p:nvSpPr>
          <p:cNvPr id="530" name="">
            <a:hlinkClick r:id="" action="ppaction://hlinkshowjump?jump=nextslide"/>
          </p:cNvPr>
          <p:cNvSpPr/>
          <p:nvPr/>
        </p:nvSpPr>
        <p:spPr>
          <a:xfrm>
            <a:off x="784872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10800"/>
                </a:moveTo>
                <a:lnTo>
                  <a:pt x="26797" y="3794"/>
                </a:lnTo>
                <a:lnTo>
                  <a:pt x="26797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>
            <a:hlinkClick r:id="" action="ppaction://hlinkshowjump?jump=firstslide"/>
          </p:cNvPr>
          <p:cNvSpPr/>
          <p:nvPr/>
        </p:nvSpPr>
        <p:spPr>
          <a:xfrm>
            <a:off x="457200" y="6095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7301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5456" y="5956"/>
                </a:lnTo>
                <a:lnTo>
                  <a:pt x="5456" y="19969"/>
                </a:lnTo>
                <a:lnTo>
                  <a:pt x="3794" y="19969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7c9c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380880" y="380880"/>
            <a:ext cx="8610840" cy="6324840"/>
          </a:xfrm>
          <a:prstGeom prst="flowChartPunchedCard">
            <a:avLst/>
          </a:prstGeom>
          <a:gradFill rotWithShape="0">
            <a:gsLst>
              <a:gs pos="0">
                <a:srgbClr val="80808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04920" y="304920"/>
            <a:ext cx="8610480" cy="6324480"/>
          </a:xfrm>
          <a:prstGeom prst="flowChartPunchedCard">
            <a:avLst/>
          </a:prstGeom>
          <a:gradFill rotWithShape="0">
            <a:gsLst>
              <a:gs pos="0">
                <a:srgbClr val="eaeaea"/>
              </a:gs>
              <a:gs pos="50000">
                <a:srgbClr val="fefefe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143000" y="17524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etencia en comunicación lingü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914400" y="3200400"/>
            <a:ext cx="7238880" cy="2514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6699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7176960" y="1371600"/>
            <a:ext cx="1128960" cy="1074600"/>
          </a:xfrm>
          <a:prstGeom prst="rect">
            <a:avLst/>
          </a:prstGeom>
          <a:ln w="0">
            <a:noFill/>
          </a:ln>
        </p:spPr>
      </p:pic>
      <p:grpSp>
        <p:nvGrpSpPr>
          <p:cNvPr id="538" name=""/>
          <p:cNvGrpSpPr/>
          <p:nvPr/>
        </p:nvGrpSpPr>
        <p:grpSpPr>
          <a:xfrm>
            <a:off x="250920" y="152280"/>
            <a:ext cx="7237440" cy="1374840"/>
            <a:chOff x="250920" y="152280"/>
            <a:chExt cx="7237440" cy="1374840"/>
          </a:xfrm>
        </p:grpSpPr>
        <p:grpSp>
          <p:nvGrpSpPr>
            <p:cNvPr id="539" name=""/>
            <p:cNvGrpSpPr/>
            <p:nvPr/>
          </p:nvGrpSpPr>
          <p:grpSpPr>
            <a:xfrm>
              <a:off x="1263600" y="297000"/>
              <a:ext cx="6224760" cy="723600"/>
              <a:chOff x="1263600" y="297000"/>
              <a:chExt cx="6224760" cy="723600"/>
            </a:xfrm>
          </p:grpSpPr>
          <p:sp>
            <p:nvSpPr>
              <p:cNvPr id="540" name=""/>
              <p:cNvSpPr/>
              <p:nvPr/>
            </p:nvSpPr>
            <p:spPr>
              <a:xfrm>
                <a:off x="1263600" y="297000"/>
                <a:ext cx="6224760" cy="7236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efefe"/>
                  </a:gs>
                  <a:gs pos="100000">
                    <a:srgbClr val="808080"/>
                  </a:gs>
                </a:gsLst>
                <a:lin ang="81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335600" y="369360"/>
                <a:ext cx="6080040" cy="5785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 txBox="1"/>
              <p:nvPr/>
            </p:nvSpPr>
            <p:spPr>
              <a:xfrm>
                <a:off x="1552680" y="513720"/>
                <a:ext cx="5718240" cy="2894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   </a:t>
                </a: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CÓMO TRABAJAR LAS C. CLAVE EN EL AULA     </a:t>
                </a:r>
                <a:endPara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17819" dir="2700000" blurRad="0" rotWithShape="0">
                      <a:srgbClr val="001f1e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250920" y="152280"/>
              <a:ext cx="1195560" cy="1374840"/>
              <a:chOff x="250920" y="152280"/>
              <a:chExt cx="1195560" cy="1374840"/>
            </a:xfrm>
          </p:grpSpPr>
          <p:sp>
            <p:nvSpPr>
              <p:cNvPr id="544" name="">
                <a:hlinkClick r:id="rId2" action="ppaction://hlinksldjump"/>
              </p:cNvPr>
              <p:cNvSpPr/>
              <p:nvPr/>
            </p:nvSpPr>
            <p:spPr>
              <a:xfrm>
                <a:off x="250920" y="152280"/>
                <a:ext cx="1195560" cy="1374840"/>
              </a:xfrm>
              <a:custGeom>
                <a:avLst/>
                <a:gdLst>
                  <a:gd name="textAreaLeft" fmla="*/ 0 w 1195560"/>
                  <a:gd name="textAreaRight" fmla="*/ 1195920 w 1195560"/>
                  <a:gd name="textAreaTop" fmla="*/ 0 h 1374840"/>
                  <a:gd name="textAreaBottom" fmla="*/ 1375200 h 1374840"/>
                </a:gdLst>
                <a:ahLst/>
                <a:rect l="textAreaLeft" t="textAreaTop" r="textAreaRight" b="textAreaBottom"/>
                <a:pathLst>
                  <a:path w="21600" h="24838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4838"/>
                    </a:lnTo>
                    <a:lnTo>
                      <a:pt x="0" y="24838"/>
                    </a:lnTo>
                    <a:close/>
                  </a:path>
                  <a:path fill="lightenLess" w="21600" h="24838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  <a:path fill="darken" w="21600" h="24838">
                    <a:moveTo>
                      <a:pt x="21600" y="0"/>
                    </a:moveTo>
                    <a:lnTo>
                      <a:pt x="21600" y="24838"/>
                    </a:lnTo>
                    <a:lnTo>
                      <a:pt x="21600" y="24838"/>
                    </a:lnTo>
                    <a:lnTo>
                      <a:pt x="21600" y="0"/>
                    </a:lnTo>
                    <a:close/>
                  </a:path>
                  <a:path fill="darkenLess" w="21600" h="24838">
                    <a:moveTo>
                      <a:pt x="21600" y="24838"/>
                    </a:moveTo>
                    <a:lnTo>
                      <a:pt x="0" y="24838"/>
                    </a:lnTo>
                    <a:lnTo>
                      <a:pt x="0" y="24838"/>
                    </a:lnTo>
                    <a:lnTo>
                      <a:pt x="21600" y="24838"/>
                    </a:lnTo>
                    <a:close/>
                  </a:path>
                  <a:path fill="lighten" w="21600" h="24838">
                    <a:moveTo>
                      <a:pt x="0" y="2483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48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5" name="" descr="Nombre de archivo: j0335776.wmf&#13;Palabras clave: artículo del hogar, llaves, llaves de casa ...&#13;Tamaño de archivo: 65 KB"/>
              <p:cNvPicPr/>
              <p:nvPr/>
            </p:nvPicPr>
            <p:blipFill>
              <a:blip r:embed="rId3"/>
              <a:stretch/>
            </p:blipFill>
            <p:spPr>
              <a:xfrm rot="6326400">
                <a:off x="395640" y="36936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46" name="" descr=""/>
            <p:cNvPicPr/>
            <p:nvPr/>
          </p:nvPicPr>
          <p:blipFill>
            <a:blip r:embed="rId4"/>
            <a:srcRect l="6576" t="0" r="1240" b="11321"/>
            <a:stretch/>
          </p:blipFill>
          <p:spPr>
            <a:xfrm>
              <a:off x="336600" y="152280"/>
              <a:ext cx="11336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7" name="" descr="Nombre de archivo: j0335776.wmf&#13;Palabras clave: artículo del hogar, llaves, llaves de casa ...&#13;Tamaño de archivo: 65 KB"/>
            <p:cNvPicPr/>
            <p:nvPr/>
          </p:nvPicPr>
          <p:blipFill>
            <a:blip r:embed="rId5"/>
            <a:stretch/>
          </p:blipFill>
          <p:spPr>
            <a:xfrm rot="8627400">
              <a:off x="707400" y="380880"/>
              <a:ext cx="685800" cy="68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8" name="">
            <a:hlinkClick r:id="" action="ppaction://hlinkshowjump?jump=nextslide"/>
          </p:cNvPr>
          <p:cNvSpPr/>
          <p:nvPr/>
        </p:nvSpPr>
        <p:spPr>
          <a:xfrm>
            <a:off x="784872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10800"/>
                </a:moveTo>
                <a:lnTo>
                  <a:pt x="26797" y="3794"/>
                </a:lnTo>
                <a:lnTo>
                  <a:pt x="26797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>
            <a:hlinkClick r:id="" action="ppaction://hlinkshowjump?jump=firstslide"/>
          </p:cNvPr>
          <p:cNvSpPr/>
          <p:nvPr/>
        </p:nvSpPr>
        <p:spPr>
          <a:xfrm>
            <a:off x="457200" y="6095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7301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5456" y="5956"/>
                </a:lnTo>
                <a:lnTo>
                  <a:pt x="5456" y="19969"/>
                </a:lnTo>
                <a:lnTo>
                  <a:pt x="3794" y="19969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5720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gradFill rotWithShape="0">
            <a:gsLst>
              <a:gs pos="0">
                <a:srgbClr val="336699"/>
              </a:gs>
              <a:gs pos="50000">
                <a:srgbClr val="f6f8fa"/>
              </a:gs>
              <a:gs pos="100000">
                <a:srgbClr val="33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828800" y="2281680"/>
            <a:ext cx="5334120" cy="34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30000"/>
              </a:lnSpc>
              <a:buSzPct val="11828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Escribir cartas, poemas, historias y descrip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Debates or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Grabar cin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Hacer presentaciones or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Escribir o dar las notic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Diseñar y hacer una entrevi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Presentar un progr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Escribir historias reales y de fi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Escribir un di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Crear un juego para el tema que se dé en cl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7c9c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380880" y="380880"/>
            <a:ext cx="8610840" cy="6324840"/>
          </a:xfrm>
          <a:prstGeom prst="flowChartPunchedCard">
            <a:avLst/>
          </a:prstGeom>
          <a:gradFill rotWithShape="0">
            <a:gsLst>
              <a:gs pos="0">
                <a:srgbClr val="80808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04920" y="304920"/>
            <a:ext cx="8610480" cy="6324480"/>
          </a:xfrm>
          <a:prstGeom prst="flowChartPunchedCard">
            <a:avLst/>
          </a:prstGeom>
          <a:gradFill rotWithShape="0">
            <a:gsLst>
              <a:gs pos="0">
                <a:srgbClr val="eaeaea"/>
              </a:gs>
              <a:gs pos="50000">
                <a:srgbClr val="fefefe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143000" y="17524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etencia mate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rcRect l="42866" t="0" r="0" b="32993"/>
          <a:stretch/>
        </p:blipFill>
        <p:spPr>
          <a:xfrm>
            <a:off x="7250040" y="1371600"/>
            <a:ext cx="903240" cy="853920"/>
          </a:xfrm>
          <a:prstGeom prst="rect">
            <a:avLst/>
          </a:prstGeom>
          <a:ln w="0">
            <a:noFill/>
          </a:ln>
        </p:spPr>
      </p:pic>
      <p:sp>
        <p:nvSpPr>
          <p:cNvPr id="557" name="">
            <a:hlinkClick r:id="" action="ppaction://hlinkshowjump?jump=nextslide"/>
          </p:cNvPr>
          <p:cNvSpPr/>
          <p:nvPr/>
        </p:nvSpPr>
        <p:spPr>
          <a:xfrm>
            <a:off x="784872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10800"/>
                </a:moveTo>
                <a:lnTo>
                  <a:pt x="26797" y="3794"/>
                </a:lnTo>
                <a:lnTo>
                  <a:pt x="26797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>
            <a:hlinkClick r:id="" action="ppaction://hlinkshowjump?jump=firstslide"/>
          </p:cNvPr>
          <p:cNvSpPr/>
          <p:nvPr/>
        </p:nvSpPr>
        <p:spPr>
          <a:xfrm>
            <a:off x="457200" y="6095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7301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5456" y="5956"/>
                </a:lnTo>
                <a:lnTo>
                  <a:pt x="5456" y="19969"/>
                </a:lnTo>
                <a:lnTo>
                  <a:pt x="3794" y="19969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250920" y="152280"/>
            <a:ext cx="7237440" cy="1374840"/>
            <a:chOff x="250920" y="152280"/>
            <a:chExt cx="7237440" cy="1374840"/>
          </a:xfrm>
        </p:grpSpPr>
        <p:grpSp>
          <p:nvGrpSpPr>
            <p:cNvPr id="561" name=""/>
            <p:cNvGrpSpPr/>
            <p:nvPr/>
          </p:nvGrpSpPr>
          <p:grpSpPr>
            <a:xfrm>
              <a:off x="1263600" y="297000"/>
              <a:ext cx="6224760" cy="723600"/>
              <a:chOff x="1263600" y="297000"/>
              <a:chExt cx="6224760" cy="723600"/>
            </a:xfrm>
          </p:grpSpPr>
          <p:sp>
            <p:nvSpPr>
              <p:cNvPr id="562" name=""/>
              <p:cNvSpPr/>
              <p:nvPr/>
            </p:nvSpPr>
            <p:spPr>
              <a:xfrm>
                <a:off x="1263600" y="297000"/>
                <a:ext cx="6224760" cy="7236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efefe"/>
                  </a:gs>
                  <a:gs pos="100000">
                    <a:srgbClr val="808080"/>
                  </a:gs>
                </a:gsLst>
                <a:lin ang="81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335600" y="369360"/>
                <a:ext cx="6080040" cy="5785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 txBox="1"/>
              <p:nvPr/>
            </p:nvSpPr>
            <p:spPr>
              <a:xfrm>
                <a:off x="1552680" y="513720"/>
                <a:ext cx="5718240" cy="2894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   </a:t>
                </a: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CÓMO TRABAJAR LAS C. CLAVE EN EL AULA     </a:t>
                </a:r>
                <a:endPara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17819" dir="2700000" blurRad="0" rotWithShape="0">
                      <a:srgbClr val="001f1e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250920" y="152280"/>
              <a:ext cx="1195560" cy="1374840"/>
              <a:chOff x="250920" y="152280"/>
              <a:chExt cx="1195560" cy="1374840"/>
            </a:xfrm>
          </p:grpSpPr>
          <p:sp>
            <p:nvSpPr>
              <p:cNvPr id="566" name=""/>
              <p:cNvSpPr/>
              <p:nvPr/>
            </p:nvSpPr>
            <p:spPr>
              <a:xfrm>
                <a:off x="250920" y="152280"/>
                <a:ext cx="1195560" cy="1374840"/>
              </a:xfrm>
              <a:custGeom>
                <a:avLst/>
                <a:gdLst>
                  <a:gd name="textAreaLeft" fmla="*/ 0 w 1195560"/>
                  <a:gd name="textAreaRight" fmla="*/ 1195920 w 1195560"/>
                  <a:gd name="textAreaTop" fmla="*/ 0 h 1374840"/>
                  <a:gd name="textAreaBottom" fmla="*/ 1375200 h 1374840"/>
                </a:gdLst>
                <a:ahLst/>
                <a:rect l="textAreaLeft" t="textAreaTop" r="textAreaRight" b="textAreaBottom"/>
                <a:pathLst>
                  <a:path w="21600" h="24838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4838"/>
                    </a:lnTo>
                    <a:lnTo>
                      <a:pt x="0" y="24838"/>
                    </a:lnTo>
                    <a:close/>
                  </a:path>
                  <a:path fill="lightenLess" w="21600" h="24838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  <a:path fill="darken" w="21600" h="24838">
                    <a:moveTo>
                      <a:pt x="21600" y="0"/>
                    </a:moveTo>
                    <a:lnTo>
                      <a:pt x="21600" y="24838"/>
                    </a:lnTo>
                    <a:lnTo>
                      <a:pt x="21600" y="24838"/>
                    </a:lnTo>
                    <a:lnTo>
                      <a:pt x="21600" y="0"/>
                    </a:lnTo>
                    <a:close/>
                  </a:path>
                  <a:path fill="darkenLess" w="21600" h="24838">
                    <a:moveTo>
                      <a:pt x="21600" y="24838"/>
                    </a:moveTo>
                    <a:lnTo>
                      <a:pt x="0" y="24838"/>
                    </a:lnTo>
                    <a:lnTo>
                      <a:pt x="0" y="24838"/>
                    </a:lnTo>
                    <a:lnTo>
                      <a:pt x="21600" y="24838"/>
                    </a:lnTo>
                    <a:close/>
                  </a:path>
                  <a:path fill="lighten" w="21600" h="24838">
                    <a:moveTo>
                      <a:pt x="0" y="2483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48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" descr="Nombre de archivo: j0335776.wmf&#13;Palabras clave: artículo del hogar, llaves, llaves de casa ...&#13;Tamaño de archivo: 65 KB"/>
              <p:cNvPicPr/>
              <p:nvPr/>
            </p:nvPicPr>
            <p:blipFill>
              <a:blip r:embed="rId2"/>
              <a:stretch/>
            </p:blipFill>
            <p:spPr>
              <a:xfrm rot="6326400">
                <a:off x="395640" y="36936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68" name="" descr=""/>
            <p:cNvPicPr/>
            <p:nvPr/>
          </p:nvPicPr>
          <p:blipFill>
            <a:blip r:embed="rId3"/>
            <a:srcRect l="6576" t="0" r="1240" b="11321"/>
            <a:stretch/>
          </p:blipFill>
          <p:spPr>
            <a:xfrm>
              <a:off x="336600" y="152280"/>
              <a:ext cx="11336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9" name="" descr="Nombre de archivo: j0335776.wmf&#13;Palabras clave: artículo del hogar, llaves, llaves de casa ...&#13;Tamaño de archivo: 65 KB"/>
            <p:cNvPicPr/>
            <p:nvPr/>
          </p:nvPicPr>
          <p:blipFill>
            <a:blip r:embed="rId4"/>
            <a:stretch/>
          </p:blipFill>
          <p:spPr>
            <a:xfrm rot="8627400">
              <a:off x="707400" y="380880"/>
              <a:ext cx="685800" cy="68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0" name=""/>
          <p:cNvSpPr/>
          <p:nvPr/>
        </p:nvSpPr>
        <p:spPr>
          <a:xfrm>
            <a:off x="914400" y="3200400"/>
            <a:ext cx="7238880" cy="2514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6699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828800" y="2292840"/>
            <a:ext cx="5857920" cy="34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30000"/>
              </a:lnSpc>
              <a:buSzPct val="11828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cer listas y organizar da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ar habilidades de ded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ar símbolos abstractos y fórmul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olver problemas de 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izar da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er gráf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ifrar códig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contrar relaciones /silogis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contrar patrones de repeti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bajar con números para resolver proble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7c9c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80880" y="380880"/>
            <a:ext cx="8610840" cy="6324840"/>
          </a:xfrm>
          <a:prstGeom prst="flowChartPunchedCard">
            <a:avLst/>
          </a:prstGeom>
          <a:gradFill rotWithShape="0">
            <a:gsLst>
              <a:gs pos="0">
                <a:srgbClr val="80808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04920" y="304920"/>
            <a:ext cx="8610480" cy="6324480"/>
          </a:xfrm>
          <a:prstGeom prst="flowChartPunchedCard">
            <a:avLst/>
          </a:prstGeom>
          <a:gradFill rotWithShape="0">
            <a:gsLst>
              <a:gs pos="0">
                <a:srgbClr val="eaeaea"/>
              </a:gs>
              <a:gs pos="50000">
                <a:srgbClr val="fefefe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7010280" y="1371600"/>
            <a:ext cx="1121040" cy="98748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1143000" y="1752480"/>
            <a:ext cx="693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etencia en el conocimiento e interacción con el mundo fís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>
            <a:hlinkClick r:id="" action="ppaction://hlinkshowjump?jump=nextslide"/>
          </p:cNvPr>
          <p:cNvSpPr/>
          <p:nvPr/>
        </p:nvSpPr>
        <p:spPr>
          <a:xfrm>
            <a:off x="784872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10800"/>
                </a:moveTo>
                <a:lnTo>
                  <a:pt x="26797" y="3794"/>
                </a:lnTo>
                <a:lnTo>
                  <a:pt x="26797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>
            <a:hlinkClick r:id="" action="ppaction://hlinkshowjump?jump=firstslide"/>
          </p:cNvPr>
          <p:cNvSpPr/>
          <p:nvPr/>
        </p:nvSpPr>
        <p:spPr>
          <a:xfrm>
            <a:off x="457200" y="6095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7301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5456" y="5956"/>
                </a:lnTo>
                <a:lnTo>
                  <a:pt x="5456" y="19969"/>
                </a:lnTo>
                <a:lnTo>
                  <a:pt x="3794" y="19969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250920" y="152280"/>
            <a:ext cx="7237440" cy="1374840"/>
            <a:chOff x="250920" y="152280"/>
            <a:chExt cx="7237440" cy="1374840"/>
          </a:xfrm>
        </p:grpSpPr>
        <p:grpSp>
          <p:nvGrpSpPr>
            <p:cNvPr id="580" name=""/>
            <p:cNvGrpSpPr/>
            <p:nvPr/>
          </p:nvGrpSpPr>
          <p:grpSpPr>
            <a:xfrm>
              <a:off x="1263600" y="297000"/>
              <a:ext cx="6224760" cy="723600"/>
              <a:chOff x="1263600" y="297000"/>
              <a:chExt cx="6224760" cy="723600"/>
            </a:xfrm>
          </p:grpSpPr>
          <p:sp>
            <p:nvSpPr>
              <p:cNvPr id="581" name=""/>
              <p:cNvSpPr/>
              <p:nvPr/>
            </p:nvSpPr>
            <p:spPr>
              <a:xfrm>
                <a:off x="1263600" y="297000"/>
                <a:ext cx="6224760" cy="7236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efefe"/>
                  </a:gs>
                  <a:gs pos="100000">
                    <a:srgbClr val="808080"/>
                  </a:gs>
                </a:gsLst>
                <a:lin ang="81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335600" y="369360"/>
                <a:ext cx="6080040" cy="5785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 txBox="1"/>
              <p:nvPr/>
            </p:nvSpPr>
            <p:spPr>
              <a:xfrm>
                <a:off x="1552680" y="513720"/>
                <a:ext cx="5718240" cy="2894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   </a:t>
                </a: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CÓMO TRABAJAR LAS C. CLAVE EN EL AULA     </a:t>
                </a:r>
                <a:endPara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17819" dir="2700000" blurRad="0" rotWithShape="0">
                      <a:srgbClr val="001f1e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250920" y="152280"/>
              <a:ext cx="1195560" cy="1374840"/>
              <a:chOff x="250920" y="152280"/>
              <a:chExt cx="1195560" cy="1374840"/>
            </a:xfrm>
          </p:grpSpPr>
          <p:sp>
            <p:nvSpPr>
              <p:cNvPr id="585" name=""/>
              <p:cNvSpPr/>
              <p:nvPr/>
            </p:nvSpPr>
            <p:spPr>
              <a:xfrm>
                <a:off x="250920" y="152280"/>
                <a:ext cx="1195560" cy="1374840"/>
              </a:xfrm>
              <a:custGeom>
                <a:avLst/>
                <a:gdLst>
                  <a:gd name="textAreaLeft" fmla="*/ 0 w 1195560"/>
                  <a:gd name="textAreaRight" fmla="*/ 1195920 w 1195560"/>
                  <a:gd name="textAreaTop" fmla="*/ 0 h 1374840"/>
                  <a:gd name="textAreaBottom" fmla="*/ 1375200 h 1374840"/>
                </a:gdLst>
                <a:ahLst/>
                <a:rect l="textAreaLeft" t="textAreaTop" r="textAreaRight" b="textAreaBottom"/>
                <a:pathLst>
                  <a:path w="21600" h="24838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4838"/>
                    </a:lnTo>
                    <a:lnTo>
                      <a:pt x="0" y="24838"/>
                    </a:lnTo>
                    <a:close/>
                  </a:path>
                  <a:path fill="lightenLess" w="21600" h="24838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  <a:path fill="darken" w="21600" h="24838">
                    <a:moveTo>
                      <a:pt x="21600" y="0"/>
                    </a:moveTo>
                    <a:lnTo>
                      <a:pt x="21600" y="24838"/>
                    </a:lnTo>
                    <a:lnTo>
                      <a:pt x="21600" y="24838"/>
                    </a:lnTo>
                    <a:lnTo>
                      <a:pt x="21600" y="0"/>
                    </a:lnTo>
                    <a:close/>
                  </a:path>
                  <a:path fill="darkenLess" w="21600" h="24838">
                    <a:moveTo>
                      <a:pt x="21600" y="24838"/>
                    </a:moveTo>
                    <a:lnTo>
                      <a:pt x="0" y="24838"/>
                    </a:lnTo>
                    <a:lnTo>
                      <a:pt x="0" y="24838"/>
                    </a:lnTo>
                    <a:lnTo>
                      <a:pt x="21600" y="24838"/>
                    </a:lnTo>
                    <a:close/>
                  </a:path>
                  <a:path fill="lighten" w="21600" h="24838">
                    <a:moveTo>
                      <a:pt x="0" y="2483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48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6" name="" descr="Nombre de archivo: j0335776.wmf&#13;Palabras clave: artículo del hogar, llaves, llaves de casa ...&#13;Tamaño de archivo: 65 KB"/>
              <p:cNvPicPr/>
              <p:nvPr/>
            </p:nvPicPr>
            <p:blipFill>
              <a:blip r:embed="rId2"/>
              <a:stretch/>
            </p:blipFill>
            <p:spPr>
              <a:xfrm rot="6326400">
                <a:off x="395640" y="36936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87" name="" descr=""/>
            <p:cNvPicPr/>
            <p:nvPr/>
          </p:nvPicPr>
          <p:blipFill>
            <a:blip r:embed="rId3"/>
            <a:srcRect l="6576" t="0" r="1240" b="11321"/>
            <a:stretch/>
          </p:blipFill>
          <p:spPr>
            <a:xfrm>
              <a:off x="336600" y="152280"/>
              <a:ext cx="11336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" descr="Nombre de archivo: j0335776.wmf&#13;Palabras clave: artículo del hogar, llaves, llaves de casa ...&#13;Tamaño de archivo: 65 KB"/>
            <p:cNvPicPr/>
            <p:nvPr/>
          </p:nvPicPr>
          <p:blipFill>
            <a:blip r:embed="rId4"/>
            <a:stretch/>
          </p:blipFill>
          <p:spPr>
            <a:xfrm rot="8627400">
              <a:off x="707400" y="380880"/>
              <a:ext cx="685800" cy="68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9" name=""/>
          <p:cNvSpPr/>
          <p:nvPr/>
        </p:nvSpPr>
        <p:spPr>
          <a:xfrm>
            <a:off x="914400" y="3200400"/>
            <a:ext cx="7238880" cy="2514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6699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523880" y="2274480"/>
            <a:ext cx="6858000" cy="35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30000"/>
              </a:lnSpc>
              <a:buSzPct val="11827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400" spc="-1" strike="noStrike">
                <a:solidFill>
                  <a:srgbClr val="000000"/>
                </a:solidFill>
                <a:latin typeface="Arial"/>
              </a:rPr>
              <a:t>Catalogar especies de plantas y anim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7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400" spc="-1" strike="noStrike">
                <a:solidFill>
                  <a:srgbClr val="000000"/>
                </a:solidFill>
                <a:latin typeface="Arial"/>
              </a:rPr>
              <a:t>Desarrollar clases "al aire libr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7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400" spc="-1" strike="noStrike">
                <a:solidFill>
                  <a:srgbClr val="000000"/>
                </a:solidFill>
                <a:latin typeface="Arial"/>
              </a:rPr>
              <a:t>Recoger objetos de la naturale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7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400" spc="-1" strike="noStrike">
                <a:solidFill>
                  <a:srgbClr val="000000"/>
                </a:solidFill>
                <a:latin typeface="Arial"/>
              </a:rPr>
              <a:t>Hacer observaciones astrológ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7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400" spc="-1" strike="noStrike">
                <a:solidFill>
                  <a:srgbClr val="000000"/>
                </a:solidFill>
                <a:latin typeface="Arial"/>
              </a:rPr>
              <a:t>Utilizar equipo científico para observar la naturale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7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400" spc="-1" strike="noStrike">
                <a:solidFill>
                  <a:srgbClr val="000000"/>
                </a:solidFill>
                <a:latin typeface="Arial"/>
              </a:rPr>
              <a:t>Proyectos como "la cadena alimentaria", "el ciclo del agua" o temas medio ambient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7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400" spc="-1" strike="noStrike">
                <a:solidFill>
                  <a:srgbClr val="000000"/>
                </a:solidFill>
                <a:latin typeface="Arial"/>
              </a:rPr>
              <a:t>Predecir problemas medio ambientales derivados de la conducta de los huma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76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400" spc="-1" strike="noStrike">
                <a:solidFill>
                  <a:srgbClr val="000000"/>
                </a:solidFill>
                <a:latin typeface="Arial"/>
              </a:rPr>
              <a:t>Conocer grupos de protección de la naturaleza o medio ambient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76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400" spc="-1" strike="noStrike">
                <a:solidFill>
                  <a:srgbClr val="000000"/>
                </a:solidFill>
                <a:latin typeface="Arial"/>
              </a:rPr>
              <a:t>Investigar asuntos medio ambientales lo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76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400" spc="-1" strike="noStrike">
                <a:solidFill>
                  <a:srgbClr val="000000"/>
                </a:solidFill>
                <a:latin typeface="Arial"/>
              </a:rPr>
              <a:t>Construír y etiquetar objetos de la naturale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7c9c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380880" y="380880"/>
            <a:ext cx="8610840" cy="6324840"/>
          </a:xfrm>
          <a:prstGeom prst="flowChartPunchedCard">
            <a:avLst/>
          </a:prstGeom>
          <a:gradFill rotWithShape="0">
            <a:gsLst>
              <a:gs pos="0">
                <a:srgbClr val="80808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04920" y="304920"/>
            <a:ext cx="8610480" cy="6324480"/>
          </a:xfrm>
          <a:prstGeom prst="flowChartPunchedCard">
            <a:avLst/>
          </a:prstGeom>
          <a:gradFill rotWithShape="0">
            <a:gsLst>
              <a:gs pos="0">
                <a:srgbClr val="eaeaea"/>
              </a:gs>
              <a:gs pos="50000">
                <a:srgbClr val="fefefe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7188120" y="1371600"/>
            <a:ext cx="1117800" cy="107460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1143000" y="1752480"/>
            <a:ext cx="716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etencia en el tratamiento de la información y competencia digi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>
            <a:hlinkClick r:id="" action="ppaction://hlinkshowjump?jump=nextslide"/>
          </p:cNvPr>
          <p:cNvSpPr/>
          <p:nvPr/>
        </p:nvSpPr>
        <p:spPr>
          <a:xfrm>
            <a:off x="784872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10800"/>
                </a:moveTo>
                <a:lnTo>
                  <a:pt x="26797" y="3794"/>
                </a:lnTo>
                <a:lnTo>
                  <a:pt x="26797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>
            <a:hlinkClick r:id="" action="ppaction://hlinkshowjump?jump=firstslide"/>
          </p:cNvPr>
          <p:cNvSpPr/>
          <p:nvPr/>
        </p:nvSpPr>
        <p:spPr>
          <a:xfrm>
            <a:off x="457200" y="6095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7301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5456" y="5956"/>
                </a:lnTo>
                <a:lnTo>
                  <a:pt x="5456" y="19969"/>
                </a:lnTo>
                <a:lnTo>
                  <a:pt x="3794" y="19969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50920" y="152280"/>
            <a:ext cx="7237440" cy="1374840"/>
            <a:chOff x="250920" y="152280"/>
            <a:chExt cx="7237440" cy="1374840"/>
          </a:xfrm>
        </p:grpSpPr>
        <p:grpSp>
          <p:nvGrpSpPr>
            <p:cNvPr id="599" name=""/>
            <p:cNvGrpSpPr/>
            <p:nvPr/>
          </p:nvGrpSpPr>
          <p:grpSpPr>
            <a:xfrm>
              <a:off x="1263600" y="297000"/>
              <a:ext cx="6224760" cy="723600"/>
              <a:chOff x="1263600" y="297000"/>
              <a:chExt cx="6224760" cy="723600"/>
            </a:xfrm>
          </p:grpSpPr>
          <p:sp>
            <p:nvSpPr>
              <p:cNvPr id="600" name=""/>
              <p:cNvSpPr/>
              <p:nvPr/>
            </p:nvSpPr>
            <p:spPr>
              <a:xfrm>
                <a:off x="1263600" y="297000"/>
                <a:ext cx="6224760" cy="7236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efefe"/>
                  </a:gs>
                  <a:gs pos="100000">
                    <a:srgbClr val="808080"/>
                  </a:gs>
                </a:gsLst>
                <a:lin ang="81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335600" y="369360"/>
                <a:ext cx="6080040" cy="5785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 txBox="1"/>
              <p:nvPr/>
            </p:nvSpPr>
            <p:spPr>
              <a:xfrm>
                <a:off x="1552680" y="513720"/>
                <a:ext cx="5718240" cy="2894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   </a:t>
                </a: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CÓMO TRABAJAR LAS C. CLAVE EN EL AULA     </a:t>
                </a:r>
                <a:endPara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17819" dir="2700000" blurRad="0" rotWithShape="0">
                      <a:srgbClr val="001f1e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250920" y="152280"/>
              <a:ext cx="1195560" cy="1374840"/>
              <a:chOff x="250920" y="152280"/>
              <a:chExt cx="1195560" cy="1374840"/>
            </a:xfrm>
          </p:grpSpPr>
          <p:sp>
            <p:nvSpPr>
              <p:cNvPr id="604" name=""/>
              <p:cNvSpPr/>
              <p:nvPr/>
            </p:nvSpPr>
            <p:spPr>
              <a:xfrm>
                <a:off x="250920" y="152280"/>
                <a:ext cx="1195560" cy="1374840"/>
              </a:xfrm>
              <a:custGeom>
                <a:avLst/>
                <a:gdLst>
                  <a:gd name="textAreaLeft" fmla="*/ 0 w 1195560"/>
                  <a:gd name="textAreaRight" fmla="*/ 1195920 w 1195560"/>
                  <a:gd name="textAreaTop" fmla="*/ 0 h 1374840"/>
                  <a:gd name="textAreaBottom" fmla="*/ 1375200 h 1374840"/>
                </a:gdLst>
                <a:ahLst/>
                <a:rect l="textAreaLeft" t="textAreaTop" r="textAreaRight" b="textAreaBottom"/>
                <a:pathLst>
                  <a:path w="21600" h="24838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4838"/>
                    </a:lnTo>
                    <a:lnTo>
                      <a:pt x="0" y="24838"/>
                    </a:lnTo>
                    <a:close/>
                  </a:path>
                  <a:path fill="lightenLess" w="21600" h="24838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  <a:path fill="darken" w="21600" h="24838">
                    <a:moveTo>
                      <a:pt x="21600" y="0"/>
                    </a:moveTo>
                    <a:lnTo>
                      <a:pt x="21600" y="24838"/>
                    </a:lnTo>
                    <a:lnTo>
                      <a:pt x="21600" y="24838"/>
                    </a:lnTo>
                    <a:lnTo>
                      <a:pt x="21600" y="0"/>
                    </a:lnTo>
                    <a:close/>
                  </a:path>
                  <a:path fill="darkenLess" w="21600" h="24838">
                    <a:moveTo>
                      <a:pt x="21600" y="24838"/>
                    </a:moveTo>
                    <a:lnTo>
                      <a:pt x="0" y="24838"/>
                    </a:lnTo>
                    <a:lnTo>
                      <a:pt x="0" y="24838"/>
                    </a:lnTo>
                    <a:lnTo>
                      <a:pt x="21600" y="24838"/>
                    </a:lnTo>
                    <a:close/>
                  </a:path>
                  <a:path fill="lighten" w="21600" h="24838">
                    <a:moveTo>
                      <a:pt x="0" y="2483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48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5" name="" descr="Nombre de archivo: j0335776.wmf&#13;Palabras clave: artículo del hogar, llaves, llaves de casa ...&#13;Tamaño de archivo: 65 KB"/>
              <p:cNvPicPr/>
              <p:nvPr/>
            </p:nvPicPr>
            <p:blipFill>
              <a:blip r:embed="rId2"/>
              <a:stretch/>
            </p:blipFill>
            <p:spPr>
              <a:xfrm rot="6326400">
                <a:off x="395640" y="36936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06" name="" descr=""/>
            <p:cNvPicPr/>
            <p:nvPr/>
          </p:nvPicPr>
          <p:blipFill>
            <a:blip r:embed="rId3"/>
            <a:srcRect l="6576" t="0" r="1240" b="11321"/>
            <a:stretch/>
          </p:blipFill>
          <p:spPr>
            <a:xfrm>
              <a:off x="336600" y="152280"/>
              <a:ext cx="11336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" descr="Nombre de archivo: j0335776.wmf&#13;Palabras clave: artículo del hogar, llaves, llaves de casa ...&#13;Tamaño de archivo: 65 KB"/>
            <p:cNvPicPr/>
            <p:nvPr/>
          </p:nvPicPr>
          <p:blipFill>
            <a:blip r:embed="rId4"/>
            <a:stretch/>
          </p:blipFill>
          <p:spPr>
            <a:xfrm rot="8627400">
              <a:off x="707400" y="380880"/>
              <a:ext cx="685800" cy="68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8" name=""/>
          <p:cNvSpPr/>
          <p:nvPr/>
        </p:nvSpPr>
        <p:spPr>
          <a:xfrm>
            <a:off x="914400" y="3200400"/>
            <a:ext cx="7238880" cy="2514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6699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828800" y="2589120"/>
            <a:ext cx="6934320" cy="31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30000"/>
              </a:lnSpc>
              <a:buSzPct val="11828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sar los medios de comunicación y el cine como fuentes de aprendizaj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rear gráficos, posters, diagra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rear una página web o una presentación Power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acer vídeos o películ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acer albumes digi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vestigar proyectos en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solver problemas con información de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Webqu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7c9c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380880" y="380880"/>
            <a:ext cx="8610840" cy="6324840"/>
          </a:xfrm>
          <a:prstGeom prst="flowChartPunchedCard">
            <a:avLst/>
          </a:prstGeom>
          <a:gradFill rotWithShape="0">
            <a:gsLst>
              <a:gs pos="0">
                <a:srgbClr val="80808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04920" y="304920"/>
            <a:ext cx="8610480" cy="6324480"/>
          </a:xfrm>
          <a:prstGeom prst="flowChartPunchedCard">
            <a:avLst/>
          </a:prstGeom>
          <a:gradFill rotWithShape="0">
            <a:gsLst>
              <a:gs pos="0">
                <a:srgbClr val="eaeaea"/>
              </a:gs>
              <a:gs pos="50000">
                <a:srgbClr val="fefefe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143000" y="17524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etencial social y ciudad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7073280" y="1338120"/>
            <a:ext cx="1293120" cy="1278360"/>
            <a:chOff x="7073280" y="1338120"/>
            <a:chExt cx="1293120" cy="1278360"/>
          </a:xfrm>
        </p:grpSpPr>
        <p:pic>
          <p:nvPicPr>
            <p:cNvPr id="614" name="" descr=""/>
            <p:cNvPicPr/>
            <p:nvPr/>
          </p:nvPicPr>
          <p:blipFill>
            <a:blip r:embed="rId1"/>
            <a:stretch/>
          </p:blipFill>
          <p:spPr>
            <a:xfrm rot="1879800">
              <a:off x="7238520" y="1525680"/>
              <a:ext cx="962280" cy="90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 rot="1874400">
              <a:off x="7257600" y="1447560"/>
              <a:ext cx="673200" cy="89352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ffffff"/>
                </a:gs>
              </a:gsLst>
              <a:lin ang="892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" name="">
            <a:hlinkClick r:id="" action="ppaction://hlinkshowjump?jump=nextslide"/>
          </p:cNvPr>
          <p:cNvSpPr/>
          <p:nvPr/>
        </p:nvSpPr>
        <p:spPr>
          <a:xfrm>
            <a:off x="784872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10800"/>
                </a:moveTo>
                <a:lnTo>
                  <a:pt x="26797" y="3794"/>
                </a:lnTo>
                <a:lnTo>
                  <a:pt x="26797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>
            <a:hlinkClick r:id="" action="ppaction://hlinkshowjump?jump=firstslide"/>
          </p:cNvPr>
          <p:cNvSpPr/>
          <p:nvPr/>
        </p:nvSpPr>
        <p:spPr>
          <a:xfrm>
            <a:off x="457200" y="6095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7301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5456" y="5956"/>
                </a:lnTo>
                <a:lnTo>
                  <a:pt x="5456" y="19969"/>
                </a:lnTo>
                <a:lnTo>
                  <a:pt x="3794" y="19969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250920" y="152280"/>
            <a:ext cx="7237440" cy="1374840"/>
            <a:chOff x="250920" y="152280"/>
            <a:chExt cx="7237440" cy="1374840"/>
          </a:xfrm>
        </p:grpSpPr>
        <p:grpSp>
          <p:nvGrpSpPr>
            <p:cNvPr id="620" name=""/>
            <p:cNvGrpSpPr/>
            <p:nvPr/>
          </p:nvGrpSpPr>
          <p:grpSpPr>
            <a:xfrm>
              <a:off x="1263600" y="297000"/>
              <a:ext cx="6224760" cy="723600"/>
              <a:chOff x="1263600" y="297000"/>
              <a:chExt cx="6224760" cy="723600"/>
            </a:xfrm>
          </p:grpSpPr>
          <p:sp>
            <p:nvSpPr>
              <p:cNvPr id="621" name=""/>
              <p:cNvSpPr/>
              <p:nvPr/>
            </p:nvSpPr>
            <p:spPr>
              <a:xfrm>
                <a:off x="1263600" y="297000"/>
                <a:ext cx="6224760" cy="7236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efefe"/>
                  </a:gs>
                  <a:gs pos="100000">
                    <a:srgbClr val="808080"/>
                  </a:gs>
                </a:gsLst>
                <a:lin ang="81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335600" y="369360"/>
                <a:ext cx="6080040" cy="5785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 txBox="1"/>
              <p:nvPr/>
            </p:nvSpPr>
            <p:spPr>
              <a:xfrm>
                <a:off x="1552680" y="513720"/>
                <a:ext cx="5718240" cy="2894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   </a:t>
                </a: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CÓMO TRABAJAR LAS C. CLAVE EN EL AULA     </a:t>
                </a:r>
                <a:endPara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17819" dir="2700000" blurRad="0" rotWithShape="0">
                      <a:srgbClr val="001f1e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250920" y="152280"/>
              <a:ext cx="1195560" cy="1374840"/>
              <a:chOff x="250920" y="152280"/>
              <a:chExt cx="1195560" cy="1374840"/>
            </a:xfrm>
          </p:grpSpPr>
          <p:sp>
            <p:nvSpPr>
              <p:cNvPr id="625" name=""/>
              <p:cNvSpPr/>
              <p:nvPr/>
            </p:nvSpPr>
            <p:spPr>
              <a:xfrm>
                <a:off x="250920" y="152280"/>
                <a:ext cx="1195560" cy="1374840"/>
              </a:xfrm>
              <a:custGeom>
                <a:avLst/>
                <a:gdLst>
                  <a:gd name="textAreaLeft" fmla="*/ 0 w 1195560"/>
                  <a:gd name="textAreaRight" fmla="*/ 1195920 w 1195560"/>
                  <a:gd name="textAreaTop" fmla="*/ 0 h 1374840"/>
                  <a:gd name="textAreaBottom" fmla="*/ 1375200 h 1374840"/>
                </a:gdLst>
                <a:ahLst/>
                <a:rect l="textAreaLeft" t="textAreaTop" r="textAreaRight" b="textAreaBottom"/>
                <a:pathLst>
                  <a:path w="21600" h="24838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4838"/>
                    </a:lnTo>
                    <a:lnTo>
                      <a:pt x="0" y="24838"/>
                    </a:lnTo>
                    <a:close/>
                  </a:path>
                  <a:path fill="lightenLess" w="21600" h="24838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  <a:path fill="darken" w="21600" h="24838">
                    <a:moveTo>
                      <a:pt x="21600" y="0"/>
                    </a:moveTo>
                    <a:lnTo>
                      <a:pt x="21600" y="24838"/>
                    </a:lnTo>
                    <a:lnTo>
                      <a:pt x="21600" y="24838"/>
                    </a:lnTo>
                    <a:lnTo>
                      <a:pt x="21600" y="0"/>
                    </a:lnTo>
                    <a:close/>
                  </a:path>
                  <a:path fill="darkenLess" w="21600" h="24838">
                    <a:moveTo>
                      <a:pt x="21600" y="24838"/>
                    </a:moveTo>
                    <a:lnTo>
                      <a:pt x="0" y="24838"/>
                    </a:lnTo>
                    <a:lnTo>
                      <a:pt x="0" y="24838"/>
                    </a:lnTo>
                    <a:lnTo>
                      <a:pt x="21600" y="24838"/>
                    </a:lnTo>
                    <a:close/>
                  </a:path>
                  <a:path fill="lighten" w="21600" h="24838">
                    <a:moveTo>
                      <a:pt x="0" y="2483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48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26" name="" descr="Nombre de archivo: j0335776.wmf&#13;Palabras clave: artículo del hogar, llaves, llaves de casa ...&#13;Tamaño de archivo: 65 KB"/>
              <p:cNvPicPr/>
              <p:nvPr/>
            </p:nvPicPr>
            <p:blipFill>
              <a:blip r:embed="rId2"/>
              <a:stretch/>
            </p:blipFill>
            <p:spPr>
              <a:xfrm rot="6326400">
                <a:off x="395640" y="36936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27" name="" descr=""/>
            <p:cNvPicPr/>
            <p:nvPr/>
          </p:nvPicPr>
          <p:blipFill>
            <a:blip r:embed="rId3"/>
            <a:srcRect l="6576" t="0" r="1240" b="11321"/>
            <a:stretch/>
          </p:blipFill>
          <p:spPr>
            <a:xfrm>
              <a:off x="336600" y="152280"/>
              <a:ext cx="11336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" descr="Nombre de archivo: j0335776.wmf&#13;Palabras clave: artículo del hogar, llaves, llaves de casa ...&#13;Tamaño de archivo: 65 KB"/>
            <p:cNvPicPr/>
            <p:nvPr/>
          </p:nvPicPr>
          <p:blipFill>
            <a:blip r:embed="rId4"/>
            <a:stretch/>
          </p:blipFill>
          <p:spPr>
            <a:xfrm rot="8627400">
              <a:off x="707400" y="380880"/>
              <a:ext cx="685800" cy="68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9" name=""/>
          <p:cNvSpPr/>
          <p:nvPr/>
        </p:nvSpPr>
        <p:spPr>
          <a:xfrm>
            <a:off x="914400" y="3200400"/>
            <a:ext cx="7238880" cy="2514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6699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839960" y="2334240"/>
            <a:ext cx="6045120" cy="30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40000"/>
              </a:lnSpc>
              <a:buSzPct val="11828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Dar y recibir "feedback" (entre alumnos y alumno/profes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SzPct val="11828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Intuír los sentimientos de los ot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SzPct val="11828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Tareas en pare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SzPct val="11828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Tareas en equi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SzPct val="11828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Intuír las motivaciones de los ot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SzPct val="11828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Investigar sobre otras cultu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SzPct val="11828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Enseñar algo nuevo a algui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SzPct val="11828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Aprender de alguien de fuera del coleg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SzPct val="11828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Actuar en una obra teatral sobre aspectos sociale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7c9c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0880" y="380880"/>
            <a:ext cx="8610840" cy="6324840"/>
          </a:xfrm>
          <a:prstGeom prst="flowChartPunchedCard">
            <a:avLst/>
          </a:prstGeom>
          <a:gradFill rotWithShape="0">
            <a:gsLst>
              <a:gs pos="0">
                <a:srgbClr val="80808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304920"/>
            <a:ext cx="8610480" cy="6324480"/>
          </a:xfrm>
          <a:prstGeom prst="flowChartPunchedCard">
            <a:avLst/>
          </a:prstGeom>
          <a:gradFill rotWithShape="0">
            <a:gsLst>
              <a:gs pos="0">
                <a:srgbClr val="eaeaea"/>
              </a:gs>
              <a:gs pos="50000">
                <a:srgbClr val="fefefe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50920" y="152280"/>
            <a:ext cx="6801840" cy="1374840"/>
            <a:chOff x="250920" y="152280"/>
            <a:chExt cx="6801840" cy="1374840"/>
          </a:xfrm>
        </p:grpSpPr>
        <p:grpSp>
          <p:nvGrpSpPr>
            <p:cNvPr id="120" name=""/>
            <p:cNvGrpSpPr/>
            <p:nvPr/>
          </p:nvGrpSpPr>
          <p:grpSpPr>
            <a:xfrm>
              <a:off x="829440" y="297000"/>
              <a:ext cx="6223320" cy="723240"/>
              <a:chOff x="829440" y="297000"/>
              <a:chExt cx="6223320" cy="723240"/>
            </a:xfrm>
          </p:grpSpPr>
          <p:sp>
            <p:nvSpPr>
              <p:cNvPr id="121" name=""/>
              <p:cNvSpPr/>
              <p:nvPr/>
            </p:nvSpPr>
            <p:spPr>
              <a:xfrm>
                <a:off x="829440" y="297000"/>
                <a:ext cx="6223320" cy="7232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efefe"/>
                  </a:gs>
                  <a:gs pos="100000">
                    <a:srgbClr val="808080"/>
                  </a:gs>
                </a:gsLst>
                <a:lin ang="81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901800" y="369360"/>
                <a:ext cx="6078240" cy="57816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 txBox="1"/>
              <p:nvPr/>
            </p:nvSpPr>
            <p:spPr>
              <a:xfrm>
                <a:off x="2131920" y="513720"/>
                <a:ext cx="3762720" cy="28908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     </a:t>
                </a: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CONTEXTO     </a:t>
                </a:r>
                <a:endPara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17819" dir="2700000" blurRad="0" rotWithShape="0">
                      <a:srgbClr val="001f1e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250920" y="152280"/>
              <a:ext cx="1195200" cy="1374840"/>
              <a:chOff x="250920" y="152280"/>
              <a:chExt cx="1195200" cy="1374840"/>
            </a:xfrm>
          </p:grpSpPr>
          <p:sp>
            <p:nvSpPr>
              <p:cNvPr id="125" name="">
                <a:hlinkClick r:id="" action="ppaction://hlinkshowjump?jump=nextslide"/>
              </p:cNvPr>
              <p:cNvSpPr/>
              <p:nvPr/>
            </p:nvSpPr>
            <p:spPr>
              <a:xfrm>
                <a:off x="250920" y="152280"/>
                <a:ext cx="1195200" cy="1374840"/>
              </a:xfrm>
              <a:custGeom>
                <a:avLst/>
                <a:gdLst>
                  <a:gd name="textAreaLeft" fmla="*/ 0 w 1195200"/>
                  <a:gd name="textAreaRight" fmla="*/ 1195560 w 1195200"/>
                  <a:gd name="textAreaTop" fmla="*/ 0 h 1374840"/>
                  <a:gd name="textAreaBottom" fmla="*/ 1374840 h 1374840"/>
                </a:gdLst>
                <a:ahLst/>
                <a:rect l="textAreaLeft" t="textAreaTop" r="textAreaRight" b="textAreaBottom"/>
                <a:pathLst>
                  <a:path w="21600" h="24846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4846"/>
                    </a:lnTo>
                    <a:lnTo>
                      <a:pt x="0" y="24846"/>
                    </a:lnTo>
                    <a:close/>
                  </a:path>
                  <a:path fill="lightenLess" w="21600" h="24846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  <a:path fill="darken" w="21600" h="24846">
                    <a:moveTo>
                      <a:pt x="21600" y="0"/>
                    </a:moveTo>
                    <a:lnTo>
                      <a:pt x="21600" y="24846"/>
                    </a:lnTo>
                    <a:lnTo>
                      <a:pt x="21600" y="24846"/>
                    </a:lnTo>
                    <a:lnTo>
                      <a:pt x="21600" y="0"/>
                    </a:lnTo>
                    <a:close/>
                  </a:path>
                  <a:path fill="darkenLess" w="21600" h="24846">
                    <a:moveTo>
                      <a:pt x="21600" y="24846"/>
                    </a:moveTo>
                    <a:lnTo>
                      <a:pt x="0" y="24846"/>
                    </a:lnTo>
                    <a:lnTo>
                      <a:pt x="0" y="24846"/>
                    </a:lnTo>
                    <a:lnTo>
                      <a:pt x="21600" y="24846"/>
                    </a:lnTo>
                    <a:close/>
                  </a:path>
                  <a:path fill="lighten" w="21600" h="24846">
                    <a:moveTo>
                      <a:pt x="0" y="2484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48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6" name="" descr=""/>
              <p:cNvPicPr/>
              <p:nvPr/>
            </p:nvPicPr>
            <p:blipFill>
              <a:blip r:embed="rId1">
                <a:lum contrast="18000"/>
              </a:blip>
              <a:stretch/>
            </p:blipFill>
            <p:spPr>
              <a:xfrm>
                <a:off x="395640" y="369000"/>
                <a:ext cx="932400" cy="927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7" name=""/>
          <p:cNvSpPr/>
          <p:nvPr/>
        </p:nvSpPr>
        <p:spPr>
          <a:xfrm>
            <a:off x="-2284920" y="3428640"/>
            <a:ext cx="3088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1429920"/>
            <a:ext cx="8305560" cy="49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2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rgen de directrices europeas que han de servir para que todos  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aíses miembros fomenten su adquisició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oman el Marco de referencia europeo como guía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SzPct val="1132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ransforman el concepto tradicional de enseñanz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quisición de conocimientos.                    Capacidad de resolver situaciones a lo largo de la vida.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SzPct val="1132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arácter transversal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+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prendizaje permanente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individuos preparad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vorece su integración en condiciones sociales cambia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igirlas a la población en general y poner su aprendizaje a disposi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 todos, es uno los objetivos para el Consejo Europeo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SzPct val="1132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n España, a través de la Ley Orgánica de Educación, se convierten 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na meta educativa básica en la escolarización obligatori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86040" y="3200400"/>
            <a:ext cx="657360" cy="333360"/>
          </a:xfrm>
          <a:custGeom>
            <a:avLst/>
            <a:gdLst>
              <a:gd name="textAreaLeft" fmla="*/ 102600 w 657360"/>
              <a:gd name="textAreaRight" fmla="*/ 575280 w 65736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" action="ppaction://hlinkshowjump?jump=nextslide"/>
          </p:cNvPr>
          <p:cNvSpPr/>
          <p:nvPr/>
        </p:nvSpPr>
        <p:spPr>
          <a:xfrm>
            <a:off x="784872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previousslide"/>
          </p:cNvPr>
          <p:cNvSpPr/>
          <p:nvPr/>
        </p:nvSpPr>
        <p:spPr>
          <a:xfrm>
            <a:off x="68580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10800"/>
                </a:moveTo>
                <a:lnTo>
                  <a:pt x="26797" y="3794"/>
                </a:lnTo>
                <a:lnTo>
                  <a:pt x="26797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7c9c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380880" y="380880"/>
            <a:ext cx="8610840" cy="6324840"/>
          </a:xfrm>
          <a:prstGeom prst="flowChartPunchedCard">
            <a:avLst/>
          </a:prstGeom>
          <a:gradFill rotWithShape="0">
            <a:gsLst>
              <a:gs pos="0">
                <a:srgbClr val="80808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04920" y="304920"/>
            <a:ext cx="8610480" cy="6324480"/>
          </a:xfrm>
          <a:prstGeom prst="flowChartPunchedCard">
            <a:avLst/>
          </a:prstGeom>
          <a:gradFill rotWithShape="0">
            <a:gsLst>
              <a:gs pos="0">
                <a:srgbClr val="eaeaea"/>
              </a:gs>
              <a:gs pos="50000">
                <a:srgbClr val="fefefe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143000" y="17524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etencia cultural y art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7221600" y="1371600"/>
            <a:ext cx="1084320" cy="1092240"/>
          </a:xfrm>
          <a:prstGeom prst="rect">
            <a:avLst/>
          </a:prstGeom>
          <a:ln w="0">
            <a:noFill/>
          </a:ln>
        </p:spPr>
      </p:pic>
      <p:sp>
        <p:nvSpPr>
          <p:cNvPr id="635" name="">
            <a:hlinkClick r:id="" action="ppaction://hlinkshowjump?jump=nextslide"/>
          </p:cNvPr>
          <p:cNvSpPr/>
          <p:nvPr/>
        </p:nvSpPr>
        <p:spPr>
          <a:xfrm>
            <a:off x="784872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10800"/>
                </a:moveTo>
                <a:lnTo>
                  <a:pt x="26797" y="3794"/>
                </a:lnTo>
                <a:lnTo>
                  <a:pt x="26797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>
            <a:hlinkClick r:id="" action="ppaction://hlinkshowjump?jump=firstslide"/>
          </p:cNvPr>
          <p:cNvSpPr/>
          <p:nvPr/>
        </p:nvSpPr>
        <p:spPr>
          <a:xfrm>
            <a:off x="457200" y="6095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7301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5456" y="5956"/>
                </a:lnTo>
                <a:lnTo>
                  <a:pt x="5456" y="19969"/>
                </a:lnTo>
                <a:lnTo>
                  <a:pt x="3794" y="19969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250920" y="152280"/>
            <a:ext cx="7237440" cy="1374840"/>
            <a:chOff x="250920" y="152280"/>
            <a:chExt cx="7237440" cy="1374840"/>
          </a:xfrm>
        </p:grpSpPr>
        <p:grpSp>
          <p:nvGrpSpPr>
            <p:cNvPr id="639" name=""/>
            <p:cNvGrpSpPr/>
            <p:nvPr/>
          </p:nvGrpSpPr>
          <p:grpSpPr>
            <a:xfrm>
              <a:off x="1263600" y="297000"/>
              <a:ext cx="6224760" cy="723600"/>
              <a:chOff x="1263600" y="297000"/>
              <a:chExt cx="6224760" cy="723600"/>
            </a:xfrm>
          </p:grpSpPr>
          <p:sp>
            <p:nvSpPr>
              <p:cNvPr id="640" name=""/>
              <p:cNvSpPr/>
              <p:nvPr/>
            </p:nvSpPr>
            <p:spPr>
              <a:xfrm>
                <a:off x="1263600" y="297000"/>
                <a:ext cx="6224760" cy="7236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efefe"/>
                  </a:gs>
                  <a:gs pos="100000">
                    <a:srgbClr val="808080"/>
                  </a:gs>
                </a:gsLst>
                <a:lin ang="81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335600" y="369360"/>
                <a:ext cx="6080040" cy="5785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 txBox="1"/>
              <p:nvPr/>
            </p:nvSpPr>
            <p:spPr>
              <a:xfrm>
                <a:off x="1552680" y="513720"/>
                <a:ext cx="5718240" cy="2894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   </a:t>
                </a: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CÓMO TRABAJAR LAS C. CLAVE EN EL AULA     </a:t>
                </a:r>
                <a:endPara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17819" dir="2700000" blurRad="0" rotWithShape="0">
                      <a:srgbClr val="001f1e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250920" y="152280"/>
              <a:ext cx="1195560" cy="1374840"/>
              <a:chOff x="250920" y="152280"/>
              <a:chExt cx="1195560" cy="1374840"/>
            </a:xfrm>
          </p:grpSpPr>
          <p:sp>
            <p:nvSpPr>
              <p:cNvPr id="644" name=""/>
              <p:cNvSpPr/>
              <p:nvPr/>
            </p:nvSpPr>
            <p:spPr>
              <a:xfrm>
                <a:off x="250920" y="152280"/>
                <a:ext cx="1195560" cy="1374840"/>
              </a:xfrm>
              <a:custGeom>
                <a:avLst/>
                <a:gdLst>
                  <a:gd name="textAreaLeft" fmla="*/ 0 w 1195560"/>
                  <a:gd name="textAreaRight" fmla="*/ 1195920 w 1195560"/>
                  <a:gd name="textAreaTop" fmla="*/ 0 h 1374840"/>
                  <a:gd name="textAreaBottom" fmla="*/ 1375200 h 1374840"/>
                </a:gdLst>
                <a:ahLst/>
                <a:rect l="textAreaLeft" t="textAreaTop" r="textAreaRight" b="textAreaBottom"/>
                <a:pathLst>
                  <a:path w="21600" h="24838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4838"/>
                    </a:lnTo>
                    <a:lnTo>
                      <a:pt x="0" y="24838"/>
                    </a:lnTo>
                    <a:close/>
                  </a:path>
                  <a:path fill="lightenLess" w="21600" h="24838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  <a:path fill="darken" w="21600" h="24838">
                    <a:moveTo>
                      <a:pt x="21600" y="0"/>
                    </a:moveTo>
                    <a:lnTo>
                      <a:pt x="21600" y="24838"/>
                    </a:lnTo>
                    <a:lnTo>
                      <a:pt x="21600" y="24838"/>
                    </a:lnTo>
                    <a:lnTo>
                      <a:pt x="21600" y="0"/>
                    </a:lnTo>
                    <a:close/>
                  </a:path>
                  <a:path fill="darkenLess" w="21600" h="24838">
                    <a:moveTo>
                      <a:pt x="21600" y="24838"/>
                    </a:moveTo>
                    <a:lnTo>
                      <a:pt x="0" y="24838"/>
                    </a:lnTo>
                    <a:lnTo>
                      <a:pt x="0" y="24838"/>
                    </a:lnTo>
                    <a:lnTo>
                      <a:pt x="21600" y="24838"/>
                    </a:lnTo>
                    <a:close/>
                  </a:path>
                  <a:path fill="lighten" w="21600" h="24838">
                    <a:moveTo>
                      <a:pt x="0" y="2483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48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45" name="" descr="Nombre de archivo: j0335776.wmf&#13;Palabras clave: artículo del hogar, llaves, llaves de casa ...&#13;Tamaño de archivo: 65 KB"/>
              <p:cNvPicPr/>
              <p:nvPr/>
            </p:nvPicPr>
            <p:blipFill>
              <a:blip r:embed="rId2"/>
              <a:stretch/>
            </p:blipFill>
            <p:spPr>
              <a:xfrm rot="6326400">
                <a:off x="395640" y="36936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46" name="" descr=""/>
            <p:cNvPicPr/>
            <p:nvPr/>
          </p:nvPicPr>
          <p:blipFill>
            <a:blip r:embed="rId3"/>
            <a:srcRect l="6576" t="0" r="1240" b="11321"/>
            <a:stretch/>
          </p:blipFill>
          <p:spPr>
            <a:xfrm>
              <a:off x="336600" y="152280"/>
              <a:ext cx="11336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7" name="" descr="Nombre de archivo: j0335776.wmf&#13;Palabras clave: artículo del hogar, llaves, llaves de casa ...&#13;Tamaño de archivo: 65 KB"/>
            <p:cNvPicPr/>
            <p:nvPr/>
          </p:nvPicPr>
          <p:blipFill>
            <a:blip r:embed="rId4"/>
            <a:stretch/>
          </p:blipFill>
          <p:spPr>
            <a:xfrm rot="8627400">
              <a:off x="707400" y="380880"/>
              <a:ext cx="685800" cy="68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8" name=""/>
          <p:cNvSpPr/>
          <p:nvPr/>
        </p:nvSpPr>
        <p:spPr>
          <a:xfrm>
            <a:off x="914400" y="3200400"/>
            <a:ext cx="7238880" cy="2514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6699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836720" y="2368440"/>
            <a:ext cx="5767560" cy="31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30000"/>
              </a:lnSpc>
              <a:buSzPct val="11828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Escribir o cantar can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Desarrollar patrones rítmicos para apoyar el aprendiz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Cambiar la letra de una can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Desarrollar la historia de una canción a partir del títu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Identificar tipos de mús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Incorporar música o sonidos a una presen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Role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Usar gestos para comunicar una id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1828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Construír figuras o mode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7c9c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380880" y="380880"/>
            <a:ext cx="8610840" cy="6324840"/>
          </a:xfrm>
          <a:prstGeom prst="flowChartPunchedCard">
            <a:avLst/>
          </a:prstGeom>
          <a:gradFill rotWithShape="0">
            <a:gsLst>
              <a:gs pos="0">
                <a:srgbClr val="80808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04920" y="304920"/>
            <a:ext cx="8610480" cy="6324480"/>
          </a:xfrm>
          <a:prstGeom prst="flowChartPunchedCard">
            <a:avLst/>
          </a:prstGeom>
          <a:gradFill rotWithShape="0">
            <a:gsLst>
              <a:gs pos="0">
                <a:srgbClr val="eaeaea"/>
              </a:gs>
              <a:gs pos="50000">
                <a:srgbClr val="fefefe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143000" y="17524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etencia para aprender a apr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7145280" y="1371600"/>
            <a:ext cx="1084320" cy="1038240"/>
          </a:xfrm>
          <a:prstGeom prst="rect">
            <a:avLst/>
          </a:prstGeom>
          <a:ln w="0">
            <a:noFill/>
          </a:ln>
        </p:spPr>
      </p:pic>
      <p:sp>
        <p:nvSpPr>
          <p:cNvPr id="654" name="">
            <a:hlinkClick r:id="" action="ppaction://hlinkshowjump?jump=nextslide"/>
          </p:cNvPr>
          <p:cNvSpPr/>
          <p:nvPr/>
        </p:nvSpPr>
        <p:spPr>
          <a:xfrm>
            <a:off x="784872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10800"/>
                </a:moveTo>
                <a:lnTo>
                  <a:pt x="26797" y="3794"/>
                </a:lnTo>
                <a:lnTo>
                  <a:pt x="26797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>
            <a:hlinkClick r:id="" action="ppaction://hlinkshowjump?jump=firstslide"/>
          </p:cNvPr>
          <p:cNvSpPr/>
          <p:nvPr/>
        </p:nvSpPr>
        <p:spPr>
          <a:xfrm>
            <a:off x="457200" y="6095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7301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5456" y="5956"/>
                </a:lnTo>
                <a:lnTo>
                  <a:pt x="5456" y="19969"/>
                </a:lnTo>
                <a:lnTo>
                  <a:pt x="3794" y="19969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250920" y="152280"/>
            <a:ext cx="7237440" cy="1374840"/>
            <a:chOff x="250920" y="152280"/>
            <a:chExt cx="7237440" cy="1374840"/>
          </a:xfrm>
        </p:grpSpPr>
        <p:grpSp>
          <p:nvGrpSpPr>
            <p:cNvPr id="658" name=""/>
            <p:cNvGrpSpPr/>
            <p:nvPr/>
          </p:nvGrpSpPr>
          <p:grpSpPr>
            <a:xfrm>
              <a:off x="1263600" y="297000"/>
              <a:ext cx="6224760" cy="723600"/>
              <a:chOff x="1263600" y="297000"/>
              <a:chExt cx="6224760" cy="723600"/>
            </a:xfrm>
          </p:grpSpPr>
          <p:sp>
            <p:nvSpPr>
              <p:cNvPr id="659" name=""/>
              <p:cNvSpPr/>
              <p:nvPr/>
            </p:nvSpPr>
            <p:spPr>
              <a:xfrm>
                <a:off x="1263600" y="297000"/>
                <a:ext cx="6224760" cy="7236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efefe"/>
                  </a:gs>
                  <a:gs pos="100000">
                    <a:srgbClr val="808080"/>
                  </a:gs>
                </a:gsLst>
                <a:lin ang="81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335600" y="369360"/>
                <a:ext cx="6080040" cy="5785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 txBox="1"/>
              <p:nvPr/>
            </p:nvSpPr>
            <p:spPr>
              <a:xfrm>
                <a:off x="1552680" y="513720"/>
                <a:ext cx="5718240" cy="2894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   </a:t>
                </a: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CÓMO TRABAJAR LAS C. CLAVE EN EL AULA     </a:t>
                </a:r>
                <a:endPara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17819" dir="2700000" blurRad="0" rotWithShape="0">
                      <a:srgbClr val="001f1e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250920" y="152280"/>
              <a:ext cx="1195560" cy="1374840"/>
              <a:chOff x="250920" y="152280"/>
              <a:chExt cx="1195560" cy="1374840"/>
            </a:xfrm>
          </p:grpSpPr>
          <p:sp>
            <p:nvSpPr>
              <p:cNvPr id="663" name=""/>
              <p:cNvSpPr/>
              <p:nvPr/>
            </p:nvSpPr>
            <p:spPr>
              <a:xfrm>
                <a:off x="250920" y="152280"/>
                <a:ext cx="1195560" cy="1374840"/>
              </a:xfrm>
              <a:custGeom>
                <a:avLst/>
                <a:gdLst>
                  <a:gd name="textAreaLeft" fmla="*/ 0 w 1195560"/>
                  <a:gd name="textAreaRight" fmla="*/ 1195920 w 1195560"/>
                  <a:gd name="textAreaTop" fmla="*/ 0 h 1374840"/>
                  <a:gd name="textAreaBottom" fmla="*/ 1375200 h 1374840"/>
                </a:gdLst>
                <a:ahLst/>
                <a:rect l="textAreaLeft" t="textAreaTop" r="textAreaRight" b="textAreaBottom"/>
                <a:pathLst>
                  <a:path w="21600" h="24838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4838"/>
                    </a:lnTo>
                    <a:lnTo>
                      <a:pt x="0" y="24838"/>
                    </a:lnTo>
                    <a:close/>
                  </a:path>
                  <a:path fill="lightenLess" w="21600" h="24838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  <a:path fill="darken" w="21600" h="24838">
                    <a:moveTo>
                      <a:pt x="21600" y="0"/>
                    </a:moveTo>
                    <a:lnTo>
                      <a:pt x="21600" y="24838"/>
                    </a:lnTo>
                    <a:lnTo>
                      <a:pt x="21600" y="24838"/>
                    </a:lnTo>
                    <a:lnTo>
                      <a:pt x="21600" y="0"/>
                    </a:lnTo>
                    <a:close/>
                  </a:path>
                  <a:path fill="darkenLess" w="21600" h="24838">
                    <a:moveTo>
                      <a:pt x="21600" y="24838"/>
                    </a:moveTo>
                    <a:lnTo>
                      <a:pt x="0" y="24838"/>
                    </a:lnTo>
                    <a:lnTo>
                      <a:pt x="0" y="24838"/>
                    </a:lnTo>
                    <a:lnTo>
                      <a:pt x="21600" y="24838"/>
                    </a:lnTo>
                    <a:close/>
                  </a:path>
                  <a:path fill="lighten" w="21600" h="24838">
                    <a:moveTo>
                      <a:pt x="0" y="2483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48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64" name="" descr="Nombre de archivo: j0335776.wmf&#13;Palabras clave: artículo del hogar, llaves, llaves de casa ...&#13;Tamaño de archivo: 65 KB"/>
              <p:cNvPicPr/>
              <p:nvPr/>
            </p:nvPicPr>
            <p:blipFill>
              <a:blip r:embed="rId2"/>
              <a:stretch/>
            </p:blipFill>
            <p:spPr>
              <a:xfrm rot="6326400">
                <a:off x="395640" y="36936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65" name="" descr=""/>
            <p:cNvPicPr/>
            <p:nvPr/>
          </p:nvPicPr>
          <p:blipFill>
            <a:blip r:embed="rId3"/>
            <a:srcRect l="6576" t="0" r="1240" b="11321"/>
            <a:stretch/>
          </p:blipFill>
          <p:spPr>
            <a:xfrm>
              <a:off x="336600" y="152280"/>
              <a:ext cx="11336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6" name="" descr="Nombre de archivo: j0335776.wmf&#13;Palabras clave: artículo del hogar, llaves, llaves de casa ...&#13;Tamaño de archivo: 65 KB"/>
            <p:cNvPicPr/>
            <p:nvPr/>
          </p:nvPicPr>
          <p:blipFill>
            <a:blip r:embed="rId4"/>
            <a:stretch/>
          </p:blipFill>
          <p:spPr>
            <a:xfrm rot="8627400">
              <a:off x="707400" y="380880"/>
              <a:ext cx="685800" cy="68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7" name=""/>
          <p:cNvSpPr/>
          <p:nvPr/>
        </p:nvSpPr>
        <p:spPr>
          <a:xfrm>
            <a:off x="914400" y="3200400"/>
            <a:ext cx="7238880" cy="2514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6699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143000" y="2129760"/>
            <a:ext cx="7238880" cy="38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30000"/>
              </a:lnSpc>
              <a:buSzPct val="10786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oevaluar el aprendiz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0786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ferenciar entre aprendizajes formales e informales de propia v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0786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finir nuevas habilidades que se quieren adquir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0786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car maneras de ampliar aprendizajes adquirid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0786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stablecer conexiones más o menos evidentes, entre las áreas del conocimiento  que hemos consegui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0786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star actividades profesionales en los que se pueden emplear los conocimientos adquiri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0786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entificar tus cualidades positivas y en qué te ayudan a desarrollar las actividades cotidianas o las profesio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07866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entificar cualidades a desarrollar y ponerlas en positiv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07866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formar contenidos para adecuarlos a la manera de aprendizaje que mejor se domi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7c9c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380880" y="380880"/>
            <a:ext cx="8610840" cy="6324840"/>
          </a:xfrm>
          <a:prstGeom prst="flowChartPunchedCard">
            <a:avLst/>
          </a:prstGeom>
          <a:gradFill rotWithShape="0">
            <a:gsLst>
              <a:gs pos="0">
                <a:srgbClr val="80808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04920" y="304920"/>
            <a:ext cx="8610480" cy="6324480"/>
          </a:xfrm>
          <a:prstGeom prst="flowChartPunchedCard">
            <a:avLst/>
          </a:prstGeom>
          <a:gradFill rotWithShape="0">
            <a:gsLst>
              <a:gs pos="0">
                <a:srgbClr val="eaeaea"/>
              </a:gs>
              <a:gs pos="50000">
                <a:srgbClr val="fefefe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143000" y="17524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etencia en autonomía e iniciativa pers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7086600" y="1295280"/>
            <a:ext cx="1600200" cy="1219320"/>
            <a:chOff x="7086600" y="1295280"/>
            <a:chExt cx="1600200" cy="1219320"/>
          </a:xfrm>
        </p:grpSpPr>
        <p:pic>
          <p:nvPicPr>
            <p:cNvPr id="673" name="" descr=""/>
            <p:cNvPicPr/>
            <p:nvPr/>
          </p:nvPicPr>
          <p:blipFill>
            <a:blip r:embed="rId1"/>
            <a:stretch/>
          </p:blipFill>
          <p:spPr>
            <a:xfrm>
              <a:off x="7162920" y="1295280"/>
              <a:ext cx="121896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"/>
            <p:cNvSpPr/>
            <p:nvPr/>
          </p:nvSpPr>
          <p:spPr>
            <a:xfrm>
              <a:off x="7086600" y="1295280"/>
              <a:ext cx="1600200" cy="121932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f9f9f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">
            <a:hlinkClick r:id="" action="ppaction://hlinkshowjump?jump=nextslide"/>
          </p:cNvPr>
          <p:cNvSpPr/>
          <p:nvPr/>
        </p:nvSpPr>
        <p:spPr>
          <a:xfrm>
            <a:off x="784872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10800"/>
                </a:moveTo>
                <a:lnTo>
                  <a:pt x="26797" y="3794"/>
                </a:lnTo>
                <a:lnTo>
                  <a:pt x="26797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>
            <a:hlinkClick r:id="" action="ppaction://hlinkshowjump?jump=firstslide"/>
          </p:cNvPr>
          <p:cNvSpPr/>
          <p:nvPr/>
        </p:nvSpPr>
        <p:spPr>
          <a:xfrm>
            <a:off x="457200" y="6095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7301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5456" y="5956"/>
                </a:lnTo>
                <a:lnTo>
                  <a:pt x="5456" y="19969"/>
                </a:lnTo>
                <a:lnTo>
                  <a:pt x="3794" y="19969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250920" y="152280"/>
            <a:ext cx="7237440" cy="1374840"/>
            <a:chOff x="250920" y="152280"/>
            <a:chExt cx="7237440" cy="1374840"/>
          </a:xfrm>
        </p:grpSpPr>
        <p:grpSp>
          <p:nvGrpSpPr>
            <p:cNvPr id="679" name=""/>
            <p:cNvGrpSpPr/>
            <p:nvPr/>
          </p:nvGrpSpPr>
          <p:grpSpPr>
            <a:xfrm>
              <a:off x="1263600" y="297000"/>
              <a:ext cx="6224760" cy="723600"/>
              <a:chOff x="1263600" y="297000"/>
              <a:chExt cx="6224760" cy="723600"/>
            </a:xfrm>
          </p:grpSpPr>
          <p:sp>
            <p:nvSpPr>
              <p:cNvPr id="680" name=""/>
              <p:cNvSpPr/>
              <p:nvPr/>
            </p:nvSpPr>
            <p:spPr>
              <a:xfrm>
                <a:off x="1263600" y="297000"/>
                <a:ext cx="6224760" cy="7236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efefe"/>
                  </a:gs>
                  <a:gs pos="100000">
                    <a:srgbClr val="808080"/>
                  </a:gs>
                </a:gsLst>
                <a:lin ang="81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335600" y="369360"/>
                <a:ext cx="6080040" cy="5785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 txBox="1"/>
              <p:nvPr/>
            </p:nvSpPr>
            <p:spPr>
              <a:xfrm>
                <a:off x="1552680" y="513720"/>
                <a:ext cx="5718240" cy="2894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   </a:t>
                </a: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CÓMO TRABAJAR LAS C. CLAVE EN EL AULA     </a:t>
                </a:r>
                <a:endPara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17819" dir="2700000" blurRad="0" rotWithShape="0">
                      <a:srgbClr val="001f1e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250920" y="152280"/>
              <a:ext cx="1195560" cy="1374840"/>
              <a:chOff x="250920" y="152280"/>
              <a:chExt cx="1195560" cy="1374840"/>
            </a:xfrm>
          </p:grpSpPr>
          <p:sp>
            <p:nvSpPr>
              <p:cNvPr id="684" name=""/>
              <p:cNvSpPr/>
              <p:nvPr/>
            </p:nvSpPr>
            <p:spPr>
              <a:xfrm>
                <a:off x="250920" y="152280"/>
                <a:ext cx="1195560" cy="1374840"/>
              </a:xfrm>
              <a:custGeom>
                <a:avLst/>
                <a:gdLst>
                  <a:gd name="textAreaLeft" fmla="*/ 0 w 1195560"/>
                  <a:gd name="textAreaRight" fmla="*/ 1195920 w 1195560"/>
                  <a:gd name="textAreaTop" fmla="*/ 0 h 1374840"/>
                  <a:gd name="textAreaBottom" fmla="*/ 1375200 h 1374840"/>
                </a:gdLst>
                <a:ahLst/>
                <a:rect l="textAreaLeft" t="textAreaTop" r="textAreaRight" b="textAreaBottom"/>
                <a:pathLst>
                  <a:path w="21600" h="24838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4838"/>
                    </a:lnTo>
                    <a:lnTo>
                      <a:pt x="0" y="24838"/>
                    </a:lnTo>
                    <a:close/>
                  </a:path>
                  <a:path fill="lightenLess" w="21600" h="24838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  <a:path fill="darken" w="21600" h="24838">
                    <a:moveTo>
                      <a:pt x="21600" y="0"/>
                    </a:moveTo>
                    <a:lnTo>
                      <a:pt x="21600" y="24838"/>
                    </a:lnTo>
                    <a:lnTo>
                      <a:pt x="21600" y="24838"/>
                    </a:lnTo>
                    <a:lnTo>
                      <a:pt x="21600" y="0"/>
                    </a:lnTo>
                    <a:close/>
                  </a:path>
                  <a:path fill="darkenLess" w="21600" h="24838">
                    <a:moveTo>
                      <a:pt x="21600" y="24838"/>
                    </a:moveTo>
                    <a:lnTo>
                      <a:pt x="0" y="24838"/>
                    </a:lnTo>
                    <a:lnTo>
                      <a:pt x="0" y="24838"/>
                    </a:lnTo>
                    <a:lnTo>
                      <a:pt x="21600" y="24838"/>
                    </a:lnTo>
                    <a:close/>
                  </a:path>
                  <a:path fill="lighten" w="21600" h="24838">
                    <a:moveTo>
                      <a:pt x="0" y="2483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48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85" name="" descr="Nombre de archivo: j0335776.wmf&#13;Palabras clave: artículo del hogar, llaves, llaves de casa ...&#13;Tamaño de archivo: 65 KB"/>
              <p:cNvPicPr/>
              <p:nvPr/>
            </p:nvPicPr>
            <p:blipFill>
              <a:blip r:embed="rId2"/>
              <a:stretch/>
            </p:blipFill>
            <p:spPr>
              <a:xfrm rot="6326400">
                <a:off x="395640" y="36936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86" name="" descr=""/>
            <p:cNvPicPr/>
            <p:nvPr/>
          </p:nvPicPr>
          <p:blipFill>
            <a:blip r:embed="rId3"/>
            <a:srcRect l="6576" t="0" r="1240" b="11321"/>
            <a:stretch/>
          </p:blipFill>
          <p:spPr>
            <a:xfrm>
              <a:off x="336600" y="152280"/>
              <a:ext cx="11336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7" name="" descr="Nombre de archivo: j0335776.wmf&#13;Palabras clave: artículo del hogar, llaves, llaves de casa ...&#13;Tamaño de archivo: 65 KB"/>
            <p:cNvPicPr/>
            <p:nvPr/>
          </p:nvPicPr>
          <p:blipFill>
            <a:blip r:embed="rId4"/>
            <a:stretch/>
          </p:blipFill>
          <p:spPr>
            <a:xfrm rot="8627400">
              <a:off x="707400" y="380880"/>
              <a:ext cx="685800" cy="68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8" name=""/>
          <p:cNvSpPr/>
          <p:nvPr/>
        </p:nvSpPr>
        <p:spPr>
          <a:xfrm>
            <a:off x="914400" y="3200400"/>
            <a:ext cx="7238880" cy="2514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6699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295280" y="2287080"/>
            <a:ext cx="678204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30000"/>
              </a:lnSpc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Expresión de los propios sentimi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Tomar decisions basadas en valores prop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Dirigir o liderar un grupo de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Dirigir una escena de una obra de tea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Preparar un campaña de apoyo a una causa cerc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Organizar y/o Coordinar eventos de juegos deportivos o un evento festivo (fiesta escolar, de la comunidad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Mediar en un supuesto confl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0283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Planificar un vi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SzPct val="10283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Planificar la presentaxción de un tema desconoc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7c9c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380880" y="380880"/>
            <a:ext cx="8610840" cy="6324840"/>
          </a:xfrm>
          <a:prstGeom prst="flowChartPunchedCard">
            <a:avLst/>
          </a:prstGeom>
          <a:gradFill rotWithShape="0">
            <a:gsLst>
              <a:gs pos="0">
                <a:srgbClr val="80808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04920" y="304920"/>
            <a:ext cx="8610480" cy="6324480"/>
          </a:xfrm>
          <a:prstGeom prst="flowChartPunchedCard">
            <a:avLst/>
          </a:prstGeom>
          <a:gradFill rotWithShape="0">
            <a:gsLst>
              <a:gs pos="0">
                <a:srgbClr val="eaeaea"/>
              </a:gs>
              <a:gs pos="50000">
                <a:srgbClr val="fefefe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>
            <a:hlinkClick r:id="" action="ppaction://hlinkshowjump?jump=nextslide"/>
          </p:cNvPr>
          <p:cNvSpPr/>
          <p:nvPr/>
        </p:nvSpPr>
        <p:spPr>
          <a:xfrm>
            <a:off x="784872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10800"/>
                </a:moveTo>
                <a:lnTo>
                  <a:pt x="26797" y="3794"/>
                </a:lnTo>
                <a:lnTo>
                  <a:pt x="26797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>
            <a:hlinkClick r:id="" action="ppaction://hlinkshowjump?jump=firstslide"/>
          </p:cNvPr>
          <p:cNvSpPr/>
          <p:nvPr/>
        </p:nvSpPr>
        <p:spPr>
          <a:xfrm>
            <a:off x="457200" y="6095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7301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5456" y="5956"/>
                </a:lnTo>
                <a:lnTo>
                  <a:pt x="5456" y="19969"/>
                </a:lnTo>
                <a:lnTo>
                  <a:pt x="3794" y="19969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210240" y="152280"/>
            <a:ext cx="7279560" cy="1374840"/>
            <a:chOff x="210240" y="152280"/>
            <a:chExt cx="7279560" cy="1374840"/>
          </a:xfrm>
        </p:grpSpPr>
        <p:grpSp>
          <p:nvGrpSpPr>
            <p:cNvPr id="696" name=""/>
            <p:cNvGrpSpPr/>
            <p:nvPr/>
          </p:nvGrpSpPr>
          <p:grpSpPr>
            <a:xfrm>
              <a:off x="1265040" y="297000"/>
              <a:ext cx="6224760" cy="723600"/>
              <a:chOff x="1265040" y="297000"/>
              <a:chExt cx="6224760" cy="723600"/>
            </a:xfrm>
          </p:grpSpPr>
          <p:sp>
            <p:nvSpPr>
              <p:cNvPr id="697" name=""/>
              <p:cNvSpPr/>
              <p:nvPr/>
            </p:nvSpPr>
            <p:spPr>
              <a:xfrm>
                <a:off x="1265040" y="297000"/>
                <a:ext cx="6224760" cy="7236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efefe"/>
                  </a:gs>
                  <a:gs pos="100000">
                    <a:srgbClr val="808080"/>
                  </a:gs>
                </a:gsLst>
                <a:lin ang="81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337040" y="369360"/>
                <a:ext cx="6080040" cy="5785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 txBox="1"/>
              <p:nvPr/>
            </p:nvSpPr>
            <p:spPr>
              <a:xfrm>
                <a:off x="1554120" y="513720"/>
                <a:ext cx="5718240" cy="2894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     </a:t>
                </a: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INTELIGENCIAS MÚLTIPLES      </a:t>
                </a:r>
                <a:endPara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17819" dir="2700000" blurRad="0" rotWithShape="0">
                      <a:srgbClr val="001f1e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700" name=""/>
            <p:cNvSpPr/>
            <p:nvPr/>
          </p:nvSpPr>
          <p:spPr>
            <a:xfrm>
              <a:off x="252360" y="152280"/>
              <a:ext cx="1195560" cy="1374840"/>
            </a:xfrm>
            <a:custGeom>
              <a:avLst/>
              <a:gdLst>
                <a:gd name="textAreaLeft" fmla="*/ 0 w 1195560"/>
                <a:gd name="textAreaRight" fmla="*/ 1195920 w 1195560"/>
                <a:gd name="textAreaTop" fmla="*/ 0 h 1374840"/>
                <a:gd name="textAreaBottom" fmla="*/ 1375200 h 1374840"/>
              </a:gdLst>
              <a:ahLst/>
              <a:rect l="textAreaLeft" t="textAreaTop" r="textAreaRight" b="textAreaBottom"/>
              <a:pathLst>
                <a:path w="21600" h="24838">
                  <a:moveTo>
                    <a:pt x="0" y="0"/>
                  </a:moveTo>
                  <a:lnTo>
                    <a:pt x="21600" y="0"/>
                  </a:lnTo>
                  <a:lnTo>
                    <a:pt x="21600" y="24838"/>
                  </a:lnTo>
                  <a:lnTo>
                    <a:pt x="0" y="24838"/>
                  </a:lnTo>
                  <a:close/>
                </a:path>
                <a:path fill="lightenLess" w="21600" h="24838">
                  <a:moveTo>
                    <a:pt x="0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  <a:path fill="darken" w="21600" h="24838">
                  <a:moveTo>
                    <a:pt x="21600" y="0"/>
                  </a:moveTo>
                  <a:lnTo>
                    <a:pt x="21600" y="24838"/>
                  </a:lnTo>
                  <a:lnTo>
                    <a:pt x="21600" y="24838"/>
                  </a:lnTo>
                  <a:lnTo>
                    <a:pt x="21600" y="0"/>
                  </a:lnTo>
                  <a:close/>
                </a:path>
                <a:path fill="darkenLess" w="21600" h="24838">
                  <a:moveTo>
                    <a:pt x="21600" y="24838"/>
                  </a:moveTo>
                  <a:lnTo>
                    <a:pt x="0" y="24838"/>
                  </a:lnTo>
                  <a:lnTo>
                    <a:pt x="0" y="24838"/>
                  </a:lnTo>
                  <a:lnTo>
                    <a:pt x="21600" y="24838"/>
                  </a:lnTo>
                  <a:close/>
                </a:path>
                <a:path fill="lighten" w="21600" h="24838">
                  <a:moveTo>
                    <a:pt x="0" y="2483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4838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dcdcdc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1" name=""/>
            <p:cNvGrpSpPr/>
            <p:nvPr/>
          </p:nvGrpSpPr>
          <p:grpSpPr>
            <a:xfrm>
              <a:off x="210240" y="226440"/>
              <a:ext cx="1303560" cy="1171800"/>
              <a:chOff x="210240" y="226440"/>
              <a:chExt cx="1303560" cy="1171800"/>
            </a:xfrm>
          </p:grpSpPr>
          <p:sp>
            <p:nvSpPr>
              <p:cNvPr id="702" name="_s56353"/>
              <p:cNvSpPr/>
              <p:nvPr/>
            </p:nvSpPr>
            <p:spPr>
              <a:xfrm>
                <a:off x="623880" y="393480"/>
                <a:ext cx="475920" cy="476280"/>
              </a:xfrm>
              <a:prstGeom prst="ellipse">
                <a:avLst/>
              </a:prstGeom>
              <a:solidFill>
                <a:srgbClr val="0399ff">
                  <a:alpha val="50000"/>
                </a:srgbClr>
              </a:solidFill>
              <a:ln w="9360">
                <a:solidFill>
                  <a:srgbClr val="4b595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_s56354"/>
              <p:cNvSpPr/>
              <p:nvPr/>
            </p:nvSpPr>
            <p:spPr>
              <a:xfrm>
                <a:off x="738360" y="226440"/>
                <a:ext cx="247320" cy="11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_s56359"/>
              <p:cNvSpPr/>
              <p:nvPr/>
            </p:nvSpPr>
            <p:spPr>
              <a:xfrm>
                <a:off x="780480" y="483840"/>
                <a:ext cx="476280" cy="476280"/>
              </a:xfrm>
              <a:prstGeom prst="ellipse">
                <a:avLst/>
              </a:prstGeom>
              <a:solidFill>
                <a:srgbClr val="f60802">
                  <a:alpha val="50000"/>
                </a:srgbClr>
              </a:solidFill>
              <a:ln w="9360">
                <a:solidFill>
                  <a:srgbClr val="f608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_s56360"/>
              <p:cNvSpPr/>
              <p:nvPr/>
            </p:nvSpPr>
            <p:spPr>
              <a:xfrm>
                <a:off x="1266480" y="460080"/>
                <a:ext cx="247320" cy="11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_s56361"/>
              <p:cNvSpPr/>
              <p:nvPr/>
            </p:nvSpPr>
            <p:spPr>
              <a:xfrm>
                <a:off x="780480" y="664560"/>
                <a:ext cx="476280" cy="476280"/>
              </a:xfrm>
              <a:prstGeom prst="ellipse">
                <a:avLst/>
              </a:prstGeom>
              <a:solidFill>
                <a:srgbClr val="f1fd09">
                  <a:alpha val="50000"/>
                </a:srgbClr>
              </a:solidFill>
              <a:ln w="9360">
                <a:solidFill>
                  <a:srgbClr val="f1fd0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_s56362"/>
              <p:cNvSpPr/>
              <p:nvPr/>
            </p:nvSpPr>
            <p:spPr>
              <a:xfrm>
                <a:off x="1266480" y="1046160"/>
                <a:ext cx="247320" cy="11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_s56363"/>
              <p:cNvSpPr/>
              <p:nvPr/>
            </p:nvSpPr>
            <p:spPr>
              <a:xfrm>
                <a:off x="623880" y="754920"/>
                <a:ext cx="475920" cy="476280"/>
              </a:xfrm>
              <a:prstGeom prst="ellipse">
                <a:avLst/>
              </a:prstGeom>
              <a:solidFill>
                <a:srgbClr val="01bd0a">
                  <a:alpha val="50000"/>
                </a:srgbClr>
              </a:solidFill>
              <a:ln w="9360">
                <a:solidFill>
                  <a:srgbClr val="01bd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_s56364"/>
              <p:cNvSpPr/>
              <p:nvPr/>
            </p:nvSpPr>
            <p:spPr>
              <a:xfrm>
                <a:off x="738360" y="1279440"/>
                <a:ext cx="247320" cy="11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_s56355"/>
              <p:cNvSpPr/>
              <p:nvPr/>
            </p:nvSpPr>
            <p:spPr>
              <a:xfrm>
                <a:off x="467280" y="664560"/>
                <a:ext cx="476280" cy="476280"/>
              </a:xfrm>
              <a:prstGeom prst="ellipse">
                <a:avLst/>
              </a:prstGeom>
              <a:solidFill>
                <a:srgbClr val="1a0fff">
                  <a:alpha val="50000"/>
                </a:srgbClr>
              </a:solidFill>
              <a:ln w="9360">
                <a:solidFill>
                  <a:srgbClr val="1a0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_s56356"/>
              <p:cNvSpPr/>
              <p:nvPr/>
            </p:nvSpPr>
            <p:spPr>
              <a:xfrm>
                <a:off x="210240" y="1046160"/>
                <a:ext cx="247320" cy="11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_s56357"/>
              <p:cNvSpPr/>
              <p:nvPr/>
            </p:nvSpPr>
            <p:spPr>
              <a:xfrm>
                <a:off x="467280" y="483840"/>
                <a:ext cx="476280" cy="476280"/>
              </a:xfrm>
              <a:prstGeom prst="ellipse">
                <a:avLst/>
              </a:prstGeom>
              <a:solidFill>
                <a:srgbClr val="ff00ff">
                  <a:alpha val="50000"/>
                </a:srgbClr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_s56358"/>
              <p:cNvSpPr/>
              <p:nvPr/>
            </p:nvSpPr>
            <p:spPr>
              <a:xfrm>
                <a:off x="210240" y="460080"/>
                <a:ext cx="247320" cy="11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4" name=""/>
          <p:cNvGrpSpPr/>
          <p:nvPr/>
        </p:nvGrpSpPr>
        <p:grpSpPr>
          <a:xfrm>
            <a:off x="807840" y="1415160"/>
            <a:ext cx="7528320" cy="4558680"/>
            <a:chOff x="807840" y="1415160"/>
            <a:chExt cx="7528320" cy="4558680"/>
          </a:xfrm>
        </p:grpSpPr>
        <p:sp>
          <p:nvSpPr>
            <p:cNvPr id="715" name="_s56386"/>
            <p:cNvSpPr/>
            <p:nvPr/>
          </p:nvSpPr>
          <p:spPr>
            <a:xfrm flipH="1" flipV="1">
              <a:off x="3242160" y="2888640"/>
              <a:ext cx="665640" cy="403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_s56385"/>
            <p:cNvSpPr/>
            <p:nvPr/>
          </p:nvSpPr>
          <p:spPr>
            <a:xfrm>
              <a:off x="1632600" y="1914840"/>
              <a:ext cx="1882440" cy="11401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TERPERS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_s56384"/>
            <p:cNvSpPr/>
            <p:nvPr/>
          </p:nvSpPr>
          <p:spPr>
            <a:xfrm flipH="1">
              <a:off x="2691720" y="3693960"/>
              <a:ext cx="9406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_s56383"/>
            <p:cNvSpPr/>
            <p:nvPr/>
          </p:nvSpPr>
          <p:spPr>
            <a:xfrm>
              <a:off x="807840" y="3125520"/>
              <a:ext cx="1881720" cy="11397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TRAPERS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_s56382"/>
            <p:cNvSpPr/>
            <p:nvPr/>
          </p:nvSpPr>
          <p:spPr>
            <a:xfrm flipH="1">
              <a:off x="3242160" y="4095360"/>
              <a:ext cx="665640" cy="403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_s56381"/>
            <p:cNvSpPr/>
            <p:nvPr/>
          </p:nvSpPr>
          <p:spPr>
            <a:xfrm>
              <a:off x="1635840" y="4333680"/>
              <a:ext cx="1881720" cy="11397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TURALIS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_s56380"/>
            <p:cNvSpPr/>
            <p:nvPr/>
          </p:nvSpPr>
          <p:spPr>
            <a:xfrm>
              <a:off x="4571640" y="4262040"/>
              <a:ext cx="0" cy="5698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_s56379"/>
            <p:cNvSpPr/>
            <p:nvPr/>
          </p:nvSpPr>
          <p:spPr>
            <a:xfrm>
              <a:off x="3633120" y="4834080"/>
              <a:ext cx="1882440" cy="11397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US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_s56378"/>
            <p:cNvSpPr/>
            <p:nvPr/>
          </p:nvSpPr>
          <p:spPr>
            <a:xfrm>
              <a:off x="5235120" y="4095360"/>
              <a:ext cx="665640" cy="403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_s56377"/>
            <p:cNvSpPr/>
            <p:nvPr/>
          </p:nvSpPr>
          <p:spPr>
            <a:xfrm>
              <a:off x="5628240" y="4332240"/>
              <a:ext cx="1882440" cy="113976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ISU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/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SPAC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_s56376"/>
            <p:cNvSpPr/>
            <p:nvPr/>
          </p:nvSpPr>
          <p:spPr>
            <a:xfrm>
              <a:off x="5510160" y="3693960"/>
              <a:ext cx="9406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_s56375"/>
            <p:cNvSpPr/>
            <p:nvPr/>
          </p:nvSpPr>
          <p:spPr>
            <a:xfrm>
              <a:off x="6453720" y="3123360"/>
              <a:ext cx="1882440" cy="114012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KINESTÉT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_s56374"/>
            <p:cNvSpPr/>
            <p:nvPr/>
          </p:nvSpPr>
          <p:spPr>
            <a:xfrm flipV="1">
              <a:off x="5235120" y="2888640"/>
              <a:ext cx="665640" cy="403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_s56373"/>
            <p:cNvSpPr/>
            <p:nvPr/>
          </p:nvSpPr>
          <p:spPr>
            <a:xfrm>
              <a:off x="5625720" y="1914840"/>
              <a:ext cx="1881720" cy="114012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ÓGICA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/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TEMÁT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_s56372"/>
            <p:cNvSpPr/>
            <p:nvPr/>
          </p:nvSpPr>
          <p:spPr>
            <a:xfrm flipV="1">
              <a:off x="4571640" y="2554920"/>
              <a:ext cx="0" cy="5698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_s56371"/>
            <p:cNvSpPr/>
            <p:nvPr/>
          </p:nvSpPr>
          <p:spPr>
            <a:xfrm>
              <a:off x="3630600" y="1415160"/>
              <a:ext cx="1881720" cy="113976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RBAL 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INGÜÍST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_s56370"/>
            <p:cNvSpPr/>
            <p:nvPr/>
          </p:nvSpPr>
          <p:spPr>
            <a:xfrm>
              <a:off x="3630600" y="3125520"/>
              <a:ext cx="1881720" cy="113976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Arial"/>
                </a:rPr>
                <a:t>INTELIGENCI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Arial"/>
                </a:rPr>
                <a:t>MÚLTIP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7c9c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380880" y="380880"/>
            <a:ext cx="8610840" cy="6324840"/>
          </a:xfrm>
          <a:prstGeom prst="flowChartPunchedCard">
            <a:avLst/>
          </a:prstGeom>
          <a:gradFill rotWithShape="0">
            <a:gsLst>
              <a:gs pos="0">
                <a:srgbClr val="80808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04920" y="304920"/>
            <a:ext cx="8610480" cy="6324480"/>
          </a:xfrm>
          <a:prstGeom prst="flowChartPunchedCard">
            <a:avLst/>
          </a:prstGeom>
          <a:gradFill rotWithShape="0">
            <a:gsLst>
              <a:gs pos="0">
                <a:srgbClr val="eaeaea"/>
              </a:gs>
              <a:gs pos="50000">
                <a:srgbClr val="fefefe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-9720" y="150840"/>
            <a:ext cx="8857800" cy="7267320"/>
            <a:chOff x="-9720" y="150840"/>
            <a:chExt cx="8857800" cy="7267320"/>
          </a:xfrm>
        </p:grpSpPr>
        <p:sp>
          <p:nvSpPr>
            <p:cNvPr id="735" name="_s57451"/>
            <p:cNvSpPr/>
            <p:nvPr/>
          </p:nvSpPr>
          <p:spPr>
            <a:xfrm>
              <a:off x="2943000" y="1184040"/>
              <a:ext cx="2952360" cy="2952720"/>
            </a:xfrm>
            <a:prstGeom prst="ellipse">
              <a:avLst/>
            </a:prstGeom>
            <a:solidFill>
              <a:srgbClr val="f9f67f">
                <a:alpha val="50000"/>
              </a:srgbClr>
            </a:soli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_s57452"/>
            <p:cNvSpPr/>
            <p:nvPr/>
          </p:nvSpPr>
          <p:spPr>
            <a:xfrm>
              <a:off x="3653640" y="150840"/>
              <a:ext cx="153360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_s57453"/>
            <p:cNvSpPr/>
            <p:nvPr/>
          </p:nvSpPr>
          <p:spPr>
            <a:xfrm>
              <a:off x="4066560" y="2308320"/>
              <a:ext cx="2952720" cy="295200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_s57454"/>
            <p:cNvSpPr/>
            <p:nvPr/>
          </p:nvSpPr>
          <p:spPr>
            <a:xfrm>
              <a:off x="7314480" y="3415320"/>
              <a:ext cx="1533600" cy="73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_s57455"/>
            <p:cNvSpPr/>
            <p:nvPr/>
          </p:nvSpPr>
          <p:spPr>
            <a:xfrm>
              <a:off x="2943000" y="3431520"/>
              <a:ext cx="2952360" cy="2952720"/>
            </a:xfrm>
            <a:prstGeom prst="ellipse">
              <a:avLst/>
            </a:prstGeom>
            <a:solidFill>
              <a:srgbClr val="ff9933">
                <a:alpha val="50000"/>
              </a:srgbClr>
            </a:soli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_s57456"/>
            <p:cNvSpPr/>
            <p:nvPr/>
          </p:nvSpPr>
          <p:spPr>
            <a:xfrm>
              <a:off x="3653640" y="6679800"/>
              <a:ext cx="153360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_s57457"/>
            <p:cNvSpPr/>
            <p:nvPr/>
          </p:nvSpPr>
          <p:spPr>
            <a:xfrm>
              <a:off x="1819080" y="2308320"/>
              <a:ext cx="2952720" cy="2952000"/>
            </a:xfrm>
            <a:prstGeom prst="ellipse">
              <a:avLst/>
            </a:prstGeom>
            <a:solidFill>
              <a:srgbClr val="ff6600">
                <a:alpha val="50000"/>
              </a:srgbClr>
            </a:solidFill>
            <a:ln w="936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_s57458"/>
            <p:cNvSpPr/>
            <p:nvPr/>
          </p:nvSpPr>
          <p:spPr>
            <a:xfrm>
              <a:off x="-9720" y="3415320"/>
              <a:ext cx="1533600" cy="73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208440" y="152280"/>
            <a:ext cx="7946640" cy="3353040"/>
            <a:chOff x="208440" y="152280"/>
            <a:chExt cx="7946640" cy="3353040"/>
          </a:xfrm>
        </p:grpSpPr>
        <p:sp>
          <p:nvSpPr>
            <p:cNvPr id="744" name=""/>
            <p:cNvSpPr txBox="1"/>
            <p:nvPr/>
          </p:nvSpPr>
          <p:spPr>
            <a:xfrm>
              <a:off x="6019920" y="2590920"/>
              <a:ext cx="2135160" cy="91440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ac0000"/>
                  </a:solidFill>
                  <a:latin typeface="Berlin Sans FB Demi"/>
                </a:rPr>
                <a:t> </a:t>
              </a:r>
              <a:endParaRPr b="0" lang="en-US" sz="1800" spc="1" strike="noStrike">
                <a:ln w="0">
                  <a:noFill/>
                </a:ln>
                <a:solidFill>
                  <a:srgbClr val="ac0000"/>
                </a:solidFill>
                <a:latin typeface="Berlin Sans FB Demi"/>
                <a:ea typeface="Berlin Sans FB Dem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1" strike="noStrike">
                <a:ln w="0">
                  <a:noFill/>
                </a:ln>
                <a:solidFill>
                  <a:srgbClr val="ac0000"/>
                </a:solidFill>
                <a:latin typeface="Berlin Sans FB Demi"/>
                <a:ea typeface="Berlin Sans FB Dem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ac0000"/>
                  </a:solidFill>
                  <a:latin typeface="Berlin Sans FB Demi"/>
                </a:rPr>
                <a:t>ASPECTOS DE LA TAREA</a:t>
              </a:r>
              <a:endParaRPr b="0" lang="en-US" sz="1800" spc="1" strike="noStrike">
                <a:ln w="0">
                  <a:noFill/>
                </a:ln>
                <a:solidFill>
                  <a:srgbClr val="ac0000"/>
                </a:solidFill>
                <a:latin typeface="Berlin Sans FB Demi"/>
                <a:ea typeface="Berlin Sans FB Dem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1" strike="noStrike">
                <a:ln w="0">
                  <a:noFill/>
                </a:ln>
                <a:solidFill>
                  <a:srgbClr val="ac0000"/>
                </a:solidFill>
                <a:latin typeface="Berlin Sans FB Demi"/>
                <a:ea typeface="Berlin Sans FB Demi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495680" y="1627200"/>
              <a:ext cx="3353040" cy="12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751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Berlin Sans FB Demi"/>
                </a:rPr>
                <a:t>SOCIAL Y CIUDADANA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751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Berlin Sans FB Demi"/>
                </a:rPr>
                <a:t>CULTURAL Y ARTÍSTIC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751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Berlin Sans FB Demi"/>
                </a:rPr>
                <a:t>APRENDER A APREN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751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Berlin Sans FB Demi"/>
                </a:rPr>
                <a:t>AUTONOMÍA E INICIATIVA PERS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6" name=""/>
            <p:cNvGrpSpPr/>
            <p:nvPr/>
          </p:nvGrpSpPr>
          <p:grpSpPr>
            <a:xfrm>
              <a:off x="208440" y="152280"/>
              <a:ext cx="7279560" cy="1374840"/>
              <a:chOff x="208440" y="152280"/>
              <a:chExt cx="7279560" cy="1374840"/>
            </a:xfrm>
          </p:grpSpPr>
          <p:grpSp>
            <p:nvGrpSpPr>
              <p:cNvPr id="747" name=""/>
              <p:cNvGrpSpPr/>
              <p:nvPr/>
            </p:nvGrpSpPr>
            <p:grpSpPr>
              <a:xfrm>
                <a:off x="1263240" y="297000"/>
                <a:ext cx="6224760" cy="723600"/>
                <a:chOff x="1263240" y="297000"/>
                <a:chExt cx="6224760" cy="723600"/>
              </a:xfrm>
            </p:grpSpPr>
            <p:sp>
              <p:nvSpPr>
                <p:cNvPr id="748" name=""/>
                <p:cNvSpPr/>
                <p:nvPr/>
              </p:nvSpPr>
              <p:spPr>
                <a:xfrm>
                  <a:off x="1263240" y="297000"/>
                  <a:ext cx="6224760" cy="723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50000">
                      <a:srgbClr val="fefefe"/>
                    </a:gs>
                    <a:gs pos="100000">
                      <a:srgbClr val="808080"/>
                    </a:gs>
                  </a:gsLst>
                  <a:lin ang="8100000"/>
                </a:gradFill>
                <a:ln w="2844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1335240" y="369360"/>
                  <a:ext cx="6080040" cy="578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dcdcdc"/>
                    </a:gs>
                    <a:gs pos="100000">
                      <a:srgbClr val="b2b2b2"/>
                    </a:gs>
                  </a:gsLst>
                  <a:lin ang="10800000"/>
                </a:gradFill>
                <a:ln w="2844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 txBox="1"/>
                <p:nvPr/>
              </p:nvSpPr>
              <p:spPr>
                <a:xfrm>
                  <a:off x="1552320" y="513720"/>
                  <a:ext cx="5718240" cy="289440"/>
                </a:xfrm>
                <a:prstGeom prst="rect">
                  <a:avLst/>
                </a:prstGeom>
              </p:spPr>
              <p:txBody>
                <a:bodyPr wrap="none" lIns="90000" rIns="90000" tIns="46800" bIns="46800" anchor="ctr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0">
                        <a:noFill/>
                      </a:ln>
                      <a:solidFill>
                        <a:srgbClr val="336699"/>
                      </a:solidFill>
                      <a:effectLst>
                        <a:outerShdw dist="17819" dir="2700000" blurRad="0" rotWithShape="0">
                          <a:srgbClr val="001f1e"/>
                        </a:outerShdw>
                      </a:effectLst>
                      <a:latin typeface="Times New Roman"/>
                    </a:rPr>
                    <a:t>     </a:t>
                  </a:r>
                  <a:r>
                    <a:rPr b="0" lang="en-US" sz="1800" spc="1" strike="noStrike">
                      <a:ln w="0">
                        <a:noFill/>
                      </a:ln>
                      <a:solidFill>
                        <a:srgbClr val="336699"/>
                      </a:solidFill>
                      <a:effectLst>
                        <a:outerShdw dist="17819" dir="2700000" blurRad="0" rotWithShape="0">
                          <a:srgbClr val="001f1e"/>
                        </a:outerShdw>
                      </a:effectLst>
                      <a:latin typeface="Times New Roman"/>
                    </a:rPr>
                    <a:t>INTELIGENCIAS MÚLTIPLES      </a:t>
                  </a:r>
                  <a:endPara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  <a:ea typeface="Times New Roman"/>
                  </a:endParaRPr>
                </a:p>
              </p:txBody>
            </p:sp>
          </p:grpSp>
          <p:sp>
            <p:nvSpPr>
              <p:cNvPr id="751" name=""/>
              <p:cNvSpPr/>
              <p:nvPr/>
            </p:nvSpPr>
            <p:spPr>
              <a:xfrm>
                <a:off x="250560" y="152280"/>
                <a:ext cx="1195560" cy="1374840"/>
              </a:xfrm>
              <a:custGeom>
                <a:avLst/>
                <a:gdLst>
                  <a:gd name="textAreaLeft" fmla="*/ 0 w 1195560"/>
                  <a:gd name="textAreaRight" fmla="*/ 1195920 w 1195560"/>
                  <a:gd name="textAreaTop" fmla="*/ 0 h 1374840"/>
                  <a:gd name="textAreaBottom" fmla="*/ 1375200 h 1374840"/>
                </a:gdLst>
                <a:ahLst/>
                <a:rect l="textAreaLeft" t="textAreaTop" r="textAreaRight" b="textAreaBottom"/>
                <a:pathLst>
                  <a:path w="21600" h="24838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4838"/>
                    </a:lnTo>
                    <a:lnTo>
                      <a:pt x="0" y="24838"/>
                    </a:lnTo>
                    <a:close/>
                  </a:path>
                  <a:path fill="lightenLess" w="21600" h="24838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  <a:path fill="darken" w="21600" h="24838">
                    <a:moveTo>
                      <a:pt x="21600" y="0"/>
                    </a:moveTo>
                    <a:lnTo>
                      <a:pt x="21600" y="24838"/>
                    </a:lnTo>
                    <a:lnTo>
                      <a:pt x="21600" y="24838"/>
                    </a:lnTo>
                    <a:lnTo>
                      <a:pt x="21600" y="0"/>
                    </a:lnTo>
                    <a:close/>
                  </a:path>
                  <a:path fill="darkenLess" w="21600" h="24838">
                    <a:moveTo>
                      <a:pt x="21600" y="24838"/>
                    </a:moveTo>
                    <a:lnTo>
                      <a:pt x="0" y="24838"/>
                    </a:lnTo>
                    <a:lnTo>
                      <a:pt x="0" y="24838"/>
                    </a:lnTo>
                    <a:lnTo>
                      <a:pt x="21600" y="24838"/>
                    </a:lnTo>
                    <a:close/>
                  </a:path>
                  <a:path fill="lighten" w="21600" h="24838">
                    <a:moveTo>
                      <a:pt x="0" y="2483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48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2" name=""/>
              <p:cNvGrpSpPr/>
              <p:nvPr/>
            </p:nvGrpSpPr>
            <p:grpSpPr>
              <a:xfrm>
                <a:off x="208440" y="226440"/>
                <a:ext cx="1303560" cy="1171800"/>
                <a:chOff x="208440" y="226440"/>
                <a:chExt cx="1303560" cy="1171800"/>
              </a:xfrm>
            </p:grpSpPr>
            <p:sp>
              <p:nvSpPr>
                <p:cNvPr id="753" name="_s57364"/>
                <p:cNvSpPr/>
                <p:nvPr/>
              </p:nvSpPr>
              <p:spPr>
                <a:xfrm>
                  <a:off x="622080" y="393480"/>
                  <a:ext cx="475920" cy="476280"/>
                </a:xfrm>
                <a:prstGeom prst="ellipse">
                  <a:avLst/>
                </a:prstGeom>
                <a:solidFill>
                  <a:srgbClr val="0399ff">
                    <a:alpha val="50000"/>
                  </a:srgbClr>
                </a:solidFill>
                <a:ln w="9360">
                  <a:solidFill>
                    <a:srgbClr val="4b595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_s57365"/>
                <p:cNvSpPr/>
                <p:nvPr/>
              </p:nvSpPr>
              <p:spPr>
                <a:xfrm>
                  <a:off x="736560" y="226440"/>
                  <a:ext cx="247320" cy="11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_s57366"/>
                <p:cNvSpPr/>
                <p:nvPr/>
              </p:nvSpPr>
              <p:spPr>
                <a:xfrm>
                  <a:off x="778680" y="483840"/>
                  <a:ext cx="476280" cy="476280"/>
                </a:xfrm>
                <a:prstGeom prst="ellipse">
                  <a:avLst/>
                </a:prstGeom>
                <a:solidFill>
                  <a:srgbClr val="f60802">
                    <a:alpha val="50000"/>
                  </a:srgbClr>
                </a:solidFill>
                <a:ln w="9360">
                  <a:solidFill>
                    <a:srgbClr val="f6080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_s57367"/>
                <p:cNvSpPr/>
                <p:nvPr/>
              </p:nvSpPr>
              <p:spPr>
                <a:xfrm>
                  <a:off x="1264680" y="460080"/>
                  <a:ext cx="247320" cy="11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_s57368"/>
                <p:cNvSpPr/>
                <p:nvPr/>
              </p:nvSpPr>
              <p:spPr>
                <a:xfrm>
                  <a:off x="778680" y="664560"/>
                  <a:ext cx="476280" cy="476280"/>
                </a:xfrm>
                <a:prstGeom prst="ellipse">
                  <a:avLst/>
                </a:prstGeom>
                <a:solidFill>
                  <a:srgbClr val="f1fd09">
                    <a:alpha val="50000"/>
                  </a:srgbClr>
                </a:solidFill>
                <a:ln w="9360">
                  <a:solidFill>
                    <a:srgbClr val="f1fd0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_s57369"/>
                <p:cNvSpPr/>
                <p:nvPr/>
              </p:nvSpPr>
              <p:spPr>
                <a:xfrm>
                  <a:off x="1264680" y="1046160"/>
                  <a:ext cx="247320" cy="11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_s57370"/>
                <p:cNvSpPr/>
                <p:nvPr/>
              </p:nvSpPr>
              <p:spPr>
                <a:xfrm>
                  <a:off x="622080" y="754920"/>
                  <a:ext cx="475920" cy="476280"/>
                </a:xfrm>
                <a:prstGeom prst="ellipse">
                  <a:avLst/>
                </a:prstGeom>
                <a:solidFill>
                  <a:srgbClr val="01bd0a">
                    <a:alpha val="50000"/>
                  </a:srgbClr>
                </a:solidFill>
                <a:ln w="9360">
                  <a:solidFill>
                    <a:srgbClr val="01bd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_s57371"/>
                <p:cNvSpPr/>
                <p:nvPr/>
              </p:nvSpPr>
              <p:spPr>
                <a:xfrm>
                  <a:off x="736560" y="1279440"/>
                  <a:ext cx="247320" cy="11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_s57372"/>
                <p:cNvSpPr/>
                <p:nvPr/>
              </p:nvSpPr>
              <p:spPr>
                <a:xfrm>
                  <a:off x="465480" y="664560"/>
                  <a:ext cx="476280" cy="476280"/>
                </a:xfrm>
                <a:prstGeom prst="ellipse">
                  <a:avLst/>
                </a:prstGeom>
                <a:solidFill>
                  <a:srgbClr val="1a0fff">
                    <a:alpha val="50000"/>
                  </a:srgbClr>
                </a:solidFill>
                <a:ln w="9360">
                  <a:solidFill>
                    <a:srgbClr val="1a0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_s57373"/>
                <p:cNvSpPr/>
                <p:nvPr/>
              </p:nvSpPr>
              <p:spPr>
                <a:xfrm>
                  <a:off x="208440" y="1046160"/>
                  <a:ext cx="247320" cy="11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_s57374"/>
                <p:cNvSpPr/>
                <p:nvPr/>
              </p:nvSpPr>
              <p:spPr>
                <a:xfrm>
                  <a:off x="465480" y="483840"/>
                  <a:ext cx="476280" cy="476280"/>
                </a:xfrm>
                <a:prstGeom prst="ellipse">
                  <a:avLst/>
                </a:prstGeom>
                <a:solidFill>
                  <a:srgbClr val="ff00ff">
                    <a:alpha val="50000"/>
                  </a:srgbClr>
                </a:solidFill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_s57375"/>
                <p:cNvSpPr/>
                <p:nvPr/>
              </p:nvSpPr>
              <p:spPr>
                <a:xfrm>
                  <a:off x="208440" y="460080"/>
                  <a:ext cx="247320" cy="11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65" name=""/>
          <p:cNvSpPr txBox="1"/>
          <p:nvPr/>
        </p:nvSpPr>
        <p:spPr>
          <a:xfrm>
            <a:off x="3645000" y="3581280"/>
            <a:ext cx="1612800" cy="4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TAREA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66" name="_s1029"/>
          <p:cNvSpPr/>
          <p:nvPr/>
        </p:nvSpPr>
        <p:spPr>
          <a:xfrm>
            <a:off x="3889440" y="5014800"/>
            <a:ext cx="144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3657600" y="4114800"/>
            <a:ext cx="1465200" cy="9129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ac0000"/>
                </a:solidFill>
                <a:latin typeface="Berlin Sans FB Demi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ac0000"/>
              </a:solidFill>
              <a:latin typeface="Berlin Sans FB Demi"/>
              <a:ea typeface="Berlin Sans FB Dem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ac0000"/>
              </a:solidFill>
              <a:latin typeface="Berlin Sans FB Demi"/>
              <a:ea typeface="Berlin Sans FB Dem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ac0000"/>
                </a:solidFill>
                <a:latin typeface="Berlin Sans FB Demi"/>
              </a:rPr>
              <a:t>INTELIGENCIAS</a:t>
            </a:r>
            <a:endParaRPr b="0" lang="en-US" sz="1800" spc="1" strike="noStrike">
              <a:ln w="0">
                <a:noFill/>
              </a:ln>
              <a:solidFill>
                <a:srgbClr val="ac0000"/>
              </a:solidFill>
              <a:latin typeface="Berlin Sans FB Demi"/>
              <a:ea typeface="Berlin Sans FB Dem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ac0000"/>
                </a:solidFill>
                <a:latin typeface="Berlin Sans FB Demi"/>
              </a:rPr>
              <a:t>MÚLTIPLES</a:t>
            </a:r>
            <a:endParaRPr b="0" lang="en-US" sz="1800" spc="1" strike="noStrike">
              <a:ln w="0">
                <a:noFill/>
              </a:ln>
              <a:solidFill>
                <a:srgbClr val="ac0000"/>
              </a:solidFill>
              <a:latin typeface="Berlin Sans FB Demi"/>
              <a:ea typeface="Berlin Sans FB Dem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ac0000"/>
              </a:solidFill>
              <a:latin typeface="Berlin Sans FB Demi"/>
              <a:ea typeface="Berlin Sans FB Demi"/>
            </a:endParaRPr>
          </a:p>
        </p:txBody>
      </p:sp>
      <p:sp>
        <p:nvSpPr>
          <p:cNvPr id="768" name=""/>
          <p:cNvSpPr/>
          <p:nvPr/>
        </p:nvSpPr>
        <p:spPr>
          <a:xfrm>
            <a:off x="4648320" y="4876920"/>
            <a:ext cx="252864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Berlin Sans FB Demi"/>
              </a:rPr>
              <a:t>MUS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Berlin Sans FB Demi"/>
              </a:rPr>
              <a:t>NATURALI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Berlin Sans FB Demi"/>
              </a:rPr>
              <a:t>INTRAPERS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Berlin Sans FB Demi"/>
              </a:rPr>
              <a:t>INTERPERS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752480" y="4876920"/>
            <a:ext cx="257040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Berlin Sans FB Demi"/>
              </a:rPr>
              <a:t>VERBAL / LINGÜÍS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Berlin Sans FB Demi"/>
              </a:rPr>
              <a:t>LÓGICO / MATEMÁ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Berlin Sans FB Demi"/>
              </a:rPr>
              <a:t>KINESTÉ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Berlin Sans FB Demi"/>
              </a:rPr>
              <a:t>VISUAL / ESPA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09480" y="1600200"/>
            <a:ext cx="3484800" cy="14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Berlin Sans FB Demi"/>
              </a:rPr>
              <a:t>LINGÜÍS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Berlin Sans FB Demi"/>
              </a:rPr>
              <a:t>MATEMÁ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Berlin Sans FB Demi"/>
              </a:rPr>
              <a:t>INTERACCIÓN CON EL MUNDO FÍS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Berlin Sans FB Demi"/>
              </a:rPr>
              <a:t>TRATAMIENTO DE LA INFORMACIÓN Y C. DIG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3733920" y="914400"/>
            <a:ext cx="1465200" cy="9129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ac0000"/>
                </a:solidFill>
                <a:latin typeface="Berlin Sans FB Demi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ac0000"/>
              </a:solidFill>
              <a:latin typeface="Berlin Sans FB Demi"/>
              <a:ea typeface="Berlin Sans FB Dem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ac0000"/>
              </a:solidFill>
              <a:latin typeface="Berlin Sans FB Demi"/>
              <a:ea typeface="Berlin Sans FB Dem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ac0000"/>
                </a:solidFill>
                <a:latin typeface="Berlin Sans FB Demi"/>
              </a:rPr>
              <a:t>COMPETENCIAS</a:t>
            </a:r>
            <a:endParaRPr b="0" lang="en-US" sz="1800" spc="1" strike="noStrike">
              <a:ln w="0">
                <a:noFill/>
              </a:ln>
              <a:solidFill>
                <a:srgbClr val="ac0000"/>
              </a:solidFill>
              <a:latin typeface="Berlin Sans FB Demi"/>
              <a:ea typeface="Berlin Sans FB Dem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ac0000"/>
              </a:solidFill>
              <a:latin typeface="Berlin Sans FB Demi"/>
              <a:ea typeface="Berlin Sans FB Demi"/>
            </a:endParaRPr>
          </a:p>
        </p:txBody>
      </p:sp>
      <p:sp>
        <p:nvSpPr>
          <p:cNvPr id="772" name=""/>
          <p:cNvSpPr/>
          <p:nvPr/>
        </p:nvSpPr>
        <p:spPr>
          <a:xfrm>
            <a:off x="4724280" y="3276720"/>
            <a:ext cx="411480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6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Berlin Sans FB Demi"/>
                <a:ea typeface="Arial"/>
              </a:rPr>
              <a:t>PRIORIDAD DE LO O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6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Berlin Sans FB Demi"/>
                <a:ea typeface="Arial"/>
              </a:rPr>
              <a:t>ASPECTOS  SOCIALES,  CULTUR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Berlin Sans FB Demi"/>
                <a:ea typeface="Arial"/>
              </a:rPr>
              <a:t>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Berlin Sans FB Demi"/>
                <a:ea typeface="Arial"/>
              </a:rPr>
              <a:t>TAREAS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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Berlin Sans FB Demi"/>
                <a:ea typeface="Arial"/>
              </a:rPr>
              <a:t>  ACTIVIDADES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Berlin Sans FB Demi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447920" y="3124080"/>
            <a:ext cx="1544400" cy="12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Berlin Sans FB Demi"/>
              </a:rPr>
              <a:t>PRE-T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Berlin Sans FB Demi"/>
              </a:rPr>
              <a:t>CICLO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Berlin Sans FB"/>
              </a:rPr>
              <a:t>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Berlin Sans FB Demi"/>
              </a:rPr>
              <a:t>DE T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Berlin Sans FB Demi"/>
              </a:rPr>
              <a:t>POST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Berlin Sans FB Demi"/>
              </a:rPr>
              <a:t>EVALU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914400" y="2590920"/>
            <a:ext cx="1770120" cy="9126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ac0000"/>
                </a:solidFill>
                <a:latin typeface="Berlin Sans FB Demi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ac0000"/>
              </a:solidFill>
              <a:latin typeface="Berlin Sans FB Demi"/>
              <a:ea typeface="Berlin Sans FB Dem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ac0000"/>
              </a:solidFill>
              <a:latin typeface="Berlin Sans FB Demi"/>
              <a:ea typeface="Berlin Sans FB Dem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ac0000"/>
                </a:solidFill>
                <a:latin typeface="Berlin Sans FB Demi"/>
              </a:rPr>
              <a:t>FASES DE LA TAREA</a:t>
            </a:r>
            <a:endParaRPr b="0" lang="en-US" sz="1800" spc="1" strike="noStrike">
              <a:ln w="0">
                <a:noFill/>
              </a:ln>
              <a:solidFill>
                <a:srgbClr val="ac0000"/>
              </a:solidFill>
              <a:latin typeface="Berlin Sans FB Demi"/>
              <a:ea typeface="Berlin Sans FB Dem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ac0000"/>
              </a:solidFill>
              <a:latin typeface="Berlin Sans FB Demi"/>
              <a:ea typeface="Berlin Sans FB Demi"/>
            </a:endParaRPr>
          </a:p>
        </p:txBody>
      </p:sp>
      <p:sp>
        <p:nvSpPr>
          <p:cNvPr id="775" name="">
            <a:hlinkClick r:id="" action="ppaction://hlinkshowjump?jump=nextslide"/>
          </p:cNvPr>
          <p:cNvSpPr/>
          <p:nvPr/>
        </p:nvSpPr>
        <p:spPr>
          <a:xfrm>
            <a:off x="784872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10800"/>
                </a:moveTo>
                <a:lnTo>
                  <a:pt x="26797" y="3794"/>
                </a:lnTo>
                <a:lnTo>
                  <a:pt x="26797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>
            <a:hlinkClick r:id="" action="ppaction://hlinkshowjump?jump=firstslide"/>
          </p:cNvPr>
          <p:cNvSpPr/>
          <p:nvPr/>
        </p:nvSpPr>
        <p:spPr>
          <a:xfrm>
            <a:off x="457200" y="6095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7301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5456" y="5956"/>
                </a:lnTo>
                <a:lnTo>
                  <a:pt x="5456" y="19969"/>
                </a:lnTo>
                <a:lnTo>
                  <a:pt x="3794" y="19969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7162920" y="6095880"/>
            <a:ext cx="533160" cy="484920"/>
            <a:chOff x="7162920" y="6095880"/>
            <a:chExt cx="533160" cy="484920"/>
          </a:xfrm>
        </p:grpSpPr>
        <p:grpSp>
          <p:nvGrpSpPr>
            <p:cNvPr id="779" name=""/>
            <p:cNvGrpSpPr/>
            <p:nvPr/>
          </p:nvGrpSpPr>
          <p:grpSpPr>
            <a:xfrm>
              <a:off x="7162920" y="6095880"/>
              <a:ext cx="533160" cy="484920"/>
              <a:chOff x="7162920" y="6095880"/>
              <a:chExt cx="533160" cy="484920"/>
            </a:xfrm>
          </p:grpSpPr>
          <p:sp>
            <p:nvSpPr>
              <p:cNvPr id="780" name=""/>
              <p:cNvSpPr/>
              <p:nvPr/>
            </p:nvSpPr>
            <p:spPr>
              <a:xfrm>
                <a:off x="7162920" y="6095880"/>
                <a:ext cx="533160" cy="457200"/>
              </a:xfrm>
              <a:prstGeom prst="bevel">
                <a:avLst>
                  <a:gd name="adj" fmla="val 6250"/>
                </a:avLst>
              </a:prstGeom>
              <a:gradFill rotWithShape="0">
                <a:gsLst>
                  <a:gs pos="0">
                    <a:srgbClr val="f3cbcb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7819" dir="2700000" blurRad="0" rotWithShape="0">
                  <a:srgbClr val="7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rot="2680800">
                <a:off x="7281720" y="6165360"/>
                <a:ext cx="337680" cy="346320"/>
              </a:xfrm>
              <a:prstGeom prst="plus">
                <a:avLst>
                  <a:gd name="adj" fmla="val 40278"/>
                </a:avLst>
              </a:prstGeom>
              <a:gradFill rotWithShape="0">
                <a:gsLst>
                  <a:gs pos="0">
                    <a:srgbClr val="f9f9f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7819" dir="2700000" blurRad="0" rotWithShape="0">
                  <a:srgbClr val="9898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2" name="">
              <a:hlinkClick r:id="" action="ppaction://hlinkshowjump?jump=endshow"/>
            </p:cNvPr>
            <p:cNvSpPr/>
            <p:nvPr/>
          </p:nvSpPr>
          <p:spPr>
            <a:xfrm>
              <a:off x="7162920" y="6095880"/>
              <a:ext cx="533160" cy="4572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6274"/>
                  </a:srgbClr>
                </a:gs>
                <a:gs pos="50000">
                  <a:srgbClr val="fefefe">
                    <a:alpha val="6274"/>
                  </a:srgbClr>
                </a:gs>
                <a:gs pos="100000">
                  <a:srgbClr val="ffffff">
                    <a:alpha val="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7c9c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0880" y="380880"/>
            <a:ext cx="8610840" cy="6324840"/>
          </a:xfrm>
          <a:prstGeom prst="flowChartPunchedCard">
            <a:avLst/>
          </a:prstGeom>
          <a:gradFill rotWithShape="0">
            <a:gsLst>
              <a:gs pos="0">
                <a:srgbClr val="80808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304920"/>
            <a:ext cx="8610480" cy="6324480"/>
          </a:xfrm>
          <a:prstGeom prst="flowChartPunchedCard">
            <a:avLst/>
          </a:prstGeom>
          <a:gradFill rotWithShape="0">
            <a:gsLst>
              <a:gs pos="0">
                <a:srgbClr val="eaeaea"/>
              </a:gs>
              <a:gs pos="50000">
                <a:srgbClr val="fefefe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2284920" y="3428640"/>
            <a:ext cx="3088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304920"/>
            <a:ext cx="8534520" cy="1224000"/>
          </a:xfrm>
          <a:prstGeom prst="rect">
            <a:avLst/>
          </a:prstGeom>
          <a:gradFill rotWithShape="0">
            <a:gsLst>
              <a:gs pos="0">
                <a:srgbClr val="009db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050920" y="692280"/>
            <a:ext cx="57214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1c1c1c"/>
                </a:solidFill>
                <a:latin typeface="Arial"/>
              </a:rPr>
              <a:t>MCE (Marco común europeo) 2002</a:t>
            </a:r>
            <a:endParaRPr b="1" lang="en-US" sz="1800" spc="1" strike="noStrike">
              <a:ln w="0">
                <a:noFill/>
              </a:ln>
              <a:solidFill>
                <a:srgbClr val="1c1c1c"/>
              </a:solidFill>
              <a:latin typeface="Arial"/>
              <a:ea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80960" y="1219320"/>
            <a:ext cx="8282160" cy="5402160"/>
            <a:chOff x="480960" y="1219320"/>
            <a:chExt cx="8282160" cy="5402160"/>
          </a:xfrm>
        </p:grpSpPr>
        <p:sp>
          <p:nvSpPr>
            <p:cNvPr id="138" name=""/>
            <p:cNvSpPr/>
            <p:nvPr/>
          </p:nvSpPr>
          <p:spPr>
            <a:xfrm>
              <a:off x="7105680" y="1219320"/>
              <a:ext cx="757080" cy="1154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db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60960" y="1222200"/>
              <a:ext cx="757080" cy="4608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db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72960" y="1219320"/>
              <a:ext cx="757440" cy="1154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db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480960" y="1743120"/>
              <a:ext cx="8282160" cy="991800"/>
              <a:chOff x="480960" y="1743120"/>
              <a:chExt cx="8282160" cy="991800"/>
            </a:xfrm>
          </p:grpSpPr>
          <p:sp>
            <p:nvSpPr>
              <p:cNvPr id="142" name=""/>
              <p:cNvSpPr/>
              <p:nvPr/>
            </p:nvSpPr>
            <p:spPr>
              <a:xfrm>
                <a:off x="480960" y="1743120"/>
                <a:ext cx="2521080" cy="936720"/>
              </a:xfrm>
              <a:prstGeom prst="rect">
                <a:avLst/>
              </a:prstGeom>
              <a:gradFill rotWithShape="0">
                <a:gsLst>
                  <a:gs pos="0">
                    <a:srgbClr val="009db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25320" y="1816200"/>
                <a:ext cx="21592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4846"/>
                    </a:solidFill>
                    <a:latin typeface="Arial"/>
                  </a:rPr>
                  <a:t>Niveles de referencia A1, A2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362400" y="1744920"/>
                <a:ext cx="2520720" cy="936360"/>
              </a:xfrm>
              <a:prstGeom prst="rect">
                <a:avLst/>
              </a:prstGeom>
              <a:gradFill rotWithShape="0">
                <a:gsLst>
                  <a:gs pos="0">
                    <a:srgbClr val="009db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433680" y="1818000"/>
                <a:ext cx="23036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nseñanzas orientadas a la acció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242040" y="1743120"/>
                <a:ext cx="2521080" cy="936720"/>
              </a:xfrm>
              <a:prstGeom prst="rect">
                <a:avLst/>
              </a:prstGeom>
              <a:gradFill rotWithShape="0">
                <a:gsLst>
                  <a:gs pos="0">
                    <a:srgbClr val="009db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313320" y="1893960"/>
                <a:ext cx="2376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4846"/>
                    </a:solidFill>
                    <a:latin typeface="Arial"/>
                  </a:rPr>
                  <a:t>Portfolio europeo de las lengu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3362400" y="4389480"/>
              <a:ext cx="2520720" cy="936720"/>
            </a:xfrm>
            <a:prstGeom prst="rect">
              <a:avLst/>
            </a:prstGeom>
            <a:gradFill rotWithShape="0">
              <a:gsLst>
                <a:gs pos="0">
                  <a:srgbClr val="009db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44960" y="4741920"/>
              <a:ext cx="302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AREAS O PROYEC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62400" y="5684760"/>
              <a:ext cx="2520720" cy="936720"/>
            </a:xfrm>
            <a:prstGeom prst="rect">
              <a:avLst/>
            </a:prstGeom>
            <a:gradFill rotWithShape="0">
              <a:gsLst>
                <a:gs pos="0">
                  <a:srgbClr val="009db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73320" y="6037200"/>
              <a:ext cx="309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VALU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62400" y="3094200"/>
              <a:ext cx="2520720" cy="936360"/>
            </a:xfrm>
            <a:prstGeom prst="rect">
              <a:avLst/>
            </a:prstGeom>
            <a:gradFill rotWithShape="0">
              <a:gsLst>
                <a:gs pos="0">
                  <a:srgbClr val="009db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73320" y="3376440"/>
              <a:ext cx="309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MPETENCI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252360" y="152280"/>
            <a:ext cx="1195560" cy="1374840"/>
            <a:chOff x="252360" y="152280"/>
            <a:chExt cx="1195560" cy="1374840"/>
          </a:xfrm>
        </p:grpSpPr>
        <p:sp>
          <p:nvSpPr>
            <p:cNvPr id="155" name="">
              <a:hlinkClick r:id="" action="ppaction://hlinkshowjump?jump=nextslide"/>
            </p:cNvPr>
            <p:cNvSpPr/>
            <p:nvPr/>
          </p:nvSpPr>
          <p:spPr>
            <a:xfrm>
              <a:off x="252360" y="152280"/>
              <a:ext cx="1195560" cy="1374840"/>
            </a:xfrm>
            <a:custGeom>
              <a:avLst/>
              <a:gdLst>
                <a:gd name="textAreaLeft" fmla="*/ 0 w 1195560"/>
                <a:gd name="textAreaRight" fmla="*/ 1195920 w 1195560"/>
                <a:gd name="textAreaTop" fmla="*/ 0 h 1374840"/>
                <a:gd name="textAreaBottom" fmla="*/ 1375200 h 1374840"/>
              </a:gdLst>
              <a:ahLst/>
              <a:rect l="textAreaLeft" t="textAreaTop" r="textAreaRight" b="textAreaBottom"/>
              <a:pathLst>
                <a:path w="21600" h="24838">
                  <a:moveTo>
                    <a:pt x="0" y="0"/>
                  </a:moveTo>
                  <a:lnTo>
                    <a:pt x="21600" y="0"/>
                  </a:lnTo>
                  <a:lnTo>
                    <a:pt x="21600" y="24838"/>
                  </a:lnTo>
                  <a:lnTo>
                    <a:pt x="0" y="24838"/>
                  </a:lnTo>
                  <a:close/>
                </a:path>
                <a:path fill="lightenLess" w="21600" h="24838">
                  <a:moveTo>
                    <a:pt x="0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  <a:path fill="darken" w="21600" h="24838">
                  <a:moveTo>
                    <a:pt x="21600" y="0"/>
                  </a:moveTo>
                  <a:lnTo>
                    <a:pt x="21600" y="24838"/>
                  </a:lnTo>
                  <a:lnTo>
                    <a:pt x="21600" y="24838"/>
                  </a:lnTo>
                  <a:lnTo>
                    <a:pt x="21600" y="0"/>
                  </a:lnTo>
                  <a:close/>
                </a:path>
                <a:path fill="darkenLess" w="21600" h="24838">
                  <a:moveTo>
                    <a:pt x="21600" y="24838"/>
                  </a:moveTo>
                  <a:lnTo>
                    <a:pt x="0" y="24838"/>
                  </a:lnTo>
                  <a:lnTo>
                    <a:pt x="0" y="24838"/>
                  </a:lnTo>
                  <a:lnTo>
                    <a:pt x="21600" y="24838"/>
                  </a:lnTo>
                  <a:close/>
                </a:path>
                <a:path fill="lighten" w="21600" h="24838">
                  <a:moveTo>
                    <a:pt x="0" y="2483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4838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dcdcdc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" descr=""/>
            <p:cNvPicPr/>
            <p:nvPr/>
          </p:nvPicPr>
          <p:blipFill>
            <a:blip r:embed="rId1">
              <a:lum contrast="18000"/>
            </a:blip>
            <a:stretch/>
          </p:blipFill>
          <p:spPr>
            <a:xfrm>
              <a:off x="397080" y="369000"/>
              <a:ext cx="932760" cy="92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"/>
          <p:cNvSpPr/>
          <p:nvPr/>
        </p:nvSpPr>
        <p:spPr>
          <a:xfrm>
            <a:off x="2495520" y="-765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" action="ppaction://hlinkshowjump?jump=nextslide"/>
          </p:cNvPr>
          <p:cNvSpPr/>
          <p:nvPr/>
        </p:nvSpPr>
        <p:spPr>
          <a:xfrm>
            <a:off x="784872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10800"/>
                </a:moveTo>
                <a:lnTo>
                  <a:pt x="26797" y="3794"/>
                </a:lnTo>
                <a:lnTo>
                  <a:pt x="26797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457200" y="6095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7301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5456" y="5956"/>
                </a:lnTo>
                <a:lnTo>
                  <a:pt x="5456" y="19969"/>
                </a:lnTo>
                <a:lnTo>
                  <a:pt x="3794" y="19969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7c9c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0880" y="380880"/>
            <a:ext cx="8610840" cy="6324840"/>
          </a:xfrm>
          <a:prstGeom prst="flowChartPunchedCard">
            <a:avLst/>
          </a:prstGeom>
          <a:gradFill rotWithShape="0">
            <a:gsLst>
              <a:gs pos="0">
                <a:srgbClr val="80808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304920"/>
            <a:ext cx="8610480" cy="6324480"/>
          </a:xfrm>
          <a:prstGeom prst="flowChartPunchedCard">
            <a:avLst/>
          </a:prstGeom>
          <a:gradFill rotWithShape="0">
            <a:gsLst>
              <a:gs pos="0">
                <a:srgbClr val="eaeaea"/>
              </a:gs>
              <a:gs pos="50000">
                <a:srgbClr val="fefefe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676520"/>
            <a:ext cx="7848720" cy="5331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64960" y="152280"/>
            <a:ext cx="6694200" cy="1374840"/>
            <a:chOff x="264960" y="152280"/>
            <a:chExt cx="6694200" cy="1374840"/>
          </a:xfrm>
        </p:grpSpPr>
        <p:grpSp>
          <p:nvGrpSpPr>
            <p:cNvPr id="165" name=""/>
            <p:cNvGrpSpPr/>
            <p:nvPr/>
          </p:nvGrpSpPr>
          <p:grpSpPr>
            <a:xfrm>
              <a:off x="736920" y="297000"/>
              <a:ext cx="6222240" cy="723240"/>
              <a:chOff x="736920" y="297000"/>
              <a:chExt cx="6222240" cy="723240"/>
            </a:xfrm>
          </p:grpSpPr>
          <p:sp>
            <p:nvSpPr>
              <p:cNvPr id="166" name=""/>
              <p:cNvSpPr/>
              <p:nvPr/>
            </p:nvSpPr>
            <p:spPr>
              <a:xfrm>
                <a:off x="736920" y="297000"/>
                <a:ext cx="6222240" cy="7232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efefe"/>
                  </a:gs>
                  <a:gs pos="100000">
                    <a:srgbClr val="808080"/>
                  </a:gs>
                </a:gsLst>
                <a:lin ang="81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08920" y="369360"/>
                <a:ext cx="6077520" cy="57816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 txBox="1"/>
              <p:nvPr/>
            </p:nvSpPr>
            <p:spPr>
              <a:xfrm>
                <a:off x="2111400" y="441360"/>
                <a:ext cx="3798360" cy="36180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       </a:t>
                </a: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DEFINICIÓN       </a:t>
                </a:r>
                <a:endPara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17819" dir="2700000" blurRad="0" rotWithShape="0">
                      <a:srgbClr val="001f1e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264960" y="152280"/>
              <a:ext cx="1195200" cy="1374840"/>
              <a:chOff x="264960" y="152280"/>
              <a:chExt cx="1195200" cy="1374840"/>
            </a:xfrm>
          </p:grpSpPr>
          <p:sp>
            <p:nvSpPr>
              <p:cNvPr id="170" name="">
                <a:hlinkClick r:id="" action="ppaction://hlinkshowjump?jump=nextslide"/>
              </p:cNvPr>
              <p:cNvSpPr/>
              <p:nvPr/>
            </p:nvSpPr>
            <p:spPr>
              <a:xfrm>
                <a:off x="264960" y="152280"/>
                <a:ext cx="1195200" cy="1374840"/>
              </a:xfrm>
              <a:custGeom>
                <a:avLst/>
                <a:gdLst>
                  <a:gd name="textAreaLeft" fmla="*/ 0 w 1195200"/>
                  <a:gd name="textAreaRight" fmla="*/ 1195560 w 1195200"/>
                  <a:gd name="textAreaTop" fmla="*/ 0 h 1374840"/>
                  <a:gd name="textAreaBottom" fmla="*/ 1374840 h 1374840"/>
                </a:gdLst>
                <a:ahLst/>
                <a:rect l="textAreaLeft" t="textAreaTop" r="textAreaRight" b="textAreaBottom"/>
                <a:pathLst>
                  <a:path w="21600" h="24846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4846"/>
                    </a:lnTo>
                    <a:lnTo>
                      <a:pt x="0" y="24846"/>
                    </a:lnTo>
                    <a:close/>
                  </a:path>
                  <a:path fill="lightenLess" w="21600" h="24846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  <a:path fill="darken" w="21600" h="24846">
                    <a:moveTo>
                      <a:pt x="21600" y="0"/>
                    </a:moveTo>
                    <a:lnTo>
                      <a:pt x="21600" y="24846"/>
                    </a:lnTo>
                    <a:lnTo>
                      <a:pt x="21600" y="24846"/>
                    </a:lnTo>
                    <a:lnTo>
                      <a:pt x="21600" y="0"/>
                    </a:lnTo>
                    <a:close/>
                  </a:path>
                  <a:path fill="darkenLess" w="21600" h="24846">
                    <a:moveTo>
                      <a:pt x="21600" y="24846"/>
                    </a:moveTo>
                    <a:lnTo>
                      <a:pt x="0" y="24846"/>
                    </a:lnTo>
                    <a:lnTo>
                      <a:pt x="0" y="24846"/>
                    </a:lnTo>
                    <a:lnTo>
                      <a:pt x="21600" y="24846"/>
                    </a:lnTo>
                    <a:close/>
                  </a:path>
                  <a:path fill="lighten" w="21600" h="24846">
                    <a:moveTo>
                      <a:pt x="0" y="2484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48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09680" y="297000"/>
                <a:ext cx="917640" cy="1015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2" name=""/>
          <p:cNvSpPr/>
          <p:nvPr/>
        </p:nvSpPr>
        <p:spPr>
          <a:xfrm>
            <a:off x="685800" y="2590920"/>
            <a:ext cx="7848720" cy="9903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1589040"/>
            <a:ext cx="7848720" cy="50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Conjunto de los conocimientos y las habilidades que tiene una persona para realizar una tarea.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pacidad de responder a demandas complejas y llevar a cabo tareas diversas de forma adecuada. Supone una combinación de habilidades prácticas, conocimientos, motivación, valores éticos, actitudes, emociones y otros componentes sociales y de comportamiento que se movilizan conjuntamente para lograr una acción eficaz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royecto DeSeCo (Definition and Selection of Competencies) de la OC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Deben estar al alcance de to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Se trata de capacidades y no sólo de contenidos. (saber aplica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Son aplicables a una gran diversidad de contextos y ámbi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Permite comprender y actuar en la reali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cc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784872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10800"/>
                </a:moveTo>
                <a:lnTo>
                  <a:pt x="26797" y="3794"/>
                </a:lnTo>
                <a:lnTo>
                  <a:pt x="26797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457200" y="6095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7301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5456" y="5956"/>
                </a:lnTo>
                <a:lnTo>
                  <a:pt x="5456" y="19969"/>
                </a:lnTo>
                <a:lnTo>
                  <a:pt x="3794" y="19969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7c9c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0880" y="380880"/>
            <a:ext cx="8610840" cy="6324840"/>
          </a:xfrm>
          <a:prstGeom prst="flowChartPunchedCard">
            <a:avLst/>
          </a:prstGeom>
          <a:gradFill rotWithShape="0">
            <a:gsLst>
              <a:gs pos="0">
                <a:srgbClr val="80808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304920"/>
            <a:ext cx="8610480" cy="6324480"/>
          </a:xfrm>
          <a:prstGeom prst="flowChartPunchedCard">
            <a:avLst/>
          </a:prstGeom>
          <a:gradFill rotWithShape="0">
            <a:gsLst>
              <a:gs pos="0">
                <a:srgbClr val="fefefe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276720" y="685800"/>
            <a:ext cx="3962160" cy="304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17819" dir="2700000" blurRad="0" rotWithShape="0">
                    <a:srgbClr val="001f1e"/>
                  </a:outerShdw>
                </a:effectLst>
                <a:latin typeface="Times New Roman"/>
              </a:rPr>
              <a:t>A.C: CONTEXTO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17819" dir="2700000" blurRad="0" rotWithShape="0">
                  <a:srgbClr val="001f1e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-2284920" y="3428640"/>
            <a:ext cx="3088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95520" y="-765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04920" y="-76320"/>
            <a:ext cx="8610480" cy="6553080"/>
            <a:chOff x="304920" y="-76320"/>
            <a:chExt cx="8610480" cy="6553080"/>
          </a:xfrm>
        </p:grpSpPr>
        <p:sp>
          <p:nvSpPr>
            <p:cNvPr id="183" name=""/>
            <p:cNvSpPr/>
            <p:nvPr/>
          </p:nvSpPr>
          <p:spPr>
            <a:xfrm>
              <a:off x="1965600" y="1332000"/>
              <a:ext cx="5424840" cy="50810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ff">
                    <a:alpha val="44313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45880" y="5174280"/>
              <a:ext cx="2644200" cy="1302480"/>
            </a:xfrm>
            <a:prstGeom prst="cloudCallout">
              <a:avLst>
                <a:gd name="adj1" fmla="val -29254"/>
                <a:gd name="adj2" fmla="val -78689"/>
              </a:avLst>
            </a:prstGeom>
            <a:gradFill rotWithShape="0">
              <a:gsLst>
                <a:gs pos="0">
                  <a:srgbClr val="009dbc"/>
                </a:gs>
                <a:gs pos="50000">
                  <a:srgbClr val="ffffff"/>
                </a:gs>
                <a:gs pos="100000">
                  <a:srgbClr val="009db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08440" y="3664440"/>
              <a:ext cx="2170440" cy="1302480"/>
            </a:xfrm>
            <a:prstGeom prst="cloudCallout">
              <a:avLst>
                <a:gd name="adj1" fmla="val -87467"/>
                <a:gd name="adj2" fmla="val 8652"/>
              </a:avLst>
            </a:prstGeom>
            <a:gradFill rotWithShape="0">
              <a:gsLst>
                <a:gs pos="0">
                  <a:srgbClr val="009dbc"/>
                </a:gs>
                <a:gs pos="50000">
                  <a:srgbClr val="ffffff"/>
                </a:gs>
                <a:gs pos="100000">
                  <a:srgbClr val="009db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9840" y="3115800"/>
              <a:ext cx="2304720" cy="1234080"/>
            </a:xfrm>
            <a:prstGeom prst="cloudCallout">
              <a:avLst>
                <a:gd name="adj1" fmla="val 74967"/>
                <a:gd name="adj2" fmla="val -5393"/>
              </a:avLst>
            </a:prstGeom>
            <a:gradFill rotWithShape="0">
              <a:gsLst>
                <a:gs pos="0">
                  <a:srgbClr val="009dbc"/>
                </a:gs>
                <a:gs pos="50000">
                  <a:srgbClr val="ffffff"/>
                </a:gs>
                <a:gs pos="100000">
                  <a:srgbClr val="009db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288760" y="1470960"/>
              <a:ext cx="2644200" cy="1302480"/>
            </a:xfrm>
            <a:prstGeom prst="cloudCallout">
              <a:avLst>
                <a:gd name="adj1" fmla="val -19754"/>
                <a:gd name="adj2" fmla="val 92277"/>
              </a:avLst>
            </a:prstGeom>
            <a:gradFill rotWithShape="0">
              <a:gsLst>
                <a:gs pos="0">
                  <a:srgbClr val="009dbc"/>
                </a:gs>
                <a:gs pos="50000">
                  <a:srgbClr val="ffffff"/>
                </a:gs>
                <a:gs pos="100000">
                  <a:srgbClr val="009db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19680" y="1263960"/>
              <a:ext cx="2644200" cy="1302480"/>
            </a:xfrm>
            <a:prstGeom prst="cloudCallout">
              <a:avLst>
                <a:gd name="adj1" fmla="val 49888"/>
                <a:gd name="adj2" fmla="val 77412"/>
              </a:avLst>
            </a:prstGeom>
            <a:gradFill rotWithShape="0">
              <a:gsLst>
                <a:gs pos="0">
                  <a:srgbClr val="009dbc"/>
                </a:gs>
                <a:gs pos="50000">
                  <a:srgbClr val="ffffff"/>
                </a:gs>
                <a:gs pos="100000">
                  <a:srgbClr val="009db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64240" y="3115800"/>
              <a:ext cx="1446480" cy="13564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4920" y="303120"/>
              <a:ext cx="8610480" cy="865080"/>
            </a:xfrm>
            <a:prstGeom prst="rect">
              <a:avLst/>
            </a:prstGeom>
            <a:gradFill rotWithShape="0">
              <a:gsLst>
                <a:gs pos="0">
                  <a:srgbClr val="009db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55760" y="5174280"/>
              <a:ext cx="2372040" cy="1234440"/>
            </a:xfrm>
            <a:prstGeom prst="cloudCallout">
              <a:avLst>
                <a:gd name="adj1" fmla="val 62856"/>
                <a:gd name="adj2" fmla="val -81861"/>
              </a:avLst>
            </a:prstGeom>
            <a:gradFill rotWithShape="0">
              <a:gsLst>
                <a:gs pos="0">
                  <a:srgbClr val="009dbc"/>
                </a:gs>
                <a:gs pos="50000">
                  <a:srgbClr val="ffffff"/>
                </a:gs>
                <a:gs pos="100000">
                  <a:srgbClr val="009db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45920" y="509040"/>
              <a:ext cx="1152360" cy="573120"/>
            </a:xfrm>
            <a:prstGeom prst="cloudCallout">
              <a:avLst>
                <a:gd name="adj1" fmla="val 9013"/>
                <a:gd name="adj2" fmla="val -382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01320" y="329040"/>
              <a:ext cx="1152360" cy="573120"/>
            </a:xfrm>
            <a:prstGeom prst="cloudCallout">
              <a:avLst>
                <a:gd name="adj1" fmla="val 9013"/>
                <a:gd name="adj2" fmla="val -382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102000" y="-76320"/>
              <a:ext cx="1491840" cy="810720"/>
            </a:xfrm>
            <a:prstGeom prst="cloudCallout">
              <a:avLst>
                <a:gd name="adj1" fmla="val 18337"/>
                <a:gd name="adj2" fmla="val -1735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17960" y="509040"/>
              <a:ext cx="880200" cy="367200"/>
            </a:xfrm>
            <a:prstGeom prst="cloudCallout">
              <a:avLst>
                <a:gd name="adj1" fmla="val 27249"/>
                <a:gd name="adj2" fmla="val -3394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492160" y="329040"/>
              <a:ext cx="1016280" cy="573120"/>
            </a:xfrm>
            <a:prstGeom prst="cloudCallout">
              <a:avLst>
                <a:gd name="adj1" fmla="val 3527"/>
                <a:gd name="adj2" fmla="val -382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593840" y="509040"/>
              <a:ext cx="1321200" cy="641160"/>
            </a:xfrm>
            <a:prstGeom prst="cloudCallout">
              <a:avLst>
                <a:gd name="adj1" fmla="val 14254"/>
                <a:gd name="adj2" fmla="val 188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796560" y="783000"/>
              <a:ext cx="1152360" cy="573120"/>
            </a:xfrm>
            <a:prstGeom prst="cloudCallout">
              <a:avLst>
                <a:gd name="adj1" fmla="val 9013"/>
                <a:gd name="adj2" fmla="val -382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286640" y="1675440"/>
              <a:ext cx="244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SOCIA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85360" y="1751040"/>
              <a:ext cx="3051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EMOSTRA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19680" y="5449680"/>
              <a:ext cx="2849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ESOLV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9840" y="3328560"/>
              <a:ext cx="244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EALIZA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880520" y="5456160"/>
              <a:ext cx="244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CTUA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4" name="" descr=""/>
            <p:cNvPicPr/>
            <p:nvPr/>
          </p:nvPicPr>
          <p:blipFill>
            <a:blip r:embed="rId1"/>
            <a:stretch/>
          </p:blipFill>
          <p:spPr>
            <a:xfrm>
              <a:off x="3660840" y="2430360"/>
              <a:ext cx="2101680" cy="28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6305400" y="3940200"/>
              <a:ext cx="244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PLICA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>
              <a:off x="3117960" y="3115800"/>
              <a:ext cx="3119760" cy="1234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232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5cbf"/>
                      </a:gs>
                      <a:gs pos="50000">
                        <a:srgbClr val="03d4a8"/>
                      </a:gs>
                      <a:gs pos="100000">
                        <a:srgbClr val="005cbf"/>
                      </a:gs>
                    </a:gsLst>
                    <a:lin ang="5400000"/>
                  </a:gradFill>
                  <a:latin typeface="Berlin Sans FB Demi"/>
                </a:rPr>
                <a:t>PERSONA </a:t>
              </a:r>
              <a:endParaRPr b="0" lang="en-US" sz="18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5000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Berlin Sans FB Demi"/>
                <a:ea typeface="Berlin Sans FB Dem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232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5cbf"/>
                      </a:gs>
                      <a:gs pos="50000">
                        <a:srgbClr val="03d4a8"/>
                      </a:gs>
                      <a:gs pos="100000">
                        <a:srgbClr val="005cbf"/>
                      </a:gs>
                    </a:gsLst>
                    <a:lin ang="5400000"/>
                  </a:gradFill>
                  <a:latin typeface="Berlin Sans FB Demi"/>
                </a:rPr>
                <a:t>COMPETENTE</a:t>
              </a:r>
              <a:endParaRPr b="0" lang="en-US" sz="18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5000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Berlin Sans FB Demi"/>
                <a:ea typeface="Berlin Sans FB Demi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264960" y="152280"/>
            <a:ext cx="1182960" cy="1295640"/>
            <a:chOff x="264960" y="152280"/>
            <a:chExt cx="1182960" cy="1295640"/>
          </a:xfrm>
        </p:grpSpPr>
        <p:sp>
          <p:nvSpPr>
            <p:cNvPr id="208" name="">
              <a:hlinkClick r:id="" action="ppaction://hlinkshowjump?jump=nextslide"/>
            </p:cNvPr>
            <p:cNvSpPr/>
            <p:nvPr/>
          </p:nvSpPr>
          <p:spPr>
            <a:xfrm>
              <a:off x="264960" y="152280"/>
              <a:ext cx="1182960" cy="1295640"/>
            </a:xfrm>
            <a:custGeom>
              <a:avLst/>
              <a:gdLst>
                <a:gd name="textAreaLeft" fmla="*/ 0 w 1182960"/>
                <a:gd name="textAreaRight" fmla="*/ 1183320 w 1182960"/>
                <a:gd name="textAreaTop" fmla="*/ 0 h 1295640"/>
                <a:gd name="textAreaBottom" fmla="*/ 1295640 h 1295640"/>
              </a:gdLst>
              <a:ahLst/>
              <a:rect l="textAreaLeft" t="textAreaTop" r="textAreaRight" b="textAreaBottom"/>
              <a:pathLst>
                <a:path w="21600" h="23657">
                  <a:moveTo>
                    <a:pt x="0" y="0"/>
                  </a:moveTo>
                  <a:lnTo>
                    <a:pt x="21600" y="0"/>
                  </a:lnTo>
                  <a:lnTo>
                    <a:pt x="21600" y="23657"/>
                  </a:lnTo>
                  <a:lnTo>
                    <a:pt x="0" y="23657"/>
                  </a:lnTo>
                  <a:close/>
                </a:path>
                <a:path fill="lightenLess" w="21600" h="23657">
                  <a:moveTo>
                    <a:pt x="0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  <a:path fill="darken" w="21600" h="23657">
                  <a:moveTo>
                    <a:pt x="21600" y="0"/>
                  </a:moveTo>
                  <a:lnTo>
                    <a:pt x="21600" y="23657"/>
                  </a:lnTo>
                  <a:lnTo>
                    <a:pt x="21600" y="23657"/>
                  </a:lnTo>
                  <a:lnTo>
                    <a:pt x="21600" y="0"/>
                  </a:lnTo>
                  <a:close/>
                </a:path>
                <a:path fill="darkenLess" w="21600" h="23657">
                  <a:moveTo>
                    <a:pt x="21600" y="23657"/>
                  </a:moveTo>
                  <a:lnTo>
                    <a:pt x="0" y="23657"/>
                  </a:lnTo>
                  <a:lnTo>
                    <a:pt x="0" y="23657"/>
                  </a:lnTo>
                  <a:lnTo>
                    <a:pt x="21600" y="23657"/>
                  </a:lnTo>
                  <a:close/>
                </a:path>
                <a:path fill="lighten" w="21600" h="23657">
                  <a:moveTo>
                    <a:pt x="0" y="2365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3657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dcdcdc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9" name="" descr=""/>
            <p:cNvPicPr/>
            <p:nvPr/>
          </p:nvPicPr>
          <p:blipFill>
            <a:blip r:embed="rId2"/>
            <a:stretch/>
          </p:blipFill>
          <p:spPr>
            <a:xfrm>
              <a:off x="408240" y="288720"/>
              <a:ext cx="908280" cy="95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">
            <a:hlinkClick r:id="" action="ppaction://hlinkshowjump?jump=nextslide"/>
          </p:cNvPr>
          <p:cNvSpPr/>
          <p:nvPr/>
        </p:nvSpPr>
        <p:spPr>
          <a:xfrm>
            <a:off x="784872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10800"/>
                </a:moveTo>
                <a:lnTo>
                  <a:pt x="26797" y="3794"/>
                </a:lnTo>
                <a:lnTo>
                  <a:pt x="26797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" action="ppaction://hlinkshowjump?jump=firstslide"/>
          </p:cNvPr>
          <p:cNvSpPr/>
          <p:nvPr/>
        </p:nvSpPr>
        <p:spPr>
          <a:xfrm>
            <a:off x="457200" y="6095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7301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5456" y="5956"/>
                </a:lnTo>
                <a:lnTo>
                  <a:pt x="5456" y="19969"/>
                </a:lnTo>
                <a:lnTo>
                  <a:pt x="3794" y="19969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7c9c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80880" y="380880"/>
            <a:ext cx="8610840" cy="6324840"/>
          </a:xfrm>
          <a:prstGeom prst="flowChartPunchedCard">
            <a:avLst/>
          </a:prstGeom>
          <a:gradFill rotWithShape="0">
            <a:gsLst>
              <a:gs pos="0">
                <a:srgbClr val="80808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304920"/>
            <a:ext cx="8610480" cy="6324480"/>
          </a:xfrm>
          <a:prstGeom prst="flowChartPunchedCard">
            <a:avLst/>
          </a:prstGeom>
          <a:gradFill rotWithShape="0">
            <a:gsLst>
              <a:gs pos="0">
                <a:srgbClr val="eaeaea"/>
              </a:gs>
              <a:gs pos="50000">
                <a:srgbClr val="fefefe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63520" y="152280"/>
            <a:ext cx="6625800" cy="1374840"/>
            <a:chOff x="263520" y="152280"/>
            <a:chExt cx="6625800" cy="1374840"/>
          </a:xfrm>
        </p:grpSpPr>
        <p:sp>
          <p:nvSpPr>
            <p:cNvPr id="216" name=""/>
            <p:cNvSpPr/>
            <p:nvPr/>
          </p:nvSpPr>
          <p:spPr>
            <a:xfrm>
              <a:off x="664560" y="297000"/>
              <a:ext cx="6224760" cy="7232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efefe"/>
                </a:gs>
                <a:gs pos="100000">
                  <a:srgbClr val="808080"/>
                </a:gs>
              </a:gsLst>
              <a:lin ang="8100000"/>
            </a:gra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6920" y="369000"/>
              <a:ext cx="6080040" cy="578880"/>
              <a:chOff x="736920" y="369000"/>
              <a:chExt cx="6080040" cy="578880"/>
            </a:xfrm>
          </p:grpSpPr>
          <p:sp>
            <p:nvSpPr>
              <p:cNvPr id="218" name=""/>
              <p:cNvSpPr/>
              <p:nvPr/>
            </p:nvSpPr>
            <p:spPr>
              <a:xfrm>
                <a:off x="736920" y="369000"/>
                <a:ext cx="6080040" cy="5788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 txBox="1"/>
              <p:nvPr/>
            </p:nvSpPr>
            <p:spPr>
              <a:xfrm>
                <a:off x="2111760" y="513720"/>
                <a:ext cx="3908520" cy="28908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LAS COMPETENCIAS</a:t>
                </a:r>
                <a:endPara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17819" dir="2700000" blurRad="0" rotWithShape="0">
                      <a:srgbClr val="001f1e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220" name="">
              <a:hlinkClick r:id="rId1" action="ppaction://hlinksldjump"/>
            </p:cNvPr>
            <p:cNvSpPr/>
            <p:nvPr/>
          </p:nvSpPr>
          <p:spPr>
            <a:xfrm>
              <a:off x="263520" y="152280"/>
              <a:ext cx="1197000" cy="1374840"/>
            </a:xfrm>
            <a:custGeom>
              <a:avLst/>
              <a:gdLst>
                <a:gd name="textAreaLeft" fmla="*/ 0 w 1197000"/>
                <a:gd name="textAreaRight" fmla="*/ 1197000 w 1197000"/>
                <a:gd name="textAreaTop" fmla="*/ 0 h 1374840"/>
                <a:gd name="textAreaBottom" fmla="*/ 1375200 h 1374840"/>
              </a:gdLst>
              <a:ahLst/>
              <a:rect l="textAreaLeft" t="textAreaTop" r="textAreaRight" b="textAreaBottom"/>
              <a:pathLst>
                <a:path w="21600" h="24808">
                  <a:moveTo>
                    <a:pt x="0" y="0"/>
                  </a:moveTo>
                  <a:lnTo>
                    <a:pt x="21600" y="0"/>
                  </a:lnTo>
                  <a:lnTo>
                    <a:pt x="21600" y="24808"/>
                  </a:lnTo>
                  <a:lnTo>
                    <a:pt x="0" y="24808"/>
                  </a:lnTo>
                  <a:close/>
                </a:path>
                <a:path fill="lightenLess" w="21600" h="24808">
                  <a:moveTo>
                    <a:pt x="0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  <a:path fill="darken" w="21600" h="24808">
                  <a:moveTo>
                    <a:pt x="21600" y="0"/>
                  </a:moveTo>
                  <a:lnTo>
                    <a:pt x="21600" y="24808"/>
                  </a:lnTo>
                  <a:lnTo>
                    <a:pt x="21600" y="24808"/>
                  </a:lnTo>
                  <a:lnTo>
                    <a:pt x="21600" y="0"/>
                  </a:lnTo>
                  <a:close/>
                </a:path>
                <a:path fill="darkenLess" w="21600" h="24808">
                  <a:moveTo>
                    <a:pt x="21600" y="24808"/>
                  </a:moveTo>
                  <a:lnTo>
                    <a:pt x="0" y="24808"/>
                  </a:lnTo>
                  <a:lnTo>
                    <a:pt x="0" y="24808"/>
                  </a:lnTo>
                  <a:lnTo>
                    <a:pt x="21600" y="24808"/>
                  </a:lnTo>
                  <a:close/>
                </a:path>
                <a:path fill="lighten" w="21600" h="24808">
                  <a:moveTo>
                    <a:pt x="0" y="2480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4808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dcdcdc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 txBox="1"/>
            <p:nvPr/>
          </p:nvSpPr>
          <p:spPr>
            <a:xfrm>
              <a:off x="302760" y="441720"/>
              <a:ext cx="1085760" cy="7956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1c1c1c"/>
                    </a:outerShdw>
                  </a:effectLst>
                  <a:latin typeface="Bradley Hand ITC"/>
                </a:rPr>
                <a:t>TIPOS 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1c1c1c"/>
                  </a:outerShdw>
                </a:effectLst>
                <a:latin typeface="Bradley Hand ITC"/>
                <a:ea typeface="Bradley Hand ITC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1c1c1c"/>
                  </a:outerShdw>
                </a:effectLst>
                <a:latin typeface="Bradley Hand ITC"/>
                <a:ea typeface="Bradley Hand ITC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1c1c1c"/>
                    </a:outerShdw>
                  </a:effectLst>
                  <a:latin typeface="Bradley Hand ITC"/>
                </a:rPr>
                <a:t>DE 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1c1c1c"/>
                  </a:outerShdw>
                </a:effectLst>
                <a:latin typeface="Bradley Hand ITC"/>
                <a:ea typeface="Bradley Hand ITC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1c1c1c"/>
                  </a:outerShdw>
                </a:effectLst>
                <a:latin typeface="Bradley Hand ITC"/>
                <a:ea typeface="Bradley Hand ITC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1c1c1c"/>
                    </a:outerShdw>
                  </a:effectLst>
                  <a:latin typeface="Bradley Hand ITC"/>
                </a:rPr>
                <a:t>COMPETENCIAS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1c1c1c"/>
                  </a:outerShdw>
                </a:effectLst>
                <a:latin typeface="Bradley Hand ITC"/>
                <a:ea typeface="Bradley Hand ITC"/>
              </a:endParaRPr>
            </a:p>
          </p:txBody>
        </p:sp>
      </p:grpSp>
      <p:sp>
        <p:nvSpPr>
          <p:cNvPr id="222" name="">
            <a:hlinkClick r:id="" action="ppaction://hlinkshowjump?jump=nextslide"/>
          </p:cNvPr>
          <p:cNvSpPr/>
          <p:nvPr/>
        </p:nvSpPr>
        <p:spPr>
          <a:xfrm>
            <a:off x="784872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10800"/>
                </a:moveTo>
                <a:lnTo>
                  <a:pt x="26797" y="3794"/>
                </a:lnTo>
                <a:lnTo>
                  <a:pt x="26797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" action="ppaction://hlinkshowjump?jump=firstslide"/>
          </p:cNvPr>
          <p:cNvSpPr/>
          <p:nvPr/>
        </p:nvSpPr>
        <p:spPr>
          <a:xfrm>
            <a:off x="457200" y="6095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7301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5456" y="5956"/>
                </a:lnTo>
                <a:lnTo>
                  <a:pt x="5456" y="19969"/>
                </a:lnTo>
                <a:lnTo>
                  <a:pt x="3794" y="19969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57200" y="1676520"/>
            <a:ext cx="8686800" cy="3578040"/>
            <a:chOff x="457200" y="1676520"/>
            <a:chExt cx="8686800" cy="3578040"/>
          </a:xfrm>
        </p:grpSpPr>
        <p:sp>
          <p:nvSpPr>
            <p:cNvPr id="226" name=""/>
            <p:cNvSpPr txBox="1"/>
            <p:nvPr/>
          </p:nvSpPr>
          <p:spPr>
            <a:xfrm>
              <a:off x="3581640" y="1676520"/>
              <a:ext cx="1752480" cy="3808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333399"/>
                      </a:gs>
                      <a:gs pos="50000">
                        <a:srgbClr val="009999"/>
                      </a:gs>
                      <a:gs pos="100000">
                        <a:srgbClr val="333399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224568"/>
                    </a:outerShdw>
                  </a:effectLst>
                  <a:latin typeface="Bradley Hand ITC"/>
                </a:rPr>
                <a:t>TIPOS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50000">
                      <a:srgbClr val="009999"/>
                    </a:gs>
                    <a:gs pos="100000">
                      <a:srgbClr val="3333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224568"/>
                  </a:outerShdw>
                </a:effectLst>
                <a:latin typeface="Bradley Hand ITC"/>
                <a:ea typeface="Bradley Hand ITC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371600" y="2438280"/>
              <a:ext cx="2057400" cy="93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699"/>
                  </a:solidFill>
                  <a:latin typeface="Arial"/>
                </a:rPr>
                <a:t>COMPETENCIA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699"/>
                  </a:solidFill>
                  <a:latin typeface="Arial"/>
                </a:rPr>
                <a:t>BÁSIC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699"/>
                  </a:solidFill>
                  <a:latin typeface="Arial"/>
                </a:rPr>
                <a:t>GENERALES</a:t>
              </a:r>
              <a:r>
                <a:rPr b="1" lang="en-US" sz="1800" spc="-1" strike="noStrike">
                  <a:solidFill>
                    <a:srgbClr val="336699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609840" y="2514600"/>
              <a:ext cx="761760" cy="914040"/>
              <a:chOff x="609840" y="2514600"/>
              <a:chExt cx="761760" cy="914040"/>
            </a:xfrm>
          </p:grpSpPr>
          <p:sp>
            <p:nvSpPr>
              <p:cNvPr id="229" name="">
                <a:hlinkClick r:id="rId2" action="ppaction://hlinksldjump"/>
              </p:cNvPr>
              <p:cNvSpPr/>
              <p:nvPr/>
            </p:nvSpPr>
            <p:spPr>
              <a:xfrm>
                <a:off x="609840" y="2514600"/>
                <a:ext cx="761760" cy="91404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0 h 914040"/>
                  <a:gd name="textAreaBottom" fmla="*/ 914040 h 914040"/>
                </a:gdLst>
                <a:ahLst/>
                <a:rect l="textAreaLeft" t="textAreaTop" r="textAreaRight" b="textAreaBottom"/>
                <a:pathLst>
                  <a:path w="21600" h="25916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5916"/>
                    </a:lnTo>
                    <a:lnTo>
                      <a:pt x="0" y="25916"/>
                    </a:lnTo>
                    <a:close/>
                  </a:path>
                  <a:path fill="lightenLess" w="21600" h="25916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  <a:path fill="darken" w="21600" h="25916">
                    <a:moveTo>
                      <a:pt x="21600" y="0"/>
                    </a:moveTo>
                    <a:lnTo>
                      <a:pt x="21600" y="25916"/>
                    </a:lnTo>
                    <a:lnTo>
                      <a:pt x="21600" y="25916"/>
                    </a:lnTo>
                    <a:lnTo>
                      <a:pt x="21600" y="0"/>
                    </a:lnTo>
                    <a:close/>
                  </a:path>
                  <a:path fill="darkenLess" w="21600" h="25916">
                    <a:moveTo>
                      <a:pt x="21600" y="25916"/>
                    </a:moveTo>
                    <a:lnTo>
                      <a:pt x="0" y="25916"/>
                    </a:lnTo>
                    <a:lnTo>
                      <a:pt x="0" y="25916"/>
                    </a:lnTo>
                    <a:lnTo>
                      <a:pt x="21600" y="25916"/>
                    </a:lnTo>
                    <a:close/>
                  </a:path>
                  <a:path fill="lighten" w="21600" h="25916">
                    <a:moveTo>
                      <a:pt x="0" y="2591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59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712440" y="2706840"/>
                <a:ext cx="599400" cy="539280"/>
                <a:chOff x="712440" y="2706840"/>
                <a:chExt cx="599400" cy="539280"/>
              </a:xfrm>
            </p:grpSpPr>
            <p:sp>
              <p:nvSpPr>
                <p:cNvPr id="231" name="Pyr1"/>
                <p:cNvSpPr/>
                <p:nvPr/>
              </p:nvSpPr>
              <p:spPr>
                <a:xfrm>
                  <a:off x="945720" y="2706840"/>
                  <a:ext cx="134280" cy="119520"/>
                </a:xfrm>
                <a:prstGeom prst="pie">
                  <a:avLst/>
                </a:prstGeom>
                <a:gradFill rotWithShape="0">
                  <a:gsLst>
                    <a:gs pos="0">
                      <a:srgbClr val="cc0066"/>
                    </a:gs>
                    <a:gs pos="100000">
                      <a:srgbClr val="6666ff"/>
                    </a:gs>
                  </a:gsLst>
                  <a:lin ang="5400000"/>
                </a:gradFill>
                <a:ln w="0">
                  <a:noFill/>
                </a:ln>
                <a:effectLst>
                  <a:outerShdw dist="52300" dir="836435" blurRad="0" rotWithShape="0">
                    <a:srgbClr val="79003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Pyr2"/>
                <p:cNvSpPr/>
                <p:nvPr/>
              </p:nvSpPr>
              <p:spPr>
                <a:xfrm>
                  <a:off x="867960" y="2826360"/>
                  <a:ext cx="289080" cy="140040"/>
                </a:xfrm>
                <a:prstGeom prst="pie">
                  <a:avLst/>
                </a:prstGeom>
                <a:gradFill rotWithShape="0">
                  <a:gsLst>
                    <a:gs pos="0">
                      <a:srgbClr val="6666ff"/>
                    </a:gs>
                    <a:gs pos="100000">
                      <a:srgbClr val="33cc33"/>
                    </a:gs>
                  </a:gsLst>
                  <a:lin ang="5400000"/>
                </a:gradFill>
                <a:ln w="0">
                  <a:noFill/>
                </a:ln>
                <a:effectLst>
                  <a:outerShdw dist="52300" dir="836435" blurRad="0" rotWithShape="0">
                    <a:srgbClr val="3c3c9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Pyr3"/>
                <p:cNvSpPr/>
                <p:nvPr/>
              </p:nvSpPr>
              <p:spPr>
                <a:xfrm>
                  <a:off x="790920" y="2966760"/>
                  <a:ext cx="443160" cy="140040"/>
                </a:xfrm>
                <a:prstGeom prst="pie">
                  <a:avLst/>
                </a:prstGeom>
                <a:gradFill rotWithShape="0">
                  <a:gsLst>
                    <a:gs pos="0">
                      <a:srgbClr val="33cc33"/>
                    </a:gs>
                    <a:gs pos="100000">
                      <a:srgbClr val="c3ff19"/>
                    </a:gs>
                  </a:gsLst>
                  <a:lin ang="5400000"/>
                </a:gradFill>
                <a:ln w="0">
                  <a:noFill/>
                </a:ln>
                <a:effectLst>
                  <a:outerShdw dist="52300" dir="836435" blurRad="0" rotWithShape="0">
                    <a:srgbClr val="1e791e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Pyr4"/>
                <p:cNvSpPr/>
                <p:nvPr/>
              </p:nvSpPr>
              <p:spPr>
                <a:xfrm>
                  <a:off x="712440" y="3106080"/>
                  <a:ext cx="599400" cy="140040"/>
                </a:xfrm>
                <a:prstGeom prst="pie">
                  <a:avLst/>
                </a:prstGeom>
                <a:gradFill rotWithShape="0">
                  <a:gsLst>
                    <a:gs pos="0">
                      <a:srgbClr val="c3ff19"/>
                    </a:gs>
                    <a:gs pos="100000">
                      <a:srgbClr val="ffff00"/>
                    </a:gs>
                  </a:gsLst>
                  <a:lin ang="5400000"/>
                </a:gradFill>
                <a:ln w="0">
                  <a:noFill/>
                </a:ln>
                <a:effectLst>
                  <a:outerShdw dist="52300" dir="836435" blurRad="0" rotWithShape="0">
                    <a:srgbClr val="74980e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5" name=""/>
            <p:cNvSpPr/>
            <p:nvPr/>
          </p:nvSpPr>
          <p:spPr>
            <a:xfrm>
              <a:off x="457200" y="3555720"/>
              <a:ext cx="2819520" cy="169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dependientes  de una  materia específica y relacionadas con actitudes, motivaciones y habilidades para organizar el propio aprendizaje.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191120" y="2438280"/>
              <a:ext cx="2209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699"/>
                  </a:solidFill>
                  <a:latin typeface="Arial"/>
                </a:rPr>
                <a:t>COMPETENCIAS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699"/>
                  </a:solidFill>
                  <a:latin typeface="Arial"/>
                </a:rPr>
                <a:t>COMUNICATIVAS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53040" y="3516120"/>
              <a:ext cx="2819160" cy="169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rectamente relacionadas con la lengua, permiten al individuo desarrollar todas sus otras competencias usando el lenguaje como vehículo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3505320" y="2514600"/>
              <a:ext cx="761760" cy="914040"/>
              <a:chOff x="3505320" y="2514600"/>
              <a:chExt cx="761760" cy="914040"/>
            </a:xfrm>
          </p:grpSpPr>
          <p:sp>
            <p:nvSpPr>
              <p:cNvPr id="239" name="">
                <a:hlinkClick r:id="rId3" action="ppaction://hlinksldjump"/>
              </p:cNvPr>
              <p:cNvSpPr/>
              <p:nvPr/>
            </p:nvSpPr>
            <p:spPr>
              <a:xfrm>
                <a:off x="3505320" y="2514600"/>
                <a:ext cx="738000" cy="914040"/>
              </a:xfrm>
              <a:custGeom>
                <a:avLst/>
                <a:gdLst>
                  <a:gd name="textAreaLeft" fmla="*/ 0 w 738000"/>
                  <a:gd name="textAreaRight" fmla="*/ 738360 w 738000"/>
                  <a:gd name="textAreaTop" fmla="*/ 0 h 914040"/>
                  <a:gd name="textAreaBottom" fmla="*/ 914400 h 914040"/>
                </a:gdLst>
                <a:ahLst/>
                <a:rect l="textAreaLeft" t="textAreaTop" r="textAreaRight" b="textAreaBottom"/>
                <a:pathLst>
                  <a:path w="21600" h="2675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6750"/>
                    </a:lnTo>
                    <a:lnTo>
                      <a:pt x="0" y="26750"/>
                    </a:lnTo>
                    <a:close/>
                  </a:path>
                  <a:path fill="lightenLess" w="21600" h="2675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  <a:path fill="darken" w="21600" h="26750">
                    <a:moveTo>
                      <a:pt x="21600" y="0"/>
                    </a:moveTo>
                    <a:lnTo>
                      <a:pt x="21600" y="26750"/>
                    </a:lnTo>
                    <a:lnTo>
                      <a:pt x="21600" y="26750"/>
                    </a:lnTo>
                    <a:lnTo>
                      <a:pt x="21600" y="0"/>
                    </a:lnTo>
                    <a:close/>
                  </a:path>
                  <a:path fill="darkenLess" w="21600" h="26750">
                    <a:moveTo>
                      <a:pt x="21600" y="26750"/>
                    </a:moveTo>
                    <a:lnTo>
                      <a:pt x="0" y="26750"/>
                    </a:lnTo>
                    <a:lnTo>
                      <a:pt x="0" y="26750"/>
                    </a:lnTo>
                    <a:lnTo>
                      <a:pt x="21600" y="26750"/>
                    </a:lnTo>
                    <a:close/>
                  </a:path>
                  <a:path fill="lighten" w="21600" h="26750">
                    <a:moveTo>
                      <a:pt x="0" y="2675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67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0" name=""/>
              <p:cNvGrpSpPr/>
              <p:nvPr/>
            </p:nvGrpSpPr>
            <p:grpSpPr>
              <a:xfrm>
                <a:off x="3517920" y="2562480"/>
                <a:ext cx="749160" cy="791280"/>
                <a:chOff x="3517920" y="2562480"/>
                <a:chExt cx="749160" cy="791280"/>
              </a:xfrm>
            </p:grpSpPr>
            <p:pic>
              <p:nvPicPr>
                <p:cNvPr id="24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775680" y="2562480"/>
                  <a:ext cx="491400" cy="529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2" name="PubPieSlice"/>
                <p:cNvSpPr/>
                <p:nvPr/>
              </p:nvSpPr>
              <p:spPr>
                <a:xfrm rot="614400">
                  <a:off x="3552120" y="2899080"/>
                  <a:ext cx="392760" cy="423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6551" y="1659"/>
                      </a:moveTo>
                      <a:arcTo wR="10800" hR="10800" stAng="-3469539" swAng="-18130461"/>
                      <a:lnTo>
                        <a:pt x="1080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5e00"/>
                    </a:gs>
                    <a:gs pos="50000">
                      <a:srgbClr val="ffcc00"/>
                    </a:gs>
                    <a:gs pos="100000">
                      <a:srgbClr val="755e00"/>
                    </a:gs>
                  </a:gsLst>
                  <a:lin ang="748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3" name=""/>
            <p:cNvSpPr/>
            <p:nvPr/>
          </p:nvSpPr>
          <p:spPr>
            <a:xfrm>
              <a:off x="7086600" y="2438280"/>
              <a:ext cx="20574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699"/>
                  </a:solidFill>
                  <a:latin typeface="Arial"/>
                </a:rPr>
                <a:t>COMPETENCIAS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336699"/>
                  </a:solidFill>
                  <a:latin typeface="Arial"/>
                </a:rPr>
                <a:t>BÁSICAS 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699"/>
                  </a:solidFill>
                  <a:latin typeface="Arial"/>
                </a:rPr>
                <a:t>CLAVES DEL APRENDIZAJE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48520" y="3519360"/>
              <a:ext cx="2590920" cy="14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inculadas, sobre todo, al ámbito escolar y las materias, deben estar adquiridas al finalizar la enseñanza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6324840" y="2514600"/>
              <a:ext cx="744480" cy="914040"/>
              <a:chOff x="6324840" y="2514600"/>
              <a:chExt cx="744480" cy="914040"/>
            </a:xfrm>
          </p:grpSpPr>
          <p:sp>
            <p:nvSpPr>
              <p:cNvPr id="246" name="">
                <a:hlinkClick r:id="rId5" action="ppaction://hlinksldjump"/>
              </p:cNvPr>
              <p:cNvSpPr/>
              <p:nvPr/>
            </p:nvSpPr>
            <p:spPr>
              <a:xfrm>
                <a:off x="6324840" y="2514600"/>
                <a:ext cx="744480" cy="914040"/>
              </a:xfrm>
              <a:custGeom>
                <a:avLst/>
                <a:gdLst>
                  <a:gd name="textAreaLeft" fmla="*/ 0 w 744480"/>
                  <a:gd name="textAreaRight" fmla="*/ 744840 w 744480"/>
                  <a:gd name="textAreaTop" fmla="*/ 0 h 914040"/>
                  <a:gd name="textAreaBottom" fmla="*/ 914400 h 914040"/>
                </a:gdLst>
                <a:ahLst/>
                <a:rect l="textAreaLeft" t="textAreaTop" r="textAreaRight" b="textAreaBottom"/>
                <a:pathLst>
                  <a:path w="21600" h="26517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6517"/>
                    </a:lnTo>
                    <a:lnTo>
                      <a:pt x="0" y="26517"/>
                    </a:lnTo>
                    <a:close/>
                  </a:path>
                  <a:path fill="lightenLess" w="21600" h="26517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  <a:path fill="darken" w="21600" h="26517">
                    <a:moveTo>
                      <a:pt x="21600" y="0"/>
                    </a:moveTo>
                    <a:lnTo>
                      <a:pt x="21600" y="26517"/>
                    </a:lnTo>
                    <a:lnTo>
                      <a:pt x="21600" y="26517"/>
                    </a:lnTo>
                    <a:lnTo>
                      <a:pt x="21600" y="0"/>
                    </a:lnTo>
                    <a:close/>
                  </a:path>
                  <a:path fill="darkenLess" w="21600" h="26517">
                    <a:moveTo>
                      <a:pt x="21600" y="26517"/>
                    </a:moveTo>
                    <a:lnTo>
                      <a:pt x="0" y="26517"/>
                    </a:lnTo>
                    <a:lnTo>
                      <a:pt x="0" y="26517"/>
                    </a:lnTo>
                    <a:lnTo>
                      <a:pt x="21600" y="26517"/>
                    </a:lnTo>
                    <a:close/>
                  </a:path>
                  <a:path fill="lighten" w="21600" h="26517">
                    <a:moveTo>
                      <a:pt x="0" y="2651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651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7" name="" descr="Nombre de archivo: j0335776.wmf&#13;Palabras clave: artículo del hogar, llaves, llaves de casa ...&#13;Tamaño de archivo: 65 KB"/>
              <p:cNvPicPr/>
              <p:nvPr/>
            </p:nvPicPr>
            <p:blipFill>
              <a:blip r:embed="rId6"/>
              <a:stretch/>
            </p:blipFill>
            <p:spPr>
              <a:xfrm rot="6326400">
                <a:off x="6396480" y="2676600"/>
                <a:ext cx="577080" cy="540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7c9c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80880" y="380880"/>
            <a:ext cx="8610840" cy="6324840"/>
          </a:xfrm>
          <a:prstGeom prst="flowChartPunchedCard">
            <a:avLst/>
          </a:prstGeom>
          <a:gradFill rotWithShape="0">
            <a:gsLst>
              <a:gs pos="0">
                <a:srgbClr val="80808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304920"/>
            <a:ext cx="8610480" cy="6324480"/>
          </a:xfrm>
          <a:prstGeom prst="flowChartPunchedCard">
            <a:avLst/>
          </a:prstGeom>
          <a:gradFill rotWithShape="0">
            <a:gsLst>
              <a:gs pos="0">
                <a:srgbClr val="eaeaea"/>
              </a:gs>
              <a:gs pos="50000">
                <a:srgbClr val="fefefe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1371600"/>
            <a:ext cx="6858000" cy="53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ocimiento declarativ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ab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0000"/>
              </a:lnSpc>
              <a:buSzPct val="103006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ocimiento del mun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0000"/>
              </a:lnSpc>
              <a:buSzPct val="10300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ocimiento sociocultu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0000"/>
              </a:lnSpc>
              <a:buSzPct val="10300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ciencia intercultu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ezas y habilidad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aber hac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0000"/>
              </a:lnSpc>
              <a:buSzPct val="10300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trezas y habilidades prácticas (sociales, de la vida, profesionales, de oci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0000"/>
              </a:lnSpc>
              <a:buSzPct val="10300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trezas y habilidades intercultur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0000"/>
              </a:lnSpc>
              <a:buSzPct val="10300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ación intercultural, sensibilidad cultural, superación de malentendidos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tereotipo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etencia existencia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aber s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0000"/>
              </a:lnSpc>
              <a:buSzPct val="10300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ctitudes y motiv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0000"/>
              </a:lnSpc>
              <a:buSzPct val="10300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alores y cree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0000"/>
              </a:lnSpc>
              <a:buSzPct val="103006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stilos cognitiv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0000"/>
              </a:lnSpc>
              <a:buSzPct val="103006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actores de persona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pacidad de aprend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 saber apr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0000"/>
              </a:lnSpc>
              <a:buSzPct val="103006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 reflexión sobre el sistema de la lengua y la comuni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0000"/>
              </a:lnSpc>
              <a:buSzPct val="103006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trezas de estu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3"/>
          <a:stretch/>
        </p:blipFill>
        <p:spPr>
          <a:xfrm>
            <a:off x="7238880" y="2666880"/>
            <a:ext cx="952560" cy="9144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50920" y="152280"/>
            <a:ext cx="7322760" cy="1374840"/>
            <a:chOff x="250920" y="152280"/>
            <a:chExt cx="7322760" cy="1374840"/>
          </a:xfrm>
        </p:grpSpPr>
        <p:grpSp>
          <p:nvGrpSpPr>
            <p:cNvPr id="253" name=""/>
            <p:cNvGrpSpPr/>
            <p:nvPr/>
          </p:nvGrpSpPr>
          <p:grpSpPr>
            <a:xfrm>
              <a:off x="1352520" y="297000"/>
              <a:ext cx="6221160" cy="723240"/>
              <a:chOff x="1352520" y="297000"/>
              <a:chExt cx="6221160" cy="723240"/>
            </a:xfrm>
          </p:grpSpPr>
          <p:sp>
            <p:nvSpPr>
              <p:cNvPr id="254" name=""/>
              <p:cNvSpPr/>
              <p:nvPr/>
            </p:nvSpPr>
            <p:spPr>
              <a:xfrm>
                <a:off x="1352520" y="297000"/>
                <a:ext cx="6221160" cy="7232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efefe"/>
                  </a:gs>
                  <a:gs pos="100000">
                    <a:srgbClr val="808080"/>
                  </a:gs>
                </a:gsLst>
                <a:lin ang="81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424520" y="369360"/>
                <a:ext cx="6076440" cy="57816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 txBox="1"/>
              <p:nvPr/>
            </p:nvSpPr>
            <p:spPr>
              <a:xfrm>
                <a:off x="1569240" y="441360"/>
                <a:ext cx="5787000" cy="36180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   </a:t>
                </a: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C. BÁSICAS O GENERALES   </a:t>
                </a:r>
                <a:endPara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17819" dir="2700000" blurRad="0" rotWithShape="0">
                      <a:srgbClr val="001f1e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250920" y="152280"/>
              <a:ext cx="1194840" cy="1374840"/>
              <a:chOff x="250920" y="152280"/>
              <a:chExt cx="1194840" cy="1374840"/>
            </a:xfrm>
          </p:grpSpPr>
          <p:sp>
            <p:nvSpPr>
              <p:cNvPr id="258" name="">
                <a:hlinkClick r:id="rId14" action="ppaction://hlinksldjump"/>
              </p:cNvPr>
              <p:cNvSpPr/>
              <p:nvPr/>
            </p:nvSpPr>
            <p:spPr>
              <a:xfrm>
                <a:off x="250920" y="152280"/>
                <a:ext cx="1194840" cy="1374840"/>
              </a:xfrm>
              <a:custGeom>
                <a:avLst/>
                <a:gdLst>
                  <a:gd name="textAreaLeft" fmla="*/ 0 w 1194840"/>
                  <a:gd name="textAreaRight" fmla="*/ 1195200 w 1194840"/>
                  <a:gd name="textAreaTop" fmla="*/ 0 h 1374840"/>
                  <a:gd name="textAreaBottom" fmla="*/ 1374840 h 1374840"/>
                </a:gdLst>
                <a:ahLst/>
                <a:rect l="textAreaLeft" t="textAreaTop" r="textAreaRight" b="textAreaBottom"/>
                <a:pathLst>
                  <a:path w="21600" h="24853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4853"/>
                    </a:lnTo>
                    <a:lnTo>
                      <a:pt x="0" y="24853"/>
                    </a:lnTo>
                    <a:close/>
                  </a:path>
                  <a:path fill="lightenLess" w="21600" h="24853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  <a:path fill="darken" w="21600" h="24853">
                    <a:moveTo>
                      <a:pt x="21600" y="0"/>
                    </a:moveTo>
                    <a:lnTo>
                      <a:pt x="21600" y="24853"/>
                    </a:lnTo>
                    <a:lnTo>
                      <a:pt x="21600" y="24853"/>
                    </a:lnTo>
                    <a:lnTo>
                      <a:pt x="21600" y="0"/>
                    </a:lnTo>
                    <a:close/>
                  </a:path>
                  <a:path fill="darkenLess" w="21600" h="24853">
                    <a:moveTo>
                      <a:pt x="21600" y="24853"/>
                    </a:moveTo>
                    <a:lnTo>
                      <a:pt x="0" y="24853"/>
                    </a:lnTo>
                    <a:lnTo>
                      <a:pt x="0" y="24853"/>
                    </a:lnTo>
                    <a:lnTo>
                      <a:pt x="21600" y="24853"/>
                    </a:lnTo>
                    <a:close/>
                  </a:path>
                  <a:path fill="lighten" w="21600" h="24853">
                    <a:moveTo>
                      <a:pt x="0" y="2485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48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411840" y="441720"/>
                <a:ext cx="939960" cy="810720"/>
                <a:chOff x="411840" y="441720"/>
                <a:chExt cx="939960" cy="810720"/>
              </a:xfrm>
            </p:grpSpPr>
            <p:sp>
              <p:nvSpPr>
                <p:cNvPr id="260" name="Pyr1"/>
                <p:cNvSpPr/>
                <p:nvPr/>
              </p:nvSpPr>
              <p:spPr>
                <a:xfrm>
                  <a:off x="777600" y="441720"/>
                  <a:ext cx="210600" cy="179640"/>
                </a:xfrm>
                <a:prstGeom prst="pie">
                  <a:avLst/>
                </a:prstGeom>
                <a:gradFill rotWithShape="0">
                  <a:gsLst>
                    <a:gs pos="0">
                      <a:srgbClr val="cc0066"/>
                    </a:gs>
                    <a:gs pos="100000">
                      <a:srgbClr val="6666ff"/>
                    </a:gs>
                  </a:gsLst>
                  <a:lin ang="5400000"/>
                </a:gradFill>
                <a:ln w="0">
                  <a:noFill/>
                </a:ln>
                <a:effectLst>
                  <a:outerShdw dist="52300" dir="836435" blurRad="0" rotWithShape="0">
                    <a:srgbClr val="79003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Pyr2"/>
                <p:cNvSpPr/>
                <p:nvPr/>
              </p:nvSpPr>
              <p:spPr>
                <a:xfrm>
                  <a:off x="655560" y="621360"/>
                  <a:ext cx="453600" cy="210600"/>
                </a:xfrm>
                <a:prstGeom prst="pie">
                  <a:avLst/>
                </a:prstGeom>
                <a:gradFill rotWithShape="0">
                  <a:gsLst>
                    <a:gs pos="0">
                      <a:srgbClr val="6666ff"/>
                    </a:gs>
                    <a:gs pos="100000">
                      <a:srgbClr val="33cc33"/>
                    </a:gs>
                  </a:gsLst>
                  <a:lin ang="5400000"/>
                </a:gradFill>
                <a:ln w="0">
                  <a:noFill/>
                </a:ln>
                <a:effectLst>
                  <a:outerShdw dist="52300" dir="836435" blurRad="0" rotWithShape="0">
                    <a:srgbClr val="3c3c9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Pyr3"/>
                <p:cNvSpPr/>
                <p:nvPr/>
              </p:nvSpPr>
              <p:spPr>
                <a:xfrm>
                  <a:off x="534960" y="832320"/>
                  <a:ext cx="694800" cy="210600"/>
                </a:xfrm>
                <a:prstGeom prst="pie">
                  <a:avLst/>
                </a:prstGeom>
                <a:gradFill rotWithShape="0">
                  <a:gsLst>
                    <a:gs pos="0">
                      <a:srgbClr val="33cc33"/>
                    </a:gs>
                    <a:gs pos="100000">
                      <a:srgbClr val="c3ff19"/>
                    </a:gs>
                  </a:gsLst>
                  <a:lin ang="5400000"/>
                </a:gradFill>
                <a:ln w="0">
                  <a:noFill/>
                </a:ln>
                <a:effectLst>
                  <a:outerShdw dist="52300" dir="836435" blurRad="0" rotWithShape="0">
                    <a:srgbClr val="1e791e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Pyr4"/>
                <p:cNvSpPr/>
                <p:nvPr/>
              </p:nvSpPr>
              <p:spPr>
                <a:xfrm>
                  <a:off x="411840" y="1041840"/>
                  <a:ext cx="939960" cy="210600"/>
                </a:xfrm>
                <a:prstGeom prst="pie">
                  <a:avLst/>
                </a:prstGeom>
                <a:gradFill rotWithShape="0">
                  <a:gsLst>
                    <a:gs pos="0">
                      <a:srgbClr val="c3ff19"/>
                    </a:gs>
                    <a:gs pos="100000">
                      <a:srgbClr val="ffff00"/>
                    </a:gs>
                  </a:gsLst>
                  <a:lin ang="5400000"/>
                </a:gradFill>
                <a:ln w="0">
                  <a:noFill/>
                </a:ln>
                <a:effectLst>
                  <a:outerShdw dist="52300" dir="836435" blurRad="0" rotWithShape="0">
                    <a:srgbClr val="74980e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4" name=""/>
          <p:cNvGrpSpPr/>
          <p:nvPr/>
        </p:nvGrpSpPr>
        <p:grpSpPr>
          <a:xfrm>
            <a:off x="7162920" y="3733920"/>
            <a:ext cx="1322280" cy="914400"/>
            <a:chOff x="7162920" y="3733920"/>
            <a:chExt cx="1322280" cy="914400"/>
          </a:xfrm>
        </p:grpSpPr>
        <p:pic>
          <p:nvPicPr>
            <p:cNvPr id="265" name="" descr=""/>
            <p:cNvPicPr/>
            <p:nvPr/>
          </p:nvPicPr>
          <p:blipFill>
            <a:blip r:embed="rId15"/>
            <a:stretch/>
          </p:blipFill>
          <p:spPr>
            <a:xfrm>
              <a:off x="7772400" y="3886200"/>
              <a:ext cx="71280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" descr=""/>
            <p:cNvPicPr/>
            <p:nvPr/>
          </p:nvPicPr>
          <p:blipFill>
            <a:blip r:embed="rId16"/>
            <a:stretch/>
          </p:blipFill>
          <p:spPr>
            <a:xfrm flipH="1">
              <a:off x="7162920" y="3733920"/>
              <a:ext cx="761760" cy="77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7" name=""/>
          <p:cNvGrpSpPr/>
          <p:nvPr/>
        </p:nvGrpSpPr>
        <p:grpSpPr>
          <a:xfrm>
            <a:off x="6695280" y="4408920"/>
            <a:ext cx="1970280" cy="1970640"/>
            <a:chOff x="6695280" y="4408920"/>
            <a:chExt cx="1970280" cy="1970640"/>
          </a:xfrm>
        </p:grpSpPr>
        <p:pic>
          <p:nvPicPr>
            <p:cNvPr id="268" name="" descr=""/>
            <p:cNvPicPr/>
            <p:nvPr/>
          </p:nvPicPr>
          <p:blipFill>
            <a:blip r:embed="rId17"/>
            <a:stretch/>
          </p:blipFill>
          <p:spPr>
            <a:xfrm>
              <a:off x="7063560" y="4914360"/>
              <a:ext cx="1357560" cy="13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18"/>
            <a:stretch/>
          </p:blipFill>
          <p:spPr>
            <a:xfrm rot="775200">
              <a:off x="6858000" y="4571640"/>
              <a:ext cx="1644480" cy="164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0" name=""/>
          <p:cNvGrpSpPr/>
          <p:nvPr/>
        </p:nvGrpSpPr>
        <p:grpSpPr>
          <a:xfrm>
            <a:off x="6934320" y="1325520"/>
            <a:ext cx="1325160" cy="1135440"/>
            <a:chOff x="6934320" y="1325520"/>
            <a:chExt cx="1325160" cy="1135440"/>
          </a:xfrm>
        </p:grpSpPr>
        <p:pic>
          <p:nvPicPr>
            <p:cNvPr id="271" name="" descr=""/>
            <p:cNvPicPr/>
            <p:nvPr/>
          </p:nvPicPr>
          <p:blipFill>
            <a:blip r:embed="rId19"/>
            <a:stretch/>
          </p:blipFill>
          <p:spPr>
            <a:xfrm>
              <a:off x="6934320" y="1325520"/>
              <a:ext cx="609480" cy="7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/>
            <p:cNvPicPr/>
            <p:nvPr/>
          </p:nvPicPr>
          <p:blipFill>
            <a:blip r:embed="rId20">
              <a:lum bright="12000"/>
            </a:blip>
            <a:stretch/>
          </p:blipFill>
          <p:spPr>
            <a:xfrm rot="272400">
              <a:off x="7748640" y="1393920"/>
              <a:ext cx="4842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21"/>
            <a:stretch/>
          </p:blipFill>
          <p:spPr>
            <a:xfrm>
              <a:off x="7238880" y="1523880"/>
              <a:ext cx="83844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22"/>
            <a:srcRect l="0" t="0" r="0" b="19661"/>
            <a:stretch/>
          </p:blipFill>
          <p:spPr>
            <a:xfrm flipH="1" rot="261600">
              <a:off x="7621560" y="1944720"/>
              <a:ext cx="606600" cy="49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23"/>
            <a:stretch/>
          </p:blipFill>
          <p:spPr>
            <a:xfrm flipH="1">
              <a:off x="7115040" y="1795320"/>
              <a:ext cx="532080" cy="63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6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10800"/>
                </a:moveTo>
                <a:lnTo>
                  <a:pt x="26797" y="3794"/>
                </a:lnTo>
                <a:lnTo>
                  <a:pt x="26797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>
            <a:hlinkClick r:id="" action="ppaction://hlinkshowjump?jump=firstslide"/>
          </p:cNvPr>
          <p:cNvSpPr/>
          <p:nvPr/>
        </p:nvSpPr>
        <p:spPr>
          <a:xfrm>
            <a:off x="457200" y="6095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7301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5456" y="5956"/>
                </a:lnTo>
                <a:lnTo>
                  <a:pt x="5456" y="19969"/>
                </a:lnTo>
                <a:lnTo>
                  <a:pt x="3794" y="19969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>
            <a:hlinkClick r:id="" action="ppaction://hlinkshowjump?jump=nextslide"/>
          </p:cNvPr>
          <p:cNvSpPr/>
          <p:nvPr/>
        </p:nvSpPr>
        <p:spPr>
          <a:xfrm>
            <a:off x="784872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7c9c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80880" y="380880"/>
            <a:ext cx="8610840" cy="6324840"/>
          </a:xfrm>
          <a:prstGeom prst="flowChartPunchedCard">
            <a:avLst/>
          </a:prstGeom>
          <a:gradFill rotWithShape="0">
            <a:gsLst>
              <a:gs pos="0">
                <a:srgbClr val="80808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304920"/>
            <a:ext cx="8610480" cy="6324480"/>
          </a:xfrm>
          <a:prstGeom prst="flowChartPunchedCard">
            <a:avLst/>
          </a:prstGeom>
          <a:gradFill rotWithShape="0">
            <a:gsLst>
              <a:gs pos="0">
                <a:srgbClr val="eaeaea"/>
              </a:gs>
              <a:gs pos="50000">
                <a:srgbClr val="fefefe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600200" y="1143000"/>
            <a:ext cx="6629400" cy="52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etencia lingüíst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etencia léxi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etencia gramatic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etencia semánti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etencia fonológi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etencia ortográfi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etencia ortoépic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etencia sociolingüístic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rcadores lingüísticos de relaciones social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rmas de cortesí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xpresiones de sabiduría popul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ferencias de registr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alectos y acent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etencia pragmátic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etencia discursiv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etencia funcio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50920" y="152280"/>
            <a:ext cx="7239960" cy="1374840"/>
            <a:chOff x="250920" y="152280"/>
            <a:chExt cx="7239960" cy="1374840"/>
          </a:xfrm>
        </p:grpSpPr>
        <p:grpSp>
          <p:nvGrpSpPr>
            <p:cNvPr id="283" name=""/>
            <p:cNvGrpSpPr/>
            <p:nvPr/>
          </p:nvGrpSpPr>
          <p:grpSpPr>
            <a:xfrm>
              <a:off x="1267920" y="297000"/>
              <a:ext cx="6222960" cy="723240"/>
              <a:chOff x="1267920" y="297000"/>
              <a:chExt cx="6222960" cy="723240"/>
            </a:xfrm>
          </p:grpSpPr>
          <p:sp>
            <p:nvSpPr>
              <p:cNvPr id="284" name=""/>
              <p:cNvSpPr/>
              <p:nvPr/>
            </p:nvSpPr>
            <p:spPr>
              <a:xfrm>
                <a:off x="1267920" y="297000"/>
                <a:ext cx="6222960" cy="7232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efefe"/>
                  </a:gs>
                  <a:gs pos="100000">
                    <a:srgbClr val="808080"/>
                  </a:gs>
                </a:gsLst>
                <a:lin ang="81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339920" y="369360"/>
                <a:ext cx="6078240" cy="57816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 txBox="1"/>
              <p:nvPr/>
            </p:nvSpPr>
            <p:spPr>
              <a:xfrm>
                <a:off x="1557000" y="513720"/>
                <a:ext cx="5644080" cy="28908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     </a:t>
                </a: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C. COMUNICATIVAS     </a:t>
                </a:r>
                <a:endPara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17819" dir="2700000" blurRad="0" rotWithShape="0">
                      <a:srgbClr val="001f1e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250920" y="152280"/>
              <a:ext cx="1233360" cy="1374840"/>
              <a:chOff x="250920" y="152280"/>
              <a:chExt cx="1233360" cy="1374840"/>
            </a:xfrm>
          </p:grpSpPr>
          <p:sp>
            <p:nvSpPr>
              <p:cNvPr id="288" name="">
                <a:hlinkClick r:id="rId14" action="ppaction://hlinksldjump"/>
              </p:cNvPr>
              <p:cNvSpPr/>
              <p:nvPr/>
            </p:nvSpPr>
            <p:spPr>
              <a:xfrm>
                <a:off x="250920" y="152280"/>
                <a:ext cx="1194840" cy="1374840"/>
              </a:xfrm>
              <a:custGeom>
                <a:avLst/>
                <a:gdLst>
                  <a:gd name="textAreaLeft" fmla="*/ 0 w 1194840"/>
                  <a:gd name="textAreaRight" fmla="*/ 1195200 w 1194840"/>
                  <a:gd name="textAreaTop" fmla="*/ 0 h 1374840"/>
                  <a:gd name="textAreaBottom" fmla="*/ 1374840 h 1374840"/>
                </a:gdLst>
                <a:ahLst/>
                <a:rect l="textAreaLeft" t="textAreaTop" r="textAreaRight" b="textAreaBottom"/>
                <a:pathLst>
                  <a:path w="21600" h="24853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4853"/>
                    </a:lnTo>
                    <a:lnTo>
                      <a:pt x="0" y="24853"/>
                    </a:lnTo>
                    <a:close/>
                  </a:path>
                  <a:path fill="lightenLess" w="21600" h="24853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  <a:path fill="darken" w="21600" h="24853">
                    <a:moveTo>
                      <a:pt x="21600" y="0"/>
                    </a:moveTo>
                    <a:lnTo>
                      <a:pt x="21600" y="24853"/>
                    </a:lnTo>
                    <a:lnTo>
                      <a:pt x="21600" y="24853"/>
                    </a:lnTo>
                    <a:lnTo>
                      <a:pt x="21600" y="0"/>
                    </a:lnTo>
                    <a:close/>
                  </a:path>
                  <a:path fill="darkenLess" w="21600" h="24853">
                    <a:moveTo>
                      <a:pt x="21600" y="24853"/>
                    </a:moveTo>
                    <a:lnTo>
                      <a:pt x="0" y="24853"/>
                    </a:lnTo>
                    <a:lnTo>
                      <a:pt x="0" y="24853"/>
                    </a:lnTo>
                    <a:lnTo>
                      <a:pt x="21600" y="24853"/>
                    </a:lnTo>
                    <a:close/>
                  </a:path>
                  <a:path fill="lighten" w="21600" h="24853">
                    <a:moveTo>
                      <a:pt x="0" y="2485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48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9" name=""/>
              <p:cNvGrpSpPr/>
              <p:nvPr/>
            </p:nvGrpSpPr>
            <p:grpSpPr>
              <a:xfrm>
                <a:off x="276120" y="224280"/>
                <a:ext cx="1208160" cy="1194120"/>
                <a:chOff x="276120" y="224280"/>
                <a:chExt cx="1208160" cy="1194120"/>
              </a:xfrm>
            </p:grpSpPr>
            <p:pic>
              <p:nvPicPr>
                <p:cNvPr id="29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9040" y="224280"/>
                  <a:ext cx="795240" cy="795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1" name="PubPieSlice"/>
                <p:cNvSpPr/>
                <p:nvPr/>
              </p:nvSpPr>
              <p:spPr>
                <a:xfrm rot="614400">
                  <a:off x="327240" y="730440"/>
                  <a:ext cx="635760" cy="636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6551" y="1659"/>
                      </a:moveTo>
                      <a:arcTo wR="10800" hR="10800" stAng="-3469539" swAng="-18130461"/>
                      <a:lnTo>
                        <a:pt x="1080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5e00"/>
                    </a:gs>
                    <a:gs pos="50000">
                      <a:srgbClr val="ffcc00"/>
                    </a:gs>
                    <a:gs pos="100000">
                      <a:srgbClr val="755e00"/>
                    </a:gs>
                  </a:gsLst>
                  <a:lin ang="748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2" name=""/>
          <p:cNvGrpSpPr/>
          <p:nvPr/>
        </p:nvGrpSpPr>
        <p:grpSpPr>
          <a:xfrm>
            <a:off x="5334120" y="1447920"/>
            <a:ext cx="1599840" cy="1268280"/>
            <a:chOff x="5334120" y="1447920"/>
            <a:chExt cx="1599840" cy="1268280"/>
          </a:xfrm>
        </p:grpSpPr>
        <p:pic>
          <p:nvPicPr>
            <p:cNvPr id="293" name="" descr="Nombre de archivo: j0439466.jpg&#13;Palabras clave: correspondencias, diarios, escritos ...&#13;Tamaño de archivo: 883 KB&#13;Proporcionado por: iStockphoto.com"/>
            <p:cNvPicPr/>
            <p:nvPr/>
          </p:nvPicPr>
          <p:blipFill>
            <a:blip r:embed="rId16"/>
            <a:srcRect l="15157" t="16693" r="0" b="16693"/>
            <a:stretch/>
          </p:blipFill>
          <p:spPr>
            <a:xfrm>
              <a:off x="5403600" y="1447920"/>
              <a:ext cx="153036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 txBox="1"/>
            <p:nvPr/>
          </p:nvSpPr>
          <p:spPr>
            <a:xfrm>
              <a:off x="5960160" y="2028960"/>
              <a:ext cx="765000" cy="3549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3366ff"/>
                      </a:gs>
                      <a:gs pos="100000">
                        <a:srgbClr val="ff3399">
                          <a:alpha val="60392"/>
                        </a:srgbClr>
                      </a:gs>
                    </a:gsLst>
                    <a:lin ang="10800000"/>
                  </a:gradFill>
                  <a:latin typeface="Arial Rounded MT Bold"/>
                </a:rPr>
                <a:t>abc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>
                        <a:alpha val="60392"/>
                      </a:srgbClr>
                    </a:gs>
                  </a:gsLst>
                  <a:lin ang="10800000"/>
                </a:gradFill>
                <a:latin typeface="Arial Rounded MT Bold"/>
                <a:ea typeface="Arial Rounded MT Bold"/>
              </a:endParaRPr>
            </a:p>
          </p:txBody>
        </p:sp>
        <p:sp>
          <p:nvSpPr>
            <p:cNvPr id="295" name=""/>
            <p:cNvSpPr txBox="1"/>
            <p:nvPr/>
          </p:nvSpPr>
          <p:spPr>
            <a:xfrm>
              <a:off x="5334120" y="1770480"/>
              <a:ext cx="1182600" cy="4194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3366ff"/>
                      </a:gs>
                      <a:gs pos="100000">
                        <a:srgbClr val="ff3399"/>
                      </a:gs>
                    </a:gsLst>
                    <a:lin ang="10800000"/>
                  </a:gradFill>
                  <a:latin typeface="Arial Rounded MT Bold"/>
                </a:rPr>
                <a:t>ABC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10800000"/>
                </a:gradFill>
                <a:latin typeface="Arial Rounded MT Bold"/>
                <a:ea typeface="Arial Rounded MT Bold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410080" y="5060880"/>
            <a:ext cx="2666880" cy="1187280"/>
            <a:chOff x="5410080" y="5060880"/>
            <a:chExt cx="2666880" cy="1187280"/>
          </a:xfrm>
        </p:grpSpPr>
        <p:pic>
          <p:nvPicPr>
            <p:cNvPr id="297" name="" descr=""/>
            <p:cNvPicPr/>
            <p:nvPr/>
          </p:nvPicPr>
          <p:blipFill>
            <a:blip r:embed="rId17"/>
            <a:stretch/>
          </p:blipFill>
          <p:spPr>
            <a:xfrm>
              <a:off x="6400800" y="5060880"/>
              <a:ext cx="1676160" cy="10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" descr=""/>
            <p:cNvPicPr/>
            <p:nvPr/>
          </p:nvPicPr>
          <p:blipFill>
            <a:blip r:embed="rId18"/>
            <a:stretch/>
          </p:blipFill>
          <p:spPr>
            <a:xfrm flipH="1">
              <a:off x="5410080" y="5213160"/>
              <a:ext cx="1279440" cy="1035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9" name="" descr=""/>
          <p:cNvPicPr/>
          <p:nvPr/>
        </p:nvPicPr>
        <p:blipFill>
          <a:blip r:embed="rId19"/>
          <a:stretch/>
        </p:blipFill>
        <p:spPr>
          <a:xfrm>
            <a:off x="6477120" y="327672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300" name="">
            <a:hlinkClick r:id="" action="ppaction://hlinkshowjump?jump=nextslide"/>
          </p:cNvPr>
          <p:cNvSpPr/>
          <p:nvPr/>
        </p:nvSpPr>
        <p:spPr>
          <a:xfrm>
            <a:off x="784872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10800"/>
                </a:moveTo>
                <a:lnTo>
                  <a:pt x="26797" y="3794"/>
                </a:lnTo>
                <a:lnTo>
                  <a:pt x="26797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" action="ppaction://hlinkshowjump?jump=firstslide"/>
          </p:cNvPr>
          <p:cNvSpPr/>
          <p:nvPr/>
        </p:nvSpPr>
        <p:spPr>
          <a:xfrm>
            <a:off x="457200" y="6095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7301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5456" y="5956"/>
                </a:lnTo>
                <a:lnTo>
                  <a:pt x="5456" y="19969"/>
                </a:lnTo>
                <a:lnTo>
                  <a:pt x="3794" y="19969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7c9c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80880" y="380880"/>
            <a:ext cx="8610840" cy="6324840"/>
          </a:xfrm>
          <a:prstGeom prst="flowChartPunchedCard">
            <a:avLst/>
          </a:prstGeom>
          <a:gradFill rotWithShape="0">
            <a:gsLst>
              <a:gs pos="0">
                <a:srgbClr val="80808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920" y="304920"/>
            <a:ext cx="8610480" cy="6324480"/>
          </a:xfrm>
          <a:prstGeom prst="flowChartPunchedCard">
            <a:avLst/>
          </a:prstGeom>
          <a:gradFill rotWithShape="0">
            <a:gsLst>
              <a:gs pos="0">
                <a:srgbClr val="eaeaea"/>
              </a:gs>
              <a:gs pos="50000">
                <a:srgbClr val="fefefe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50920" y="152280"/>
            <a:ext cx="7237080" cy="1374840"/>
            <a:chOff x="250920" y="152280"/>
            <a:chExt cx="7237080" cy="1374840"/>
          </a:xfrm>
        </p:grpSpPr>
        <p:grpSp>
          <p:nvGrpSpPr>
            <p:cNvPr id="306" name=""/>
            <p:cNvGrpSpPr/>
            <p:nvPr/>
          </p:nvGrpSpPr>
          <p:grpSpPr>
            <a:xfrm>
              <a:off x="1263960" y="297000"/>
              <a:ext cx="6224040" cy="723240"/>
              <a:chOff x="1263960" y="297000"/>
              <a:chExt cx="6224040" cy="723240"/>
            </a:xfrm>
          </p:grpSpPr>
          <p:sp>
            <p:nvSpPr>
              <p:cNvPr id="307" name=""/>
              <p:cNvSpPr/>
              <p:nvPr/>
            </p:nvSpPr>
            <p:spPr>
              <a:xfrm>
                <a:off x="1263960" y="297000"/>
                <a:ext cx="6224040" cy="7232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efefe"/>
                  </a:gs>
                  <a:gs pos="100000">
                    <a:srgbClr val="808080"/>
                  </a:gs>
                </a:gsLst>
                <a:lin ang="81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335960" y="369360"/>
                <a:ext cx="6079320" cy="57816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 txBox="1"/>
              <p:nvPr/>
            </p:nvSpPr>
            <p:spPr>
              <a:xfrm>
                <a:off x="1553040" y="513720"/>
                <a:ext cx="5717520" cy="28908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336699"/>
                    </a:solidFill>
                    <a:effectLst>
                      <a:outerShdw dist="17819" dir="2700000" blurRad="0" rotWithShape="0">
                        <a:srgbClr val="001f1e"/>
                      </a:outerShdw>
                    </a:effectLst>
                    <a:latin typeface="Times New Roman"/>
                  </a:rPr>
                  <a:t>8 C. CLAVE EN EL APRENDIZAJE</a:t>
                </a:r>
                <a:endPara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17819" dir="2700000" blurRad="0" rotWithShape="0">
                      <a:srgbClr val="001f1e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250920" y="152280"/>
              <a:ext cx="1195560" cy="1374840"/>
              <a:chOff x="250920" y="152280"/>
              <a:chExt cx="1195560" cy="1374840"/>
            </a:xfrm>
          </p:grpSpPr>
          <p:sp>
            <p:nvSpPr>
              <p:cNvPr id="311" name="">
                <a:hlinkClick r:id="rId1" action="ppaction://hlinksldjump"/>
              </p:cNvPr>
              <p:cNvSpPr/>
              <p:nvPr/>
            </p:nvSpPr>
            <p:spPr>
              <a:xfrm>
                <a:off x="250920" y="152280"/>
                <a:ext cx="1195560" cy="1374840"/>
              </a:xfrm>
              <a:custGeom>
                <a:avLst/>
                <a:gdLst>
                  <a:gd name="textAreaLeft" fmla="*/ 0 w 1195560"/>
                  <a:gd name="textAreaRight" fmla="*/ 1195920 w 1195560"/>
                  <a:gd name="textAreaTop" fmla="*/ 0 h 1374840"/>
                  <a:gd name="textAreaBottom" fmla="*/ 1375200 h 1374840"/>
                </a:gdLst>
                <a:ahLst/>
                <a:rect l="textAreaLeft" t="textAreaTop" r="textAreaRight" b="textAreaBottom"/>
                <a:pathLst>
                  <a:path w="21600" h="24838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4838"/>
                    </a:lnTo>
                    <a:lnTo>
                      <a:pt x="0" y="24838"/>
                    </a:lnTo>
                    <a:close/>
                  </a:path>
                  <a:path fill="lightenLess" w="21600" h="24838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  <a:path fill="darken" w="21600" h="24838">
                    <a:moveTo>
                      <a:pt x="21600" y="0"/>
                    </a:moveTo>
                    <a:lnTo>
                      <a:pt x="21600" y="24838"/>
                    </a:lnTo>
                    <a:lnTo>
                      <a:pt x="21600" y="24838"/>
                    </a:lnTo>
                    <a:lnTo>
                      <a:pt x="21600" y="0"/>
                    </a:lnTo>
                    <a:close/>
                  </a:path>
                  <a:path fill="darkenLess" w="21600" h="24838">
                    <a:moveTo>
                      <a:pt x="21600" y="24838"/>
                    </a:moveTo>
                    <a:lnTo>
                      <a:pt x="0" y="24838"/>
                    </a:lnTo>
                    <a:lnTo>
                      <a:pt x="0" y="24838"/>
                    </a:lnTo>
                    <a:lnTo>
                      <a:pt x="21600" y="24838"/>
                    </a:lnTo>
                    <a:close/>
                  </a:path>
                  <a:path fill="lighten" w="21600" h="24838">
                    <a:moveTo>
                      <a:pt x="0" y="2483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48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dcdcdc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12" name="" descr="Nombre de archivo: j0335776.wmf&#13;Palabras clave: artículo del hogar, llaves, llaves de casa ...&#13;Tamaño de archivo: 65 KB"/>
              <p:cNvPicPr/>
              <p:nvPr/>
            </p:nvPicPr>
            <p:blipFill>
              <a:blip r:embed="rId2"/>
              <a:stretch/>
            </p:blipFill>
            <p:spPr>
              <a:xfrm rot="6326400">
                <a:off x="395640" y="369360"/>
                <a:ext cx="868320" cy="868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3710160" y="3711600"/>
            <a:ext cx="1008000" cy="8874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4"/>
          <a:stretch/>
        </p:blipFill>
        <p:spPr>
          <a:xfrm>
            <a:off x="3710160" y="1589040"/>
            <a:ext cx="1014120" cy="96516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5"/>
          <a:stretch/>
        </p:blipFill>
        <p:spPr>
          <a:xfrm>
            <a:off x="3778200" y="4738680"/>
            <a:ext cx="936720" cy="9000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6"/>
          <a:stretch/>
        </p:blipFill>
        <p:spPr>
          <a:xfrm>
            <a:off x="7704000" y="3759120"/>
            <a:ext cx="978120" cy="93528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7"/>
          <a:stretch/>
        </p:blipFill>
        <p:spPr>
          <a:xfrm>
            <a:off x="7843680" y="2712960"/>
            <a:ext cx="885960" cy="892080"/>
          </a:xfrm>
          <a:prstGeom prst="rect">
            <a:avLst/>
          </a:prstGeom>
          <a:ln w="0">
            <a:noFill/>
          </a:ln>
        </p:spPr>
      </p:pic>
      <p:grpSp>
        <p:nvGrpSpPr>
          <p:cNvPr id="318" name=""/>
          <p:cNvGrpSpPr/>
          <p:nvPr/>
        </p:nvGrpSpPr>
        <p:grpSpPr>
          <a:xfrm>
            <a:off x="7683120" y="1613160"/>
            <a:ext cx="1292760" cy="1277640"/>
            <a:chOff x="7683120" y="1613160"/>
            <a:chExt cx="1292760" cy="1277640"/>
          </a:xfrm>
        </p:grpSpPr>
        <p:pic>
          <p:nvPicPr>
            <p:cNvPr id="319" name="" descr=""/>
            <p:cNvPicPr/>
            <p:nvPr/>
          </p:nvPicPr>
          <p:blipFill>
            <a:blip r:embed="rId8"/>
            <a:stretch/>
          </p:blipFill>
          <p:spPr>
            <a:xfrm rot="1879800">
              <a:off x="7848360" y="1800360"/>
              <a:ext cx="961920" cy="90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 rot="1874400">
              <a:off x="7867080" y="1722600"/>
              <a:ext cx="672840" cy="89352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ffffff"/>
                </a:gs>
              </a:gsLst>
              <a:lin ang="892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1" name="" descr=""/>
          <p:cNvPicPr/>
          <p:nvPr/>
        </p:nvPicPr>
        <p:blipFill>
          <a:blip r:embed="rId9">
            <a:lum bright="6000"/>
          </a:blip>
          <a:stretch/>
        </p:blipFill>
        <p:spPr>
          <a:xfrm>
            <a:off x="7615080" y="4618080"/>
            <a:ext cx="1224000" cy="11732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0" y="1600200"/>
            <a:ext cx="449568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Competencia en comunicación lingüís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Capacidad de utilizar correctamente el lenguaje tanto en 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comunicación oral como escrita, y asimismo sa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interpretarlo y comprenderlo en los diferentes contexto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En el caso de las lenguas extranjeras, significa po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comunicarse en al menos alguna de ellas, de modo eficaz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Competencia matemá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Habilidad para utilizar y relacionar números, su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operaciones básicas y el razonamiento matemático p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interpretar la  información, ampliar conocimientos y resol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as tanto de la vida cotidiana como del mun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labora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Competencia en el conocimiento e interacción con 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mundo físi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Habilidad para desenvolverse de forma autónoma e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distintos ámbitos, de modo que se sepa analizar y obten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conclusiones personal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Competencia en el tratamiento de la información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competencia digi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Capacidad para buscar, obtener, procesar y comunic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información y trasformarla en conocimiento y transmitirla 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diferentes soportes, así como hacer uso de los recur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tecnológicos para resolver problemas reales de mod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eficient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447920"/>
            <a:ext cx="3886200" cy="43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encial social y ciudada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prender a conocerse y valorarse, saber comunicarse 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ferentes  contextos, expresar las ideas propias 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scuchar las ajenas, comprendiendo los difer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untos de vista y valorando tanto los intere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dividuales como los de un grupo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encia cultural y artís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apacidad de conocer, comprender, apreciar y valor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ríticamente las distintas manifestaciones culturales 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rtísticas, así como saber emplear algunos recursos de 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xpresión artística para realizar creaciones propia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encia para aprender a apre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abilidad de continuar aprendiendo de manera eficaz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utónoma una vez finalizada la etapa escolar y a lo lar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 la vida. Conciencia y control de las prop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apacidades y conocimiento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encia en autonomía e iniciativa perso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sponsabilidad, autoestima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reatividad... Habilida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ra una visión estratégica de los retos y oportunidades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s que se tiene que enfrentar a lo largo de su vida y 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acilitan la toma de decision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0"/>
          <a:srcRect l="42866" t="0" r="0" b="32993"/>
          <a:stretch/>
        </p:blipFill>
        <p:spPr>
          <a:xfrm>
            <a:off x="3973680" y="2743200"/>
            <a:ext cx="903240" cy="853920"/>
          </a:xfrm>
          <a:prstGeom prst="rect">
            <a:avLst/>
          </a:prstGeom>
          <a:ln w="0">
            <a:noFill/>
          </a:ln>
        </p:spPr>
      </p:pic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784872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914400" y="609588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10800"/>
                </a:moveTo>
                <a:lnTo>
                  <a:pt x="26797" y="3794"/>
                </a:lnTo>
                <a:lnTo>
                  <a:pt x="26797" y="1780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>
            <a:hlinkClick r:id="" action="ppaction://hlinkshowjump?jump=firstslide"/>
          </p:cNvPr>
          <p:cNvSpPr/>
          <p:nvPr/>
        </p:nvSpPr>
        <p:spPr>
          <a:xfrm>
            <a:off x="457200" y="6095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7301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5456" y="5956"/>
                </a:lnTo>
                <a:lnTo>
                  <a:pt x="5456" y="19969"/>
                </a:lnTo>
                <a:lnTo>
                  <a:pt x="3794" y="19969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cbdfe9"/>
              </a:gs>
              <a:gs pos="100000">
                <a:srgbClr val="0066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22:25:20Z</dcterms:created>
  <dc:creator>usuario</dc:creator>
  <dc:description/>
  <dc:language>en-US</dc:language>
  <cp:lastModifiedBy>usuario</cp:lastModifiedBy>
  <dcterms:modified xsi:type="dcterms:W3CDTF">2009-11-23T18:47:21Z</dcterms:modified>
  <cp:revision>2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